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1084-7B64-43F9-8FEE-873ED3317A8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59D4-EB5C-4BDE-A3FB-48FBA4BEB44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2CE4-8285-4CFF-904B-E4C52B1D0C9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E50-7D3F-4D8D-8058-09BB9CCA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A7E-55FB-4BE2-8A5F-B6D0B079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D724-F490-4B51-AE5E-AFD40E5F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8C7-D89B-40E3-9621-EA4A833D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FB3-DCC3-4D20-AB81-2248BC04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24E-4EDE-439F-A32E-D17F54E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893-BE4F-4E49-A2F9-CFDD043B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FCE-DF64-4412-AB18-1325DA0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F22-249F-4B51-9CA3-07EF456E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BE2-3B77-4EC0-97C3-3CE59564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CF4-1D63-4628-A837-8A7BC5F0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ED4-86E8-4575-AF60-108781C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1661-A99E-4CE9-BA9F-E36C1C8222C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F4A7-AFE6-4ECD-AD6F-AE8E064B83A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C98C-5576-406A-89E0-3ED31BE6205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8210-F10D-446C-8B2E-C645704BB2C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llow me for a walk through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athematical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7198-8F75-4C1F-8F58-BCAD31C04EB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A28-DC51-44AE-A79F-1C570DBE336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other proof technique that is very similar to the principle of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econd 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 be used to prove that a propositional function P(n) is true for any natural number 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E4F8-607A-4493-B4BA-E6F2C9E3E2E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2C9-83D5-48E6-9621-FDB4E17F425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cond principle of mathematical induc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0) and P(1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A207-7D9E-498F-844C-66F5FA39FD1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8E02-179D-4030-A1C5-C0DE8C6FAA3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Show that every integer greater than 1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2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is the product of one prime: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EFD-26A2-4925-93B7-D35723E2050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4F99-BCBD-4F09-B569-73987562CE0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2) and P(3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possible cas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n obviously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osi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can be written as the product of two integers a and b such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&lt; n +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on hypothes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oth a and 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n + 1 =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DC6C-DB75-4EA1-A0B7-E3314296146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4E5B-E6D9-40B3-9FC0-E40ECD4043F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very integer greater than 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A475-E725-48E8-AE2D-4C1E196FF37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9054-5269-467A-BF22-20375984B5D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useful tool for proving that a certain predicate is true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ll 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not be used to discover theorems, but only to prove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480C-0F1D-4E05-89F7-AE41AF038E8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1945-2ACE-4B6F-A269-2D023F741FF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positional function P(n), and we want to prove that P(n) is true for any natural number n, we do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47FE-B5FD-45AB-981C-9E848B731E8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EA4-B074-4E2A-A913-95BD42DED04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how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all positive integer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proposition “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.  Show that P(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1) is true, because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169E-D280-4688-9292-49B1BEE0EC6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5D82-C8F6-4B70-9FA2-61CD457FD21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.  Show that if P(n) is true, then P(n + 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to show that P(n + 1) is true, i.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tart from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n 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495-C243-4DB4-AFD0-91A794FD158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9082-4D53-4121-AEC0-8B46AA95C76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positive integer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 for any positive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A4B-53AA-4500-AB47-FAB33331BBA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D929-1AB6-4C08-82DE-2D3C2104AB1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 (“Gauss”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spcBef>
                <a:spcPts val="1576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 we get 0 = 0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3C91-0AE8-40E4-A0AB-EBF9DB45049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52F-71CB-4476-A04B-BE19120190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n (n + 1)/2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 (n + 1)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 + 3n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n + 1) (n + 2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EC5B-B5AD-4CE6-9694-1067840EA6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FAA8-7731-4CD4-9A5A-0AA03595209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 is true for all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.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9:50Z</dcterms:modified>
  <cp:revision>106</cp:revision>
  <dc:subject/>
  <dc:title>PowerPoint Presentation</dc:title>
</cp:coreProperties>
</file>