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F13-184F-4528-B953-C8577993061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FDD8-6ACD-401B-896C-6838E92EAAC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B24-6A47-43ED-AD9E-CC12308033B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132-273E-4936-96C0-0E717180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BFE-0E55-4AD6-84AE-2B16E18C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1F9-9A6A-4E88-AF7A-57B37D0A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AB9-8F2D-479E-A011-C1EAAC77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5CF-06B3-4FFE-AC76-F842D8A9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0CE-0F9F-45BB-B084-6BE3E1DC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F61-7BA5-43EA-8EE9-7FF6AD9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423-A50A-45D5-AB29-9529605A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15F-CBC0-45A6-BFD2-641FBA0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FB2-DCFF-4CAA-8C23-B1778CE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4AC-3B6B-4C15-9206-7D787D3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182-309F-4393-A707-0F1E6A2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68D-16E1-4219-BD91-F83F405C9F2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7775-AB7F-4693-84B8-41366E844F1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5102-B24A-40B2-8400-03497866918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AFE-58C5-4F94-AFA1-1937E6F284B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llow me for a walk through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athematical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EF8-8FEB-42C8-B5BB-BCB253A36EC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63D9-7DFC-4188-815A-A432AEFE07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other proof technique that is very similar to the principle of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econd 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 be used to prove that a propositional function P(n) is true for any natural number 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C486-956A-4E04-B336-80695180BEA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340-7B28-40E2-BABB-A760758A45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cond principle of mathematical indu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0) and P(1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BBA-D15E-4B7D-B8D8-D9B64BC3D96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9ADF-5C23-4096-9D11-9D6EA7C863C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Show that every integer greater than 1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2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is the product of one prime: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1647-B5CA-45AC-89D9-B5F7602B56F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66F8-7B79-44F5-8B97-7571156683B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2) and P(3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possible cas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n obviously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can be written as the product of two integers a and b such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&lt; n +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on hypothes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oth a and 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n + 1 =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5CD-435C-429C-8EAE-50D724953E7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A3C-6D32-4A77-AFFA-E24933B09C0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very integer greater than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04F2-9AFE-440F-B4C1-17F72D16D94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4BAC-7063-4827-BE8C-7E4B56A183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useful tool for proving that a certain predicate is true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ll 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not be used to discover theorems, but only to prove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CD5-57D0-4954-A1B1-145BDAC4A5C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4B8B-3A16-447E-A6C4-1C494112461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positional function P(n), and we want to prove that P(n) is true for any natural number n, we do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BF34-3012-47C9-AEA1-4EDABDB475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C497-9F0C-48E5-9544-C8D24D73B7B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how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all positive integer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proposition “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.  Show that P(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1) is true, because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5A0-FCC1-4F0F-9414-2FC41CE1B24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897-FFB0-4C80-BD0F-FFBA8AB1D8D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.  Show that if P(n) is true, then P(n + 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to show that P(n + 1) is true, i.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tart from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n 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6024-CC4E-4941-8589-BD6AC485C7C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421-2ECD-4471-8758-98E3283A2D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positive integer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 for any positive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BC1-0DA8-4DF0-8872-51448BA364E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4E3-0426-47D6-A94D-ADDF708BA2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 (“Gauss”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spcBef>
                <a:spcPts val="1576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 we get 0 = 0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91B-8761-4AEF-BC01-3E2BF6A0A7B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EE4-A3CD-4900-9C6F-848EA20AC9E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n (n + 1)/2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 (n + 1)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 + 3n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n + 1) (n + 2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7F2-7205-4D8A-BDE3-8A24AAF0F4E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6844-8F45-42BD-AE73-2F9AFE7271C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 is true for all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9:50Z</dcterms:modified>
  <cp:revision>106</cp:revision>
  <dc:subject/>
  <dc:title>PowerPoint Presentation</dc:title>
</cp:coreProperties>
</file>