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4B7-788B-4273-99CF-5968AF6E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9E8-9308-4F1E-8EC7-C92B3E75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500-BFD4-493A-8AC8-161FB96E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78A-0C08-49BF-AA2A-D1459E82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9F5-E64A-46EB-9706-E72CCDAC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CAF-0253-4FFC-9A4C-139FDD49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E0E-612B-4F61-ADD8-1E4BB7DE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BE8-0B9F-4202-BB8B-3984ACC8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953-6487-49DA-AC7D-F606F8DC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A97-2EB3-47F8-B61D-12CD8952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F94-33DD-42C8-B5DA-B412C8A3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3D3-5A01-4A53-9724-5A81D020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87C7-E949-4625-89ED-9020046030D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 Questions (W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o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 Sara teaches me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ammar1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Miss Sara teach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ant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some mo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w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for questions about pl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صورة 3" descr="schooool.jpg"/>
          <p:cNvPicPr/>
          <p:nvPr/>
        </p:nvPicPr>
        <p:blipFill>
          <a:blip r:embed="rId1"/>
          <a:stretch/>
        </p:blipFill>
        <p:spPr>
          <a:xfrm>
            <a:off x="1928880" y="2857680"/>
            <a:ext cx="2800440" cy="2428560"/>
          </a:xfrm>
          <a:prstGeom prst="rect">
            <a:avLst/>
          </a:prstGeom>
          <a:ln w="0">
            <a:noFill/>
          </a:ln>
        </p:spPr>
      </p:pic>
      <p:pic>
        <p:nvPicPr>
          <p:cNvPr id="67" name="صورة 4" descr="imageshh.jpg"/>
          <p:cNvPicPr/>
          <p:nvPr/>
        </p:nvPicPr>
        <p:blipFill>
          <a:blip r:embed="rId2"/>
          <a:stretch/>
        </p:blipFill>
        <p:spPr>
          <a:xfrm>
            <a:off x="4857840" y="3071880"/>
            <a:ext cx="33400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classes are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in building 1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re your clas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nd Paul go to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Ann and Paul go everyday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her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grandmother’s hou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she go dail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s for questions about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صورة 5" descr="imagesff.jpg"/>
          <p:cNvPicPr/>
          <p:nvPr/>
        </p:nvPicPr>
        <p:blipFill>
          <a:blip r:embed="rId1"/>
          <a:stretch/>
        </p:blipFill>
        <p:spPr>
          <a:xfrm>
            <a:off x="3071880" y="3500280"/>
            <a:ext cx="25527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nal exa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final exa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ura’s class begins in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five minut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Noura’s class begi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ork 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on Mondays and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 you wor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for questions about rea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صورة 3" descr="Question Mark man sitting on it.jpg"/>
          <p:cNvPicPr/>
          <p:nvPr/>
        </p:nvPicPr>
        <p:blipFill>
          <a:blip r:embed="rId1"/>
          <a:stretch/>
        </p:blipFill>
        <p:spPr>
          <a:xfrm>
            <a:off x="3786120" y="2714760"/>
            <a:ext cx="2691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in building 19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she has a cl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she in building 1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n’t home </a:t>
            </a:r>
            <a:r>
              <a:rPr b="0" lang="en-US" sz="3200" spc="-1" strike="noStrike">
                <a:solidFill>
                  <a:srgbClr val="b3a2c7"/>
                </a:solidFill>
                <a:latin typeface="Calibri"/>
              </a:rPr>
              <a:t>because they are on va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n’t they hom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x comes home so late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because he has a job after sch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Alex come home so lat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/No Questio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my advis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he your advis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he is. No, he isn’t.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goes to school every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she go to school every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she does/No, she does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degree of someth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grammar exa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is very easy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your grammar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state or cond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fin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be for a way or a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go to school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by bus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go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’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ung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y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sn’t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requency adverb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go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ul doesn’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rare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eb4e3"/>
                </a:solidFill>
                <a:latin typeface="Calibri"/>
              </a:rPr>
              <a:t>s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ge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verb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questions, frequency adverbs come after the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ft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ic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at pizz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ever in ques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the teacher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 exam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b3d7"/>
                </a:solidFill>
                <a:latin typeface="Calibri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frequency ad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quency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requency phrases usually follows the verb phr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He teache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three times a we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e have a test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every mon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 go to Paris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nce a year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Verb phrase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-&gt; frequency phrase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o is for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images PEOPLE.jpg"/>
          <p:cNvPicPr/>
          <p:nvPr/>
        </p:nvPicPr>
        <p:blipFill>
          <a:blip r:embed="rId1"/>
          <a:stretch/>
        </p:blipFill>
        <p:spPr>
          <a:xfrm>
            <a:off x="2357280" y="2357280"/>
            <a:ext cx="3689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ada and Sara are my teac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your teac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med is her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her bro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Who can be the subject of a questio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ask to find out about the subject. In this case, the question word comes before the verb without the use of the auxiliary verb =( do, do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ara and nou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my bro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help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r brother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iss Sa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s me grammar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teache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you grammar1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Who comes before a singular verb = (verb + 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/wh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Who/whom can be the object of a verb. In this case, we use an auxiliary verb (do, do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ove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my br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do you lov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 asks h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eache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m/who does ann as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in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peech, but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wh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f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on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or th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صورة 3" descr="books2.jpg"/>
          <p:cNvPicPr/>
          <p:nvPr/>
        </p:nvPicPr>
        <p:blipFill>
          <a:blip r:embed="rId1"/>
          <a:stretch/>
        </p:blipFill>
        <p:spPr>
          <a:xfrm>
            <a:off x="5715000" y="257184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7" name="صورة 4" descr="table.jpg"/>
          <p:cNvPicPr/>
          <p:nvPr/>
        </p:nvPicPr>
        <p:blipFill>
          <a:blip r:embed="rId2"/>
          <a:stretch/>
        </p:blipFill>
        <p:spPr>
          <a:xfrm>
            <a:off x="2214720" y="2357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b to b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p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your b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be the subject of a ques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Books and mov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nterest</a:t>
            </a:r>
            <a:r>
              <a:rPr b="0" lang="en-US" sz="3200" spc="-1" strike="noStrike">
                <a:solidFill>
                  <a:srgbClr val="9bbb59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The ip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s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ul hap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6:00:19Z</dcterms:created>
  <dc:creator>Sara aldawood</dc:creator>
  <dc:description/>
  <dc:language>en-US</dc:language>
  <cp:lastModifiedBy>sony</cp:lastModifiedBy>
  <dcterms:modified xsi:type="dcterms:W3CDTF">2012-02-17T14:24:08Z</dcterms:modified>
  <cp:revision>12</cp:revision>
  <dc:subject/>
  <dc:title>Information Questions (WH)</dc:title>
</cp:coreProperties>
</file>