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10C6-0DB6-4029-9298-1D8D4F9C4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711A-CA51-4F1F-92DC-B3AD8FBC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1E45-E9C0-4F54-A935-97E3752BE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863C-4F68-4711-BB81-443245B74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B040-14A6-46BC-932C-B402E049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2525-9496-41B3-9C93-3ED26857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9CA1-A00C-4A14-8579-BDBDD016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341C-7205-42E2-8772-627EF304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89A0-B37C-4BFE-96BF-C8B86C4F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A150-6B02-412C-9C9A-8FEBA5E6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0DAB-EE25-417F-8D40-B971EC76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8F16-ECB4-4D2A-8CA3-F3A2B836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5E8F-C088-4BEA-AB4A-566C7430083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ormation Questions (WH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an be the object of a ques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ss Sara teaches me </a:t>
            </a: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Grammar1</a:t>
            </a: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Miss Sara teach yo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ant </a:t>
            </a: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some mone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 you wa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is for questions about plac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صورة 3" descr="schooool.jpg"/>
          <p:cNvPicPr/>
          <p:nvPr/>
        </p:nvPicPr>
        <p:blipFill>
          <a:blip r:embed="rId1"/>
          <a:stretch/>
        </p:blipFill>
        <p:spPr>
          <a:xfrm>
            <a:off x="1928880" y="2857680"/>
            <a:ext cx="2800440" cy="2428560"/>
          </a:xfrm>
          <a:prstGeom prst="rect">
            <a:avLst/>
          </a:prstGeom>
          <a:ln w="0">
            <a:noFill/>
          </a:ln>
        </p:spPr>
      </p:pic>
      <p:pic>
        <p:nvPicPr>
          <p:cNvPr id="67" name="صورة 4" descr="imageshh.jpg"/>
          <p:cNvPicPr/>
          <p:nvPr/>
        </p:nvPicPr>
        <p:blipFill>
          <a:blip r:embed="rId2"/>
          <a:stretch/>
        </p:blipFill>
        <p:spPr>
          <a:xfrm>
            <a:off x="4857840" y="3071880"/>
            <a:ext cx="33400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classes are </a:t>
            </a:r>
            <a:r>
              <a:rPr b="0" lang="en-US" sz="3200" spc="-1" strike="noStrike">
                <a:solidFill>
                  <a:srgbClr val="953735"/>
                </a:solidFill>
                <a:latin typeface="Calibri"/>
              </a:rPr>
              <a:t>in building 19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are your clas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 and Paul go to </a:t>
            </a:r>
            <a:r>
              <a:rPr b="0" lang="en-US" sz="3200" spc="-1" strike="noStrike">
                <a:solidFill>
                  <a:srgbClr val="953735"/>
                </a:solidFill>
                <a:latin typeface="Calibri"/>
              </a:rPr>
              <a:t>schoo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veryda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do Ann and Paul go everyday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goes to her </a:t>
            </a:r>
            <a:r>
              <a:rPr b="0" lang="en-US" sz="3200" spc="-1" strike="noStrike">
                <a:solidFill>
                  <a:srgbClr val="953735"/>
                </a:solidFill>
                <a:latin typeface="Calibri"/>
              </a:rPr>
              <a:t>grandmother’s hou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il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does she go daily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is for questions about tim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صورة 5" descr="imagesff.jpg"/>
          <p:cNvPicPr/>
          <p:nvPr/>
        </p:nvPicPr>
        <p:blipFill>
          <a:blip r:embed="rId1"/>
          <a:stretch/>
        </p:blipFill>
        <p:spPr>
          <a:xfrm>
            <a:off x="3071880" y="3500280"/>
            <a:ext cx="255276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nal exam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953735"/>
                </a:solidFill>
                <a:latin typeface="Calibri"/>
              </a:rPr>
              <a:t>next wee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final exam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ura’s class begins in </a:t>
            </a: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five minut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does Noura’s class begi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ork </a:t>
            </a: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on Mondays and Frid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do you work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is for questions about reaso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صورة 3" descr="Question Mark man sitting on it.jpg"/>
          <p:cNvPicPr/>
          <p:nvPr/>
        </p:nvPicPr>
        <p:blipFill>
          <a:blip r:embed="rId1"/>
          <a:stretch/>
        </p:blipFill>
        <p:spPr>
          <a:xfrm>
            <a:off x="3786120" y="2714760"/>
            <a:ext cx="2691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is in building 19 </a:t>
            </a:r>
            <a:r>
              <a:rPr b="0" lang="en-US" sz="3200" spc="-1" strike="noStrike">
                <a:solidFill>
                  <a:srgbClr val="b3a2c7"/>
                </a:solidFill>
                <a:latin typeface="Calibri"/>
              </a:rPr>
              <a:t>because she has a clas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is she in building 19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ren’t home </a:t>
            </a:r>
            <a:r>
              <a:rPr b="0" lang="en-US" sz="3200" spc="-1" strike="noStrike">
                <a:solidFill>
                  <a:srgbClr val="b3a2c7"/>
                </a:solidFill>
                <a:latin typeface="Calibri"/>
              </a:rPr>
              <a:t>because they are on vac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aren’t they hom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ex comes home so late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because he has a job after schoo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Alex come home so lat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es/No Question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is my advis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he your adviso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he is. No, he isn’t.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goes to school everyda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she go to school everyd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she does/No, she doesn’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be for a degree of someth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grammar exam </a:t>
            </a: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is very easy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is your grammar exa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be for a state or condi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’m </a:t>
            </a: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fine</a:t>
            </a: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are yo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be for a way or a metho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go to school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by bus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you go to schoo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quency Adverb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</a:t>
            </a: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a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</a:t>
            </a: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’s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oft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ungr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ny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is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nev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a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m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isn’t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e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Verb to b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frequency adverb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quency Adverb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go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schoo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ul doesn’t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oft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re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rare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si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geth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Frequency adverb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questions, frequency adverbs come after the subjec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</a:t>
            </a: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ofte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mesic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</a:t>
            </a: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the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at pizz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use ever in questio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</a:t>
            </a: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the teacher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ev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ive exam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Subjec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frequency adver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quency Phr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requency phrases usually follows the verb phra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He teaches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three times a wee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We have a test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every mon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I go to Paris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once a year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Verb phrase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-&gt; frequency phrase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Who is for peop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صورة 3" descr="images PEOPLE.jpg"/>
          <p:cNvPicPr/>
          <p:nvPr/>
        </p:nvPicPr>
        <p:blipFill>
          <a:blip r:embed="rId1"/>
          <a:stretch/>
        </p:blipFill>
        <p:spPr>
          <a:xfrm>
            <a:off x="2357280" y="2357280"/>
            <a:ext cx="368964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hada and Sara are my teache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are your teach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hmed is her broth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is her brothe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. Who can be the subject of a question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ask to find out about the subject. In this case, the question word comes before the verb without the use of the auxiliary verb =( do, doe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Sara and noura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lp my brothe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 help</a:t>
            </a:r>
            <a:r>
              <a:rPr b="0" lang="en-US" sz="3000" spc="-1" strike="noStrike">
                <a:solidFill>
                  <a:srgbClr val="00b050"/>
                </a:solidFill>
                <a:latin typeface="Calibri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your brother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Miss Sara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aches me grammar1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 teache</a:t>
            </a:r>
            <a:r>
              <a:rPr b="0" lang="en-US" sz="3000" spc="-1" strike="noStrike">
                <a:solidFill>
                  <a:srgbClr val="00b050"/>
                </a:solidFill>
                <a:latin typeface="Calibri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you grammar1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. Who comes before a singular verb = (verb + s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/wh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- Who/whom can be the object of a verb. In this case, we use an auxiliary verb (do, do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love </a:t>
            </a:r>
            <a:r>
              <a:rPr b="0" lang="en-US" sz="3200" spc="-1" strike="noStrike" u="sng">
                <a:solidFill>
                  <a:srgbClr val="c0504d"/>
                </a:solidFill>
                <a:uFillTx/>
                <a:latin typeface="Calibri"/>
              </a:rPr>
              <a:t>my broth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do you lov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 asks her </a:t>
            </a:r>
            <a:r>
              <a:rPr b="0" lang="en-US" sz="3200" spc="-1" strike="noStrike" u="sng">
                <a:solidFill>
                  <a:srgbClr val="c0504d"/>
                </a:solidFill>
                <a:uFillTx/>
                <a:latin typeface="Calibri"/>
              </a:rPr>
              <a:t>teacher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m/who does ann ask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-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wh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for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inform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peech, but </a:t>
            </a:r>
            <a:r>
              <a:rPr b="0" lang="en-US" sz="3200" spc="-1" strike="noStrike">
                <a:solidFill>
                  <a:srgbClr val="9bbb59"/>
                </a:solidFill>
                <a:latin typeface="Calibri"/>
              </a:rPr>
              <a:t>who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for </a:t>
            </a:r>
            <a:r>
              <a:rPr b="0" lang="en-US" sz="3200" spc="-1" strike="noStrike">
                <a:solidFill>
                  <a:srgbClr val="9bbb59"/>
                </a:solidFill>
                <a:latin typeface="Calibri"/>
              </a:rPr>
              <a:t>form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questions onl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for thing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صورة 3" descr="books2.jpg"/>
          <p:cNvPicPr/>
          <p:nvPr/>
        </p:nvPicPr>
        <p:blipFill>
          <a:blip r:embed="rId1"/>
          <a:stretch/>
        </p:blipFill>
        <p:spPr>
          <a:xfrm>
            <a:off x="5715000" y="2571840"/>
            <a:ext cx="1857240" cy="2500200"/>
          </a:xfrm>
          <a:prstGeom prst="rect">
            <a:avLst/>
          </a:prstGeom>
          <a:ln w="0">
            <a:noFill/>
          </a:ln>
        </p:spPr>
      </p:pic>
      <p:pic>
        <p:nvPicPr>
          <p:cNvPr id="57" name="صورة 4" descr="table.jpg"/>
          <p:cNvPicPr/>
          <p:nvPr/>
        </p:nvPicPr>
        <p:blipFill>
          <a:blip r:embed="rId2"/>
          <a:stretch/>
        </p:blipFill>
        <p:spPr>
          <a:xfrm>
            <a:off x="2214720" y="235728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pe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my ba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your ba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an be the subject of a ques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504d"/>
                </a:solidFill>
                <a:uFillTx/>
                <a:latin typeface="Calibri"/>
              </a:rPr>
              <a:t>Books and movi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est m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nterest</a:t>
            </a:r>
            <a:r>
              <a:rPr b="0" lang="en-US" sz="3200" spc="-1" strike="noStrike">
                <a:solidFill>
                  <a:srgbClr val="9bbb59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yo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504d"/>
                </a:solidFill>
                <a:uFillTx/>
                <a:latin typeface="Calibri"/>
              </a:rPr>
              <a:t>The ipa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s Paul happ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make</a:t>
            </a: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aul happ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6:00:19Z</dcterms:created>
  <dc:creator>Sara aldawood</dc:creator>
  <dc:description/>
  <dc:language>en-US</dc:language>
  <cp:lastModifiedBy>sony</cp:lastModifiedBy>
  <dcterms:modified xsi:type="dcterms:W3CDTF">2012-02-17T14:24:08Z</dcterms:modified>
  <cp:revision>12</cp:revision>
  <dc:subject/>
  <dc:title>Information Questions (WH)</dc:title>
</cp:coreProperties>
</file>