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1E4-E7A1-4B87-BB38-78C4ECA0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528-E839-4852-A456-3DC3403F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D20-BECC-405F-AD6B-A0C6732A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8D7-026B-4C41-A829-969C09F7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B53-F404-43E4-87DC-C1803ECE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A20-F7AA-48DF-9DEF-DAAD2910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F1C-A7D4-448D-8097-09EBE745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F90-51EE-455D-99A2-4733F412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383-B935-4A5F-9D31-653B3918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CD3-1B90-47A4-B4D5-1AE61169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228-11D7-485B-8D14-957CE3E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BE3-A405-4EE5-B3B5-CC02641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A621-32D2-44EA-AA35-A6591D1E874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 (W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o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 Sara teaches me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ammar1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iss Sara teach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some mo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w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for questions about pl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صورة 3" descr="schooool.jpg"/>
          <p:cNvPicPr/>
          <p:nvPr/>
        </p:nvPicPr>
        <p:blipFill>
          <a:blip r:embed="rId1"/>
          <a:stretch/>
        </p:blipFill>
        <p:spPr>
          <a:xfrm>
            <a:off x="1928880" y="2857680"/>
            <a:ext cx="2800440" cy="2428560"/>
          </a:xfrm>
          <a:prstGeom prst="rect">
            <a:avLst/>
          </a:prstGeom>
          <a:ln w="0">
            <a:noFill/>
          </a:ln>
        </p:spPr>
      </p:pic>
      <p:pic>
        <p:nvPicPr>
          <p:cNvPr id="67" name="صورة 4" descr="imageshh.jpg"/>
          <p:cNvPicPr/>
          <p:nvPr/>
        </p:nvPicPr>
        <p:blipFill>
          <a:blip r:embed="rId2"/>
          <a:stretch/>
        </p:blipFill>
        <p:spPr>
          <a:xfrm>
            <a:off x="4857840" y="3071880"/>
            <a:ext cx="3340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classes are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in building 1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your clas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nd Paul go to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Ann and Paul go everyda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her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grandmother’s hou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she go dai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s for questions about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5" descr="imagesff.jpg"/>
          <p:cNvPicPr/>
          <p:nvPr/>
        </p:nvPicPr>
        <p:blipFill>
          <a:blip r:embed="rId1"/>
          <a:stretch/>
        </p:blipFill>
        <p:spPr>
          <a:xfrm>
            <a:off x="3071880" y="3500280"/>
            <a:ext cx="25527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nal exa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final exa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ra’s class begins in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five minu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Noura’s class begi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ork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on Mondays and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 you wor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for questions about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صورة 3" descr="Question Mark man sitting on it.jpg"/>
          <p:cNvPicPr/>
          <p:nvPr/>
        </p:nvPicPr>
        <p:blipFill>
          <a:blip r:embed="rId1"/>
          <a:stretch/>
        </p:blipFill>
        <p:spPr>
          <a:xfrm>
            <a:off x="3786120" y="2714760"/>
            <a:ext cx="2691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in building 19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she has a cl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she in building 1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n’t home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they are on va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n’t they ho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x comes home so late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because he has a job after sch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Alex come home so la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my advi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he your advis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he is. No, he isn’t.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school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he go to school every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she does/No, she doe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degree of someth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grammar exa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is very easy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your grammar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state or con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fin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way or a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 to school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by bu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go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’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g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y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n’t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requency adverb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doesn’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ge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questions, frequency adverbs come after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ic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at pizz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ever in ques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 teacher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exam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requency phrases usually follows the verb phr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e teache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three times a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e have a tes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y mon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 go to Pari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nce a year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Verb phras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-&gt; frequency phrase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o is fo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images PEOPLE.jpg"/>
          <p:cNvPicPr/>
          <p:nvPr/>
        </p:nvPicPr>
        <p:blipFill>
          <a:blip r:embed="rId1"/>
          <a:stretch/>
        </p:blipFill>
        <p:spPr>
          <a:xfrm>
            <a:off x="2357280" y="2357280"/>
            <a:ext cx="3689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da and Sara are my teac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your teac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med is her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her bro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Who can be the subject of a questi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sk to find out about the subject. In this case, the question word comes before the verb without the use of the auxiliary verb =( do, do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ara and nou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my br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elp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r brother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iss Sa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s me grammar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teache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 grammar1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ho comes before a singular verb = (verb + 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/w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Who/whom can be the object of a verb. In this case, we use an auxiliary verb (do, do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ove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my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o you lov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sks h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eac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m/who does ann as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n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ech, but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wh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or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books2.jpg"/>
          <p:cNvPicPr/>
          <p:nvPr/>
        </p:nvPicPr>
        <p:blipFill>
          <a:blip r:embed="rId1"/>
          <a:stretch/>
        </p:blipFill>
        <p:spPr>
          <a:xfrm>
            <a:off x="5715000" y="257184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7" name="صورة 4" descr="table.jpg"/>
          <p:cNvPicPr/>
          <p:nvPr/>
        </p:nvPicPr>
        <p:blipFill>
          <a:blip r:embed="rId2"/>
          <a:stretch/>
        </p:blipFill>
        <p:spPr>
          <a:xfrm>
            <a:off x="2214720" y="2357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su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Books and mov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terest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he ip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6:00:19Z</dcterms:created>
  <dc:creator>Sara aldawood</dc:creator>
  <dc:description/>
  <dc:language>en-US</dc:language>
  <cp:lastModifiedBy>sony</cp:lastModifiedBy>
  <dcterms:modified xsi:type="dcterms:W3CDTF">2012-02-17T14:24:08Z</dcterms:modified>
  <cp:revision>12</cp:revision>
  <dc:subject/>
  <dc:title>Information Questions (WH)</dc:title>
</cp:coreProperties>
</file>