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AA5-1035-4D30-A67E-E9541855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255-2DBE-453E-94AE-4B339507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3D8-C90C-485C-92B0-6B9835D8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2E8-DEB8-4AE5-A01F-E127A932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B6B-2470-4877-B753-31EE012F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2F9D-BFB0-43DC-9E7D-DA49AFB5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DA5-5A4F-4FAB-A5BC-6CA3E9C2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1AED-9C96-4CCC-84BD-B5428A65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2CD5-9B6F-472D-950C-8B94C611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DD4-6ABB-4FC1-9384-DAF6D1F0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CA93-21B0-4C9F-9EFD-A53C46E1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D36-9031-46C7-88F5-67C7E63C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73CB-B145-47FF-87F2-58399F55A36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Questions (WH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be the object of a ques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s Sara teaches me 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Grammar1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Miss Sara teach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nt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some mon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wa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for questions about pla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صورة 3" descr="schooool.jpg"/>
          <p:cNvPicPr/>
          <p:nvPr/>
        </p:nvPicPr>
        <p:blipFill>
          <a:blip r:embed="rId1"/>
          <a:stretch/>
        </p:blipFill>
        <p:spPr>
          <a:xfrm>
            <a:off x="1928880" y="2857680"/>
            <a:ext cx="2800440" cy="2428560"/>
          </a:xfrm>
          <a:prstGeom prst="rect">
            <a:avLst/>
          </a:prstGeom>
          <a:ln w="0">
            <a:noFill/>
          </a:ln>
        </p:spPr>
      </p:pic>
      <p:pic>
        <p:nvPicPr>
          <p:cNvPr id="67" name="صورة 4" descr="imageshh.jpg"/>
          <p:cNvPicPr/>
          <p:nvPr/>
        </p:nvPicPr>
        <p:blipFill>
          <a:blip r:embed="rId2"/>
          <a:stretch/>
        </p:blipFill>
        <p:spPr>
          <a:xfrm>
            <a:off x="4857840" y="3071880"/>
            <a:ext cx="33400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classes are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in building 1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are your clas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 and Paul go to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very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 Ann and Paul go everyday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goes to her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grandmother’s hou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es she go dail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s for questions about 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صورة 5" descr="imagesff.jpg"/>
          <p:cNvPicPr/>
          <p:nvPr/>
        </p:nvPicPr>
        <p:blipFill>
          <a:blip r:embed="rId1"/>
          <a:stretch/>
        </p:blipFill>
        <p:spPr>
          <a:xfrm>
            <a:off x="3071880" y="3500280"/>
            <a:ext cx="255276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nal exa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next we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final exa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ura’s class begins in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five minu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es Noura’s class begi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ork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on Mondays and Frid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 you wor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for questions about reas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صورة 3" descr="Question Mark man sitting on it.jpg"/>
          <p:cNvPicPr/>
          <p:nvPr/>
        </p:nvPicPr>
        <p:blipFill>
          <a:blip r:embed="rId1"/>
          <a:stretch/>
        </p:blipFill>
        <p:spPr>
          <a:xfrm>
            <a:off x="3786120" y="2714760"/>
            <a:ext cx="2691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in building 19 </a:t>
            </a:r>
            <a:r>
              <a:rPr b="0" lang="en-US" sz="3200" spc="-1" strike="noStrike">
                <a:solidFill>
                  <a:srgbClr val="b3a2c7"/>
                </a:solidFill>
                <a:latin typeface="Calibri"/>
              </a:rPr>
              <a:t>because she has a cla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she in building 19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n’t home </a:t>
            </a:r>
            <a:r>
              <a:rPr b="0" lang="en-US" sz="3200" spc="-1" strike="noStrike">
                <a:solidFill>
                  <a:srgbClr val="b3a2c7"/>
                </a:solidFill>
                <a:latin typeface="Calibri"/>
              </a:rPr>
              <a:t>because they are on va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aren’t they hom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x comes home so late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because he has a job after scho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Alex come home so lat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/No Questio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is my advis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he your adviso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he is. No, he isn’t.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goes to school every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she go to school every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she does/No, she does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degree of someth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grammar exam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is very easy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your grammar ex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state or cond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m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fine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way or a meth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go to school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by bus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go to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Adverb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’s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ung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y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s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m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sn’t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Verb to b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frequency adverb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Ad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go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ul doesn’t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re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rare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s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geth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Frequency adverb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questions, frequency adverbs come after the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ft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sic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at pizz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ever in ques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the teacher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exam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Subjec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frequency adver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Phr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requency phrases usually follows the verb phr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He teaches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three times a we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e have a test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every mon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 go to Paris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nce a year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Verb phrase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-&gt; frequency phrase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ho is for peop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صورة 3" descr="images PEOPLE.jpg"/>
          <p:cNvPicPr/>
          <p:nvPr/>
        </p:nvPicPr>
        <p:blipFill>
          <a:blip r:embed="rId1"/>
          <a:stretch/>
        </p:blipFill>
        <p:spPr>
          <a:xfrm>
            <a:off x="2357280" y="2357280"/>
            <a:ext cx="36896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hada and Sara are my teach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are your teach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hmed is her br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her brothe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Who can be the subject of a question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ask to find out about the subject. In this case, the question word comes before the verb without the use of the auxiliary verb =( do, do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ara and nou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lp my broth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help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your brother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Miss Sa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ches me grammar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teache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you grammar1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Who comes before a singular verb = (verb + 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/wh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- Who/whom can be the object of a verb. In this case, we use an auxiliary verb (do, do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love 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my br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do you lov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 asks her 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teache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m/who does ann as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-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for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nfor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eech, but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wh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for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for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estions on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for thin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صورة 3" descr="books2.jpg"/>
          <p:cNvPicPr/>
          <p:nvPr/>
        </p:nvPicPr>
        <p:blipFill>
          <a:blip r:embed="rId1"/>
          <a:stretch/>
        </p:blipFill>
        <p:spPr>
          <a:xfrm>
            <a:off x="5715000" y="257184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57" name="صورة 4" descr="table.jpg"/>
          <p:cNvPicPr/>
          <p:nvPr/>
        </p:nvPicPr>
        <p:blipFill>
          <a:blip r:embed="rId2"/>
          <a:stretch/>
        </p:blipFill>
        <p:spPr>
          <a:xfrm>
            <a:off x="2214720" y="2357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pe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my b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b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be the subject of a ques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Books and mov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est 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nterest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The ipa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s Paul hap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ul hap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6:00:19Z</dcterms:created>
  <dc:creator>Sara aldawood</dc:creator>
  <dc:description/>
  <dc:language>en-US</dc:language>
  <cp:lastModifiedBy>sony</cp:lastModifiedBy>
  <dcterms:modified xsi:type="dcterms:W3CDTF">2012-02-17T14:24:08Z</dcterms:modified>
  <cp:revision>12</cp:revision>
  <dc:subject/>
  <dc:title>Information Questions (WH)</dc:title>
</cp:coreProperties>
</file>