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603-7191-41E8-A879-AB05EC07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F2A-5DA8-4253-9A9B-80A9A043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2A6-BE6C-4F26-9A04-F842790B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550-4887-4350-898D-7BB1EA2A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2158-83B3-48DD-B385-74A5FD45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999E-03F1-423A-BD5D-BEF63C36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E82C-2583-4966-BE94-9FDFAB49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2A4D-7097-49BC-86D0-098CE556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9A5D-5D8F-4441-8920-CFF65019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916D-094D-460A-95EA-912887F0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DE58-757E-4292-A9EB-7C4F03A1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334-98A4-4D01-8F84-0E4AFA34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41A3-FEAB-40BB-87F9-60D375C5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FA80-23E8-4565-B54B-E3460FFA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6D00-94C5-45B7-B6AB-E387B3F0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93BB-B54C-470A-AE70-B491C7AC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264A-11ED-49E4-A9EB-BC6AA651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31F03-A69F-49A1-9ECF-EE8B70AA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C6687-0CC2-42A7-95D7-9A470D88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1B43-CE8A-4E73-BE37-2A5A3D62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7927-4B57-442D-9B92-215D9186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DB63-D7C9-47D3-9A35-BFDDFA19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9FB-7BB2-49E4-A4BF-8AB42A95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FEF4-B35B-4A20-9B94-0ACE3908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CF03-CBAE-4238-BDB5-9D6CBE2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813C-6A7D-4F08-8D62-FD8C4642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809E-27A2-4A73-8E48-D87887E2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6F8D-9B85-45E7-95EB-0BF8D277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E890-E00E-4630-B2B9-0D31316A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C506-608E-45A3-97A6-88734380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D535-230C-4C95-851C-9B4EAADF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45B50-7919-4DAC-96D1-B802D7BA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9796-C2D7-4FBA-BF8B-0326A78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740-A0EF-485F-BD54-6F4B34B1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2DF98-C30A-4F77-AA9B-15B5B6F5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0F00-332E-4484-B7F3-1D7D58E9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5889-5009-45CB-823B-54D0C6F3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502E1-749E-4F9E-AB01-9D2AEAF6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B2FC8-2CD8-4F91-B010-FE3AA891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99C1C-4251-4DA4-9FC4-14123C34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FEC2-E747-4948-B87B-7105A266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10C9D-E89E-4969-8CEF-6111F933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5D773-BA34-4CD0-A80F-B6EC94FE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673-F122-4068-ADFC-4E5A3877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F3D-61A8-4572-AC23-26819DE5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010-E065-4C4C-A49C-40A73656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F5A-51FF-4852-9D26-2D3FDCE4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31A-1F4E-473B-A646-2708CF67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EA0D-3A71-45AB-B3BA-43E43894CC98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3E79-D098-4C65-9009-457CE3E5A700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3802-8040-47F9-9ADF-5AA57A0ABD41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9B7B-D4E7-44B0-A6EC-458A901DDB37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عنوان 1" descr=""/>
          <p:cNvPicPr/>
          <p:nvPr/>
        </p:nvPicPr>
        <p:blipFill>
          <a:blip r:embed="rId2"/>
          <a:stretch/>
        </p:blipFill>
        <p:spPr>
          <a:xfrm>
            <a:off x="-255600" y="-171360"/>
            <a:ext cx="73756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23640" y="549000"/>
            <a:ext cx="489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ystematic documentation of a patient's medical history and car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raditionally, medical records have been written on paper and kept in fold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n electronic health record (EHR) </a:t>
            </a:r>
            <a:r>
              <a:rPr b="0" lang="en-US" sz="2200" spc="-1" strike="noStrike">
                <a:solidFill>
                  <a:srgbClr val="0070c0"/>
                </a:solidFill>
                <a:latin typeface="Trebuchet MS"/>
              </a:rPr>
              <a:t>refers to an individual patient's medical record in digital forma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2" descr="C:\Users\user\Desktop\EHR1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88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4000" y="549000"/>
            <a:ext cx="8712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lectronic health record systems co-ordinate the storage and retrieval of individual records with the aid of comput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HRs are usually accessed on a computer, often over a network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t may be made up of electronic medical records (EMRs) from many locations and/or sour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mong the many forms of data often included in EMRs are patient demographics, medical history, laboratory test results, radiology images, billing records and advanced directiv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54900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dvantages of EHRs over paper-based record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mplete patient data displayed in an integrated fashion that facilitates medical decision mak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any workstation in the hospita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bility to enter orders, notes, data at same workst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double entry of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mmediate availability of resul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multaneous users can access same medical reco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on site or remot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loss of patient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23640" y="549000"/>
            <a:ext cx="79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Nursing Information System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formation system that supports the use and documentation of nursing processes and provides tools for managing the delivery of nursing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collect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stores, processes, retrieves, display, and communicate timely information needed in nursing practice, education, administration, and research.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2" descr="http://www.healthcaredesignmagazine.com/sites/healthcaredesignmagazine.com/files/imagecache/570x360/ICU_Nursing_Station.jpg"/>
          <p:cNvPicPr/>
          <p:nvPr/>
        </p:nvPicPr>
        <p:blipFill>
          <a:blip r:embed="rId1"/>
          <a:stretch/>
        </p:blipFill>
        <p:spPr>
          <a:xfrm>
            <a:off x="3714840" y="3716280"/>
            <a:ext cx="5429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Patient Charting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A patient’s vital signs, admission and nursing assessments, care plan and nursing notes can be entered into the system either as structured or free text. These are the stored in a central repository and retrieved when neede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Clinical Data Integratio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Here clinical information from all the disciplines can be retrieved, viewed and analyzed by nursing staff and then integrated into a patient’s care pl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Decision Support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They provide prompts and reminders, along with guides to disease linkages between signs/symptoms, etiologies/related factors and patient popul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Staff Schedule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Nurse can self schedule their shifts using scheduling rules provided in shift modul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3640" y="549000"/>
            <a:ext cx="7993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Radiology Information System (R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RIS is a computerized system used by radiology departments to store, manipulate and distribute patient radiological data and image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A modern Radiology Information System (RIS) is a pre-requisite for the efficient management of a department of Radiolog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4920" y="731520"/>
            <a:ext cx="8209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system generally consists of patient tracking and scheduling, result reporting and image tracking capabili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Used to support both administrative and clinical oper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RIS complements HIS (Hospital Information Systems) and are critical to efficient workflow to radiology practi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Simple Workflow within RI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clinician orders a radiographic exam using the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Within minutes, the order subsequently appears at the modality in 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st of patients requiring radiographs that da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radiology technicians select the appropriate patient from the list and conducts the stud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Once the images are generated, they are sent to a central local server and the exam is automatically completed and charged in the HI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By simply clicking the ‘‘view images’’ button under the images tab in the HIS the images appear in an easy to use browser- based medical image viewer, or on a Digital Imaging and Communications in Medicine (DICOM) workstation program on the local compu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 addition, the images and reports are accessible from anywhere inside the local area network (LAN) and also potentially available outside the clinic network via the world wide web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C:\Users\user\Desktop\untitle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549000"/>
            <a:ext cx="3960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What does “System”  me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 system is a group of interrelated components working together toward a common goal by accept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in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and produc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out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in an organized transformation proces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5" descr="http://assets4.bigthink.com/system/idea_thumbnails/38458/original/computer-system-america-135278-o.jpg?1305630268"/>
          <p:cNvPicPr/>
          <p:nvPr/>
        </p:nvPicPr>
        <p:blipFill>
          <a:blip r:embed="rId1"/>
          <a:stretch/>
        </p:blipFill>
        <p:spPr>
          <a:xfrm>
            <a:off x="5076720" y="2852640"/>
            <a:ext cx="3810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-360" y="54900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ICOM Image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COM stands for Digital Imaging and Communications in Medicine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It’s a standard protocol for the transferring, displaying, and storing of medical images data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Most modern imaging machines are capable of producing DICOM imag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http://www.dicomconverter.com/dicomconverter-logo.jpg"/>
          <p:cNvPicPr/>
          <p:nvPr/>
        </p:nvPicPr>
        <p:blipFill>
          <a:blip r:embed="rId1"/>
          <a:stretch/>
        </p:blipFill>
        <p:spPr>
          <a:xfrm>
            <a:off x="1908000" y="2997360"/>
            <a:ext cx="57150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-360" y="549000"/>
            <a:ext cx="615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DICOM Viewer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pecialized application software enables you to open, process, and interpre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here are a lot of DICOM Viewer applications availabl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icroDicom (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re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adiA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ingenium.home.xs4all.nl/dicombrowsersmall2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The Basic requirements of a DICOM workstation are a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follow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query and send image ﬁles to multiple DICOM devices, including other workstation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capability to manipulate images (window/level, magniﬁcation, measurements, annotation, stack scroll, Invert, rotate, etc.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HIS/Radiology Information System (RIS) interface to link reports to the image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import/export other image types, such as jpeg, and convert them to DICOM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functionality to allow dual monitor viewing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prin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icture Archiving and Communication System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What is PAC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PACS refers to the host of technologies that contribu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to the creation, distribution, and archiving of </a:t>
            </a:r>
            <a:r>
              <a:rPr b="1" i="1" lang="en-US" sz="2200" spc="-1" strike="noStrike">
                <a:solidFill>
                  <a:srgbClr val="0d79ca"/>
                </a:solidFill>
                <a:latin typeface="Trebuchet MS"/>
              </a:rPr>
              <a:t>digital images</a:t>
            </a: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Data workflow within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4" name="رسم تخطيطي 1" descr=""/>
          <p:cNvPicPr/>
          <p:nvPr/>
        </p:nvPicPr>
        <p:blipFill>
          <a:blip r:embed="rId1"/>
          <a:stretch/>
        </p:blipFill>
        <p:spPr>
          <a:xfrm>
            <a:off x="378000" y="4206960"/>
            <a:ext cx="8169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91155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ypical PACS component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A digital imaging modality or de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A network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An archive devic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diagnostic workst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Archive/routing software, and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6-Some interplay with the hospital or radiology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otential Beneﬁts of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creased connectivity and integration between facilities and departme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ductivity improvements (less time spent looking for misplaced radiographs or ultrasound images, less time spent hanging/removing ﬁlms, less time distributing ﬁlms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multaneous viewing of the same images in multipl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tter image quality than analog ﬁlm or thermal pri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s an avenue for rapid consultation with speciali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Laboratory Information system LI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lab information system ("LIS") is a class of software that receives, processes, and stores information generated by medical laboratory processes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These systems often must interface with instruments and other information systems such as hospital information systems (HIS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sciplines of laboratory science supported by LIS' include hematology, chemistry, immunology, blood bank (Donor and Transfusion Management), surgical pathology, anatomical pathology, flow cytometry and microbiology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n information system 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s a collection of people, procedures, software, hardware, and data .They all work together to provide information essential to running an organiz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as we discussed in chapter 1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 information system, that combines a computer-based patient record with other modules that support clinical workflow is called a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http://ars.els-cdn.com/content/image/1-s2.0-S0272271207000893-gr3.jpg"/>
          <p:cNvPicPr/>
          <p:nvPr/>
        </p:nvPicPr>
        <p:blipFill>
          <a:blip r:embed="rId1"/>
          <a:stretch/>
        </p:blipFill>
        <p:spPr>
          <a:xfrm>
            <a:off x="395280" y="390600"/>
            <a:ext cx="81644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In summery, the Uses of computer in the hospital can be categorized into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Handling and processing Medical Dat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Decision suppo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Medical educ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Medical search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 Monitor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مستطيل 5"/>
          <p:cNvSpPr/>
          <p:nvPr/>
        </p:nvSpPr>
        <p:spPr>
          <a:xfrm>
            <a:off x="63828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مستطيل 7"/>
          <p:cNvSpPr/>
          <p:nvPr/>
        </p:nvSpPr>
        <p:spPr>
          <a:xfrm>
            <a:off x="668664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مستطيل 8"/>
          <p:cNvSpPr/>
          <p:nvPr/>
        </p:nvSpPr>
        <p:spPr>
          <a:xfrm>
            <a:off x="3618000" y="5116680"/>
            <a:ext cx="2232000" cy="7920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2" name="رابط كسهم مستقيم 10"/>
          <p:cNvCxnSpPr>
            <a:stCxn id="219" idx="3"/>
          </p:cNvCxnSpPr>
          <p:nvPr/>
        </p:nvCxnSpPr>
        <p:spPr>
          <a:xfrm>
            <a:off x="2869920" y="389232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3" name="رابط كسهم مستقيم 11"/>
          <p:cNvCxnSpPr/>
          <p:nvPr/>
        </p:nvCxnSpPr>
        <p:spPr>
          <a:xfrm>
            <a:off x="5370120" y="382860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4" name="مستطيل 19"/>
          <p:cNvSpPr/>
          <p:nvPr/>
        </p:nvSpPr>
        <p:spPr>
          <a:xfrm>
            <a:off x="3564000" y="189216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5" name="رابط كسهم مستقيم 21"/>
          <p:cNvCxnSpPr>
            <a:stCxn id="224" idx="2"/>
          </p:cNvCxnSpPr>
          <p:nvPr/>
        </p:nvCxnSpPr>
        <p:spPr>
          <a:xfrm>
            <a:off x="4679640" y="2684160"/>
            <a:ext cx="1080" cy="313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6" name="رابط كسهم مستقيم 23"/>
          <p:cNvCxnSpPr>
            <a:stCxn id="221" idx="0"/>
          </p:cNvCxnSpPr>
          <p:nvPr/>
        </p:nvCxnSpPr>
        <p:spPr>
          <a:xfrm flipV="1">
            <a:off x="4733640" y="4580640"/>
            <a:ext cx="1080" cy="5360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7" name="شكل بيضاوي 24"/>
          <p:cNvSpPr/>
          <p:nvPr/>
        </p:nvSpPr>
        <p:spPr>
          <a:xfrm>
            <a:off x="6421320" y="1616040"/>
            <a:ext cx="138132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شكل بيضاوي 25"/>
          <p:cNvSpPr/>
          <p:nvPr/>
        </p:nvSpPr>
        <p:spPr>
          <a:xfrm>
            <a:off x="1487520" y="16034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شكل بيضاوي 26"/>
          <p:cNvSpPr/>
          <p:nvPr/>
        </p:nvSpPr>
        <p:spPr>
          <a:xfrm>
            <a:off x="1487520" y="48578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شكل بيضاوي 27"/>
          <p:cNvSpPr/>
          <p:nvPr/>
        </p:nvSpPr>
        <p:spPr>
          <a:xfrm>
            <a:off x="6421320" y="4857840"/>
            <a:ext cx="138132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شكل بيضاوي 28"/>
          <p:cNvSpPr/>
          <p:nvPr/>
        </p:nvSpPr>
        <p:spPr>
          <a:xfrm>
            <a:off x="3989520" y="3130560"/>
            <a:ext cx="138096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rebuchet MS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32" name="رابط كسهم مستقيم 2"/>
          <p:cNvCxnSpPr>
            <a:stCxn id="228" idx="5"/>
          </p:cNvCxnSpPr>
          <p:nvPr/>
        </p:nvCxnSpPr>
        <p:spPr>
          <a:xfrm>
            <a:off x="2666880" y="2720520"/>
            <a:ext cx="1323360" cy="637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3" name="رابط كسهم مستقيم 16"/>
          <p:cNvCxnSpPr/>
          <p:nvPr/>
        </p:nvCxnSpPr>
        <p:spPr>
          <a:xfrm flipV="1">
            <a:off x="2869920" y="4465440"/>
            <a:ext cx="1236960" cy="6516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4" name="رابط كسهم مستقيم 18"/>
          <p:cNvCxnSpPr/>
          <p:nvPr/>
        </p:nvCxnSpPr>
        <p:spPr>
          <a:xfrm flipH="1">
            <a:off x="5508360" y="2684520"/>
            <a:ext cx="1008720" cy="6739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5" name="رابط كسهم مستقيم 29"/>
          <p:cNvCxnSpPr>
            <a:stCxn id="230" idx="1"/>
          </p:cNvCxnSpPr>
          <p:nvPr/>
        </p:nvCxnSpPr>
        <p:spPr>
          <a:xfrm flipH="1" flipV="1">
            <a:off x="5381280" y="4279680"/>
            <a:ext cx="1242000" cy="7704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23640" y="549000"/>
            <a:ext cx="5676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 Hospital Information System (H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s a comprehensive, integrated information system designed to meet all the information needs within a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t can be composed of one or a few software components with specialty-specific extensions as well as of a large variety of sub-systems in medical special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2" descr="C:\Users\user\AppData\Local\Microsoft\Windows\Temporary Internet Files\Content.IE5\81PKDDAC\System Interfaces.jpg"/>
          <p:cNvPicPr/>
          <p:nvPr/>
        </p:nvPicPr>
        <p:blipFill>
          <a:blip r:embed="rId1"/>
          <a:stretch/>
        </p:blipFill>
        <p:spPr>
          <a:xfrm>
            <a:off x="6000840" y="1557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5280" y="476280"/>
            <a:ext cx="6788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pplication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A hospital information system has many different aspects incorporated within itsel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Technology allows for the information within these systems to flow more easily and more accuratel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Some of these systems include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1- Laboratory Information System (L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2- Nursing Information System (N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3-Picture Archiving Communication System (PAC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4-Radiology Information System (RIS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Pharamacy Information System (P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6-Adminstration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-Financial Information System (FIS)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Common Features:-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Registration and scheduling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List Management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terface with different modaliti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partment workflow managem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ques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sult(s) Ent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porting and printou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Tracking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odality and Material managemen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formation storage and backup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http://www.goomedic.com/wp-content/uploads/2009/07/hospitalgate.jpeg"/>
          <p:cNvPicPr/>
          <p:nvPr/>
        </p:nvPicPr>
        <p:blipFill>
          <a:blip r:embed="rId1"/>
          <a:stretch/>
        </p:blipFill>
        <p:spPr>
          <a:xfrm>
            <a:off x="250920" y="27288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Advantages of HI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-Improved quality of patient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-Improved communications within the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3-Increased productivit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4-Reduced chances of error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Reduced co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3:08:13Z</dcterms:created>
  <dc:creator>Hassan</dc:creator>
  <dc:description/>
  <dc:language>en-US</dc:language>
  <cp:lastModifiedBy>Hassan</cp:lastModifiedBy>
  <dcterms:modified xsi:type="dcterms:W3CDTF">2012-12-05T09:21:39Z</dcterms:modified>
  <cp:revision>54</cp:revision>
  <dc:subject/>
  <dc:title>Information Systems</dc:title>
</cp:coreProperties>
</file>