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BF6-7215-4B8C-BD8D-86F1C5D2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1F4-1E93-4DA9-B80C-9C6E57F0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968-24A5-4A64-9D31-4FFDB468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361-374A-43BC-A2D7-E7ED8C91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B49A-7895-46C0-A8DB-72A0F608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16A3-0DA3-458A-9F2C-144BDA07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DAFE-6E3C-42EC-BC00-C60A7263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CE7F-A67D-4F69-99DE-33C42BE9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FCC6-272F-4851-94B3-A2451BF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D91B-FE40-4420-895B-D6C81717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8573-717D-4511-8CBD-EF808E1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CD6-8FFF-4010-84B3-C2C30B0F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41D-9CC0-4F25-8F29-7378090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2F41-D7B1-4A05-87ED-9DB1F0E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E0D-8CD5-4FC2-B61C-16C80542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7706-CF22-4DE0-8F27-6F9E528C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C04-89B2-4150-8B08-28A42887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65DE-53E6-4CA8-B3E9-70216805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463E-7C59-4795-96FB-0EC7BF7D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416F-9228-4FE5-8574-406305DB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7D62A-8D24-4D62-8DBA-0BEDB26A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51E5-3BD1-4861-A49F-018D6E2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AE8-DAEC-4035-BDDA-F5FAB0AF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D765-BE24-483A-850E-0BFE0382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4C49-D1A1-458F-A5BD-19778EF8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4B6D-AB74-4D2D-8B9D-D748F65D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4B2E7-AFCA-4C56-BA5D-26A57207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C81F-7846-4993-B84C-80AED38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88DC-1DAD-4D51-A6CC-612DF24B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48DA-5D8D-4D55-A26F-F5F69A0C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BE54-24C4-4D78-A565-929D1734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91AD-BF1F-4A63-AF57-9C37E92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61EB-B325-4B41-81BB-ACB85264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DE3-2626-4779-A70C-9062B60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ACD7-310B-4B65-B168-8B5A319E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6551-A90B-4268-A8BC-8FBB16F1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F3E8-935B-40CE-91CD-E065A8C3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8065-BB1F-4851-AC3C-E830EB33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C65C3-ED4A-433E-8958-DE23194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3E2F-F220-45D3-A08A-5F0E30D3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042F-6FD1-4915-98C0-105FE291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C19B6-221E-4046-BAFB-1176EF25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D563-B33C-434F-A6F7-F5F07EB3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13B-1450-462F-A947-39AE625F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9B8-E320-4E43-B96D-E86446C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76F-7A1E-4269-9226-527323A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8FD-4507-4B03-BE90-15D9857D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A6E-9BDF-40A1-8B22-CA16D64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2C4C-985D-454E-B53F-83D1BE7E04EA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B8C-6C34-4693-B385-D62D5D3A6223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C0FF-8E58-4A10-8D13-D71A87DD65BE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D346-F21D-4206-B05D-6A1588AAA056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5834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FAISAL</cp:lastModifiedBy>
  <dcterms:modified xsi:type="dcterms:W3CDTF">2012-12-09T07:53:36Z</dcterms:modified>
  <cp:revision>55</cp:revision>
  <dc:subject/>
  <dc:title>Information Systems</dc:title>
</cp:coreProperties>
</file>