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466-8086-452A-A0FE-6630241C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459-E304-4DC9-B8F5-8DA84F54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F36-83CA-43FA-99BC-5DCFC818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271-E4C2-4C31-AD22-36120140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9031-91BB-4C74-898A-7D4278F2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9809-7DF7-4D43-B0DC-E3E190B3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3FF2-729A-4B89-ADE4-302A6F2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597F-836E-48F5-83F8-0FC6E6AE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FB6C-372B-434C-B622-99E4343E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110C-DA94-4393-9B5B-46A6C1FF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5C38-E5EB-4366-AF31-9C589E5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575-B906-4E90-A8F3-5C47DCFE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281E-233B-4D6D-ABBC-FFF35402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CAE9-0E75-4AAE-A6EC-534AAC7F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4E8-1AA2-4BDD-93B2-BB1BC489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1393-048A-4496-9A56-4BEAA565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A952-4A6A-4DEA-84FF-A287E8F6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212EA-61F2-4F00-8DAD-CF62EF3D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5E43-A6E8-4D44-9677-26AF3FD7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83BC-6150-458A-B1C4-136A45C8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F618-32B7-43D2-A497-E08DA2A5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2E6B-5177-4187-8962-9160A3FD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781-DF62-4F30-96BF-B7EE3CF1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8407-7C64-44AA-86C4-B2D0FD9D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0FFF-2768-4727-8144-BB7BEF62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9755-9A24-4076-8D94-2F8115E4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04BC-8FE4-4072-8400-E7EBEF13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6146-D10B-43ED-B849-BC385B1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18CF-3980-47D9-807D-03110248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B04B-08C2-48D6-AB50-F3C84920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0A5ED-B810-424D-8569-1A9A4331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B021A-21F2-43CF-9F66-EFC96955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B5F4-05B1-40BF-8715-B27DA588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D3D-00F3-4BD8-BBCA-83D67BB3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0D67-2DC7-4BDC-A644-0AC2695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B37D-DBFB-4EB9-B39F-D58BA97F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EE4A-39AA-496B-9AD1-176E8500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02A0-82B2-4D3E-A624-4DC73525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5FDBF-BDD0-4091-959F-66147302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0334-1D94-4ABF-B876-BD47F995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457BB-D524-458E-9F43-BCC41E28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8DE2-1274-49E7-B418-D9B466C4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36D3-7695-4CE7-8178-1393C479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BA5-94EC-432F-9E2D-D6E90D6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CD6-7408-48E3-A8B0-4420EF1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341-C161-441D-8731-847E77A2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32A-DF0A-44C5-AFDC-2805FB0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99E-39B8-4883-B9A3-45B889AD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8686-CADD-403F-8E35-E649B9756D3A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7B63-15C1-4A2C-8CE4-8133AF012D85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844B-E8DD-48B0-A3F6-F5170B639A91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B097-6401-4DB0-9600-2B2657433C06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عنوان 1" descr=""/>
          <p:cNvPicPr/>
          <p:nvPr/>
        </p:nvPicPr>
        <p:blipFill>
          <a:blip r:embed="rId2"/>
          <a:stretch/>
        </p:blipFill>
        <p:spPr>
          <a:xfrm>
            <a:off x="-255600" y="-171360"/>
            <a:ext cx="75834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23640" y="549000"/>
            <a:ext cx="489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ystematic documentation of a patient's medical history and ca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raditionally, medical records have been written on paper and kept in fold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n electronic health record (EHR) </a:t>
            </a: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refers to an individual patient's medical record in digital forma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user\Desktop\EHR1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549000"/>
            <a:ext cx="8712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lectronic health record systems co-ordinate the storage and retrieval of individual records with the aid of comput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HRs are usually accessed on a computer, often over a network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t may be made up of electronic medical records (EMRs) from many locations and/or sour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mong the many forms of data often included in EMRs are patient demographics, medical history, laboratory test results, radiology images, billing records and advanced directiv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54900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dvantages of EHRs over paper-based record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lete patient data displayed in an integrated fashion that facilitates medical decision mak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any workstation in the hospita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bility to enter orders, notes, data at same workst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double entry of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mmediate availability of resul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multaneous users can access same medical reco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on site or remot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loss of patient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549000"/>
            <a:ext cx="79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Nursing Information System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formation system that supports the use and documentation of nursing processes and provides tools for managing the delivery of nursing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collect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stores, processes, retrieves, display, and communicate timely information needed in nursing practice, education, administration, and research.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http://www.healthcaredesignmagazine.com/sites/healthcaredesignmagazine.com/files/imagecache/570x360/ICU_Nursing_Station.jpg"/>
          <p:cNvPicPr/>
          <p:nvPr/>
        </p:nvPicPr>
        <p:blipFill>
          <a:blip r:embed="rId1"/>
          <a:stretch/>
        </p:blipFill>
        <p:spPr>
          <a:xfrm>
            <a:off x="3714840" y="3716280"/>
            <a:ext cx="542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Patient Charting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A patient’s vital signs, admission and nursing assessments, care plan and nursing notes can be entered into the system either as structured or free text. These are the stored in a central repository and retrieved when need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Clinical Data Integratio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Here clinical information from all the disciplines can be retrieved, viewed and analyzed by nursing staff and then integrated into a patient’s care pl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Decision Support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They provide prompts and reminders, along with guides to disease linkages between signs/symptoms, etiologies/related factors and patient popul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Staff Schedule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Nurse can self schedule their shifts using scheduling rules provided in shift modul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3640" y="54900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adiology Information System (R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RIS is a computerized system used by radiology departments to store, manipulate and distribute patient radiological data and image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A modern Radiology Information System (RIS) is a pre-requisite for the efficient management of a department of Radiolog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492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system generally consists of patient tracking and scheduling, result reporting and image tracking capabili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Used to support both administrative and clinical oper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RIS complements HIS (Hospital Information Systems) and are critical to efficient workflow to radiology practi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Simple Workflow within RI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clinician orders a radiographic exam using the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Within minutes, the order subsequently appears at the modality in 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st of patients requiring radiographs that da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radiology technicians select the appropriate patient from the list and conducts the stud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Once the images are generated, they are sent to a central local server and the exam is automatically completed and charged in the HI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By simply clicking the ‘‘view images’’ button under the images tab in the HIS the images appear in an easy to use browser- based medical image viewer, or on a Digital Imaging and Communications in Medicine (DICOM) workstation program on the local compu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 addition, the images and reports are accessible from anywhere inside the local area network (LAN) and also potentially available outside the clinic network via the world wide web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C:\Users\user\Desktop\untitl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549000"/>
            <a:ext cx="396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What does “System”  me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 system is a group of interrelated components working together toward a common goal by accept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in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and produc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out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in an organized transformation proces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5" descr="http://assets4.bigthink.com/system/idea_thumbnails/38458/original/computer-system-america-135278-o.jpg?1305630268"/>
          <p:cNvPicPr/>
          <p:nvPr/>
        </p:nvPicPr>
        <p:blipFill>
          <a:blip r:embed="rId1"/>
          <a:stretch/>
        </p:blipFill>
        <p:spPr>
          <a:xfrm>
            <a:off x="5076720" y="285264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-360" y="54900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ICOM Imag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COM stands for Digital Imaging and Communications in Medicin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It’s a standard protocol for the transferring, displaying, and storing of medical images dat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Most modern imaging machines are capable of producing DICOM imag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http://www.dicomconverter.com/dicomconverter-logo.jpg"/>
          <p:cNvPicPr/>
          <p:nvPr/>
        </p:nvPicPr>
        <p:blipFill>
          <a:blip r:embed="rId1"/>
          <a:stretch/>
        </p:blipFill>
        <p:spPr>
          <a:xfrm>
            <a:off x="1908000" y="299736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549000"/>
            <a:ext cx="615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DICOM View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pecialized application software enables you to open, process, and interpre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here are a lot of DICOM Viewer applications availabl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croDicom (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re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adiA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ingenium.home.xs4all.nl/dicombrowsersmall2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The Basic requirements of a DICOM workstation are 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follow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query and send image ﬁles to multiple DICOM devices, including other workstation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capability to manipulate images (window/level, magniﬁcation, measurements, annotation, stack scroll, Invert, rotate, etc.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HIS/Radiology Information System (RIS) interface to link reports to the image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import/export other image types, such as jpeg, and convert them to DICOM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functionality to allow dual monitor viewing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prin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icture Archiving and Communication System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What is PAC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PACS refers to the host of technologies that contribu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to the creation, distribution, and archiving of </a:t>
            </a:r>
            <a:r>
              <a:rPr b="1" i="1" lang="en-US" sz="2200" spc="-1" strike="noStrike">
                <a:solidFill>
                  <a:srgbClr val="0d79ca"/>
                </a:solidFill>
                <a:latin typeface="Trebuchet MS"/>
              </a:rPr>
              <a:t>digital images</a:t>
            </a: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Data workflow within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رسم تخطيطي 1" descr=""/>
          <p:cNvPicPr/>
          <p:nvPr/>
        </p:nvPicPr>
        <p:blipFill>
          <a:blip r:embed="rId1"/>
          <a:stretch/>
        </p:blipFill>
        <p:spPr>
          <a:xfrm>
            <a:off x="378000" y="4206960"/>
            <a:ext cx="8169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155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ypical PACS component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A digital imaging modality or de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A network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An archive devi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diagnostic workst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Archive/routing software, and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6-Some interplay with the hospital or radiology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otential Beneﬁts of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reased connectivity and integration between facilities and departme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ductivity improvements (less time spent looking for misplaced radiographs or ultrasound images, less time spent hanging/removing ﬁlms, less time distributing ﬁlms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multaneous viewing of the same images in multipl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tter image quality than analog ﬁlm or thermal pri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s an avenue for rapid consultation with speciali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Laboratory Information system L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lab information system ("LIS") is a class of software that receives, processes, and stores information generated by medical laboratory processes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These systems often must interface with instruments and other information systems such as hospital information systems (HIS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sciplines of laboratory science supported by LIS' include hematology, chemistry, immunology, blood bank (Donor and Transfusion Management), surgical pathology, anatomical pathology, flow cytometry and microbiology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n information system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s a collection of people, procedures, software, hardware, and data .They all work together to provide information essential to running an organiz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s we discussed in chapter 1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 information system, that combines a computer-based patient record with other modules that support clinical workflow is called a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ars.els-cdn.com/content/image/1-s2.0-S0272271207000893-gr3.jpg"/>
          <p:cNvPicPr/>
          <p:nvPr/>
        </p:nvPicPr>
        <p:blipFill>
          <a:blip r:embed="rId1"/>
          <a:stretch/>
        </p:blipFill>
        <p:spPr>
          <a:xfrm>
            <a:off x="395280" y="390600"/>
            <a:ext cx="8164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In summery, the Uses of computer in the hospital can be categorized into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Handling and processing Medical Dat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Decision suppo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Medical educ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Medical search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 Monitor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ستطيل 5"/>
          <p:cNvSpPr/>
          <p:nvPr/>
        </p:nvSpPr>
        <p:spPr>
          <a:xfrm>
            <a:off x="63828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مستطيل 7"/>
          <p:cNvSpPr/>
          <p:nvPr/>
        </p:nvSpPr>
        <p:spPr>
          <a:xfrm>
            <a:off x="668664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مستطيل 8"/>
          <p:cNvSpPr/>
          <p:nvPr/>
        </p:nvSpPr>
        <p:spPr>
          <a:xfrm>
            <a:off x="3618000" y="5116680"/>
            <a:ext cx="2232000" cy="792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2" name="رابط كسهم مستقيم 10"/>
          <p:cNvCxnSpPr>
            <a:stCxn id="219" idx="3"/>
          </p:cNvCxnSpPr>
          <p:nvPr/>
        </p:nvCxnSpPr>
        <p:spPr>
          <a:xfrm>
            <a:off x="2869920" y="389232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3" name="رابط كسهم مستقيم 11"/>
          <p:cNvCxnSpPr/>
          <p:nvPr/>
        </p:nvCxnSpPr>
        <p:spPr>
          <a:xfrm>
            <a:off x="5370120" y="382860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4" name="مستطيل 19"/>
          <p:cNvSpPr/>
          <p:nvPr/>
        </p:nvSpPr>
        <p:spPr>
          <a:xfrm>
            <a:off x="3564000" y="189216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5" name="رابط كسهم مستقيم 21"/>
          <p:cNvCxnSpPr>
            <a:stCxn id="224" idx="2"/>
          </p:cNvCxnSpPr>
          <p:nvPr/>
        </p:nvCxnSpPr>
        <p:spPr>
          <a:xfrm>
            <a:off x="4679640" y="2684160"/>
            <a:ext cx="1080" cy="313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6" name="رابط كسهم مستقيم 23"/>
          <p:cNvCxnSpPr>
            <a:stCxn id="221" idx="0"/>
          </p:cNvCxnSpPr>
          <p:nvPr/>
        </p:nvCxnSpPr>
        <p:spPr>
          <a:xfrm flipV="1">
            <a:off x="4733640" y="4580640"/>
            <a:ext cx="1080" cy="5360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7" name="شكل بيضاوي 24"/>
          <p:cNvSpPr/>
          <p:nvPr/>
        </p:nvSpPr>
        <p:spPr>
          <a:xfrm>
            <a:off x="6421320" y="1616040"/>
            <a:ext cx="138132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شكل بيضاوي 25"/>
          <p:cNvSpPr/>
          <p:nvPr/>
        </p:nvSpPr>
        <p:spPr>
          <a:xfrm>
            <a:off x="1487520" y="16034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شكل بيضاوي 26"/>
          <p:cNvSpPr/>
          <p:nvPr/>
        </p:nvSpPr>
        <p:spPr>
          <a:xfrm>
            <a:off x="1487520" y="48578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شكل بيضاوي 27"/>
          <p:cNvSpPr/>
          <p:nvPr/>
        </p:nvSpPr>
        <p:spPr>
          <a:xfrm>
            <a:off x="6421320" y="4857840"/>
            <a:ext cx="138132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شكل بيضاوي 28"/>
          <p:cNvSpPr/>
          <p:nvPr/>
        </p:nvSpPr>
        <p:spPr>
          <a:xfrm>
            <a:off x="3989520" y="3130560"/>
            <a:ext cx="138096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rebuchet MS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2" name="رابط كسهم مستقيم 2"/>
          <p:cNvCxnSpPr>
            <a:stCxn id="228" idx="5"/>
          </p:cNvCxnSpPr>
          <p:nvPr/>
        </p:nvCxnSpPr>
        <p:spPr>
          <a:xfrm>
            <a:off x="2666880" y="2720520"/>
            <a:ext cx="1323360" cy="637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3" name="رابط كسهم مستقيم 16"/>
          <p:cNvCxnSpPr/>
          <p:nvPr/>
        </p:nvCxnSpPr>
        <p:spPr>
          <a:xfrm flipV="1">
            <a:off x="2869920" y="4465440"/>
            <a:ext cx="1236960" cy="651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4" name="رابط كسهم مستقيم 18"/>
          <p:cNvCxnSpPr/>
          <p:nvPr/>
        </p:nvCxnSpPr>
        <p:spPr>
          <a:xfrm flipH="1">
            <a:off x="5508360" y="2684520"/>
            <a:ext cx="1008720" cy="6739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5" name="رابط كسهم مستقيم 29"/>
          <p:cNvCxnSpPr>
            <a:stCxn id="230" idx="1"/>
          </p:cNvCxnSpPr>
          <p:nvPr/>
        </p:nvCxnSpPr>
        <p:spPr>
          <a:xfrm flipH="1" flipV="1">
            <a:off x="5381280" y="4279680"/>
            <a:ext cx="1242000" cy="7704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3640" y="549000"/>
            <a:ext cx="567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 Hospital Information System (H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s a comprehensive, integrated information system designed to meet all the information needs within a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t can be composed of one or a few software components with specialty-specific extensions as well as of a large variety of sub-systems in medical special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Users\user\AppData\Local\Microsoft\Windows\Temporary Internet Files\Content.IE5\81PKDDAC\System Interfaces.jpg"/>
          <p:cNvPicPr/>
          <p:nvPr/>
        </p:nvPicPr>
        <p:blipFill>
          <a:blip r:embed="rId1"/>
          <a:stretch/>
        </p:blipFill>
        <p:spPr>
          <a:xfrm>
            <a:off x="60008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476280"/>
            <a:ext cx="678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pplication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A hospital information system has many different aspects incorporated within itsel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Technology allows for the information within these systems to flow more easily and more accuratel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Some of these systems include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1- Laboratory Information System (L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2- Nursing Information System (N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3-Picture Archiving Communication System (PAC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4-Radiology Information System (RIS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Pharamacy Information System (P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-Adminstration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-Financial Information System (FIS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Common Features:-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Registration and scheduling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List Management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terface with different modaliti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partment workflow managem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ques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ult(s) Ent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porting and printou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Tracking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odality and Material managemen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formation storage and backup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http://www.goomedic.com/wp-content/uploads/2009/07/hospitalgate.jpeg"/>
          <p:cNvPicPr/>
          <p:nvPr/>
        </p:nvPicPr>
        <p:blipFill>
          <a:blip r:embed="rId1"/>
          <a:stretch/>
        </p:blipFill>
        <p:spPr>
          <a:xfrm>
            <a:off x="250920" y="27288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Advantages of HI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-Improved quality of patient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-Improved communications within the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-Increased productivit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-Reduced chances of error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Reduced co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08:13Z</dcterms:created>
  <dc:creator>Hassan</dc:creator>
  <dc:description/>
  <dc:language>en-US</dc:language>
  <cp:lastModifiedBy>FAISAL</cp:lastModifiedBy>
  <dcterms:modified xsi:type="dcterms:W3CDTF">2012-12-09T07:53:36Z</dcterms:modified>
  <cp:revision>55</cp:revision>
  <dc:subject/>
  <dc:title>Information Systems</dc:title>
</cp:coreProperties>
</file>