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5082-B9C4-4098-B3DB-E22E8429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7E1-3CFB-4F1E-86E9-D7EA1699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151D-CDBD-4DFA-93C2-328FD1F4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E34-5086-4220-B581-C601D505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9A84-2BE4-404A-A30B-0756AF99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637-BA39-4DCA-A136-FFBF6375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D1F-395B-45F9-8E21-6783D566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72D1-E9E3-4A73-B384-2C1EE4C8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E4E-AAFA-4359-9297-70FA4D3F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508-5515-45A6-817F-19CF1437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C15D-E3A8-4979-9E2C-EA7FADFF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1CB-02C5-4847-B25E-D034C8D4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3AE3-908D-4DE4-8BB9-FF612B97DA7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840" y="1599840"/>
            <a:ext cx="864396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rofessor Dr. Ibraheem B. M. Ibrahe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rofessor of Micro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Applied Phycolo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https://portal.ksu.edu.sa/faculty/iborie/mic-140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1714680" y="1928880"/>
            <a:ext cx="5786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Micro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ortance of Micro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istory of Micro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1403280" y="85716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yllabus of Mbio 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1143000" y="785880"/>
            <a:ext cx="700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 Kingdom : Mon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cteria and Cyano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 Kingdom : Pro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ue algae and Protoz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. Kingdom : Fu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study of fun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 Vir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study of 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 Controlling of Microbial Grow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. I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05:50:36Z</dcterms:created>
  <dc:creator>DTK</dc:creator>
  <dc:description/>
  <dc:language>en-US</dc:language>
  <cp:lastModifiedBy>DTK</cp:lastModifiedBy>
  <dcterms:modified xsi:type="dcterms:W3CDTF">2013-02-02T08:09:44Z</dcterms:modified>
  <cp:revision>9</cp:revision>
  <dc:subject/>
  <dc:title>Slide 1</dc:title>
</cp:coreProperties>
</file>