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043-D466-45E9-BCF4-EF4483BA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814-A732-4B38-8C10-E3D2CAC2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C40-5F38-4941-93E7-C7F2608FD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533-5254-4AF6-8D29-B7AAB1CA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384F-FF8A-49E0-AC26-857DAF95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A88-41F8-46F9-91BD-50F7905D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EE5-9056-4792-BA3F-B136879A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A99-DA39-4359-A9C3-A1E7DB4F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479D-0E66-4B34-8BF5-921D209E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2DD-16C2-4DF4-926F-D95414A4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696-EEED-4D2E-82F0-6C5FFE12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DC4-4AE5-4ABC-A4B0-DFAC30F8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FDD2-0F2F-40C5-B69F-B3438F6E18A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3840" y="1599840"/>
            <a:ext cx="864396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rofessor Dr. Ibraheem B. M. Ibrahe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Professor of Micro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Applied Phycolo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https://portal.ksu.edu.sa/faculty/iborie/mic-140-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1714680" y="1928880"/>
            <a:ext cx="5786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Micro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rtance of Micro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story of Micro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1403280" y="85716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yllabus of Mbio 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1143000" y="785880"/>
            <a:ext cx="700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Kingdom : Mon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cteria and Cyano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Kingdom : Pro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ue algae and Protoz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Kingdom : Fun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study of fun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 Vir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study of 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 Controlling of Microbial Grow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. I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05:50:36Z</dcterms:created>
  <dc:creator>DTK</dc:creator>
  <dc:description/>
  <dc:language>en-US</dc:language>
  <cp:lastModifiedBy>DTK</cp:lastModifiedBy>
  <dcterms:modified xsi:type="dcterms:W3CDTF">2013-02-02T08:09:44Z</dcterms:modified>
  <cp:revision>9</cp:revision>
  <dc:subject/>
  <dc:title>Slide 1</dc:title>
</cp:coreProperties>
</file>