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971E-8BFA-4D56-A980-2403C3FDA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C41A-C743-44C1-9523-4D1EF0D4A6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CF63-B926-49C1-A6A8-3876D29641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3781-0FC9-4291-BB87-5D1A126B03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C77B-D354-45CE-A3E8-23A1BE6D07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79B1-0815-4741-9AAA-096179C3AF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D9A1-2828-403D-975E-AE3C4E3C50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9755-6E6A-4ABA-BA03-0235F49D4B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536E-72C4-4A3D-A7C5-99399F37A4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93D2-271E-4895-9A42-CD32FDF37C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C8BF-7CF6-468A-8A5E-3F696919C6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D0EB-A141-4B92-B674-315FE1C1DE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10F5-C967-4C77-B6EA-171D9F4E7A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6576-017A-438A-B694-2A272E0FF3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70D1-AB4E-4178-9E70-E13B8C6184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CA8D-76E3-44B1-97D5-C0A3DF80FE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002F-0B67-4412-8CF1-BC0B89175B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693E-F41C-4D60-8CFA-FEC56B0A54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7FEF-62A9-453E-A3AE-22FF886DE6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0953-066F-40D4-AE9E-4DA9354E9E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6201-1485-4EEA-8072-0B1C3D1531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239-B2F8-4343-9F1C-F9A45824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621-65BF-4F9C-806C-11916159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156-034B-4510-BE2D-C521914D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BBC-3EC9-4D9F-B735-E6258865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C1D1-A53A-4ABE-B192-FCDC3E3B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269C-A554-4A13-80DA-767FD46C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0B7D-86D2-4CAC-A4B7-D680DFAB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5EEF-8259-4DCE-AC1E-E9B4D2DB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77E7-84C3-41B9-A372-18E7CC2E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12C5-3B13-44FE-8D6D-616E2396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B915-A980-426F-BB28-2BE3F6B0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C77-2903-4A1C-B71D-F2B5E4DE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E4CE-76B3-4791-BF24-06DB6736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AFA3-FC9C-4108-9DDD-7E3D0978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3CFE-75C4-4BBB-B844-E6075E6B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2D1C-5195-488F-B365-FE66A553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D28A-578E-4777-9FEC-5ECA06EB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779-A69E-4ACB-8CF0-1BDC9A1C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AA7-05B9-4CAC-AB57-767F1F6A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994-CC01-4645-9112-472FF6B9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EF4-E0A4-4161-B22C-FC2D3E00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5EF-7C55-4CC4-B7AA-208C578A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DEF-18FB-4863-A7DC-D0AA278B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228-1FEA-459D-AF2E-9A410CBF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C79F-5DCC-4192-8C1D-17A29818A8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1D6D-F93A-4DBB-B382-EF05591CEB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ntroduction to Light and Polarized Ligh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fractive Index (RI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ractive Index is the ration of the speed of light in a vacuum to the speed of light in another mediu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ed of light in a vacuum is always faster than in any other medium so all RI values are &gt;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 of minerals range from1.32 to 2.40, with most between 1.50 and 1.8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228600" y="1905120"/>
            <a:ext cx="861048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LIEF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A Visual Estimate of Relative Refractive Indic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7" descr="Relief Plate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04920" y="1676520"/>
            <a:ext cx="85341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CKE LINE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An Indicator of Positive or Negative Relief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Picture 7" descr="Becke Line Explanation"/>
          <p:cNvPicPr/>
          <p:nvPr/>
        </p:nvPicPr>
        <p:blipFill>
          <a:blip r:embed="rId1"/>
          <a:stretch/>
        </p:blipFill>
        <p:spPr>
          <a:xfrm>
            <a:off x="380880" y="1752480"/>
            <a:ext cx="8305920" cy="2014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419112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ke line moves into higher RI when stage is lower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ositive relie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Greater than epoxy (1.54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gative relie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ess than epoxy (1.5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" descr="becke2"/>
          <p:cNvPicPr/>
          <p:nvPr/>
        </p:nvPicPr>
        <p:blipFill>
          <a:blip r:embed="rId2"/>
          <a:stretch/>
        </p:blipFill>
        <p:spPr>
          <a:xfrm>
            <a:off x="7162920" y="4114800"/>
            <a:ext cx="1677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Vibration and Polarization of Ligh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51055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light waves vibrate in all planes that are perpendicular with respect to the direction of propag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electric field vectors are restricted to a single plane by filtration of the beam with specialized materials, then the light is referred to a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lariz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ith respect to the direction of propagatio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polarizersjavafigure1"/>
          <p:cNvPicPr/>
          <p:nvPr/>
        </p:nvPicPr>
        <p:blipFill>
          <a:blip r:embed="rId1"/>
          <a:stretch/>
        </p:blipFill>
        <p:spPr>
          <a:xfrm>
            <a:off x="1523880" y="1219320"/>
            <a:ext cx="62485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larizing Fil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29200" y="13716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arizing filters are materials in which electrons can move freely in one direction but not another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uitively, you might think light polarized parallel to the direction of freedom might be able to "slip through". In fact, the opposite is the case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polarized parallel to the easy direction moves the electrons back and forth. In the process it does work and is absorbed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oriented perpendicular to that direction cannot move the electrons very much, does no work, and passes throug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polarfil"/>
          <p:cNvPicPr/>
          <p:nvPr/>
        </p:nvPicPr>
        <p:blipFill>
          <a:blip r:embed="rId1"/>
          <a:stretch/>
        </p:blipFill>
        <p:spPr>
          <a:xfrm>
            <a:off x="380880" y="1447920"/>
            <a:ext cx="44960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larizing Filters on a PL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0" y="13716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wer polarizing filter (polarizer) allows “N-S” vibrating light to p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pper polarizer (analyzer) allows “E-W” vibrating light to p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6" descr="E200POL"/>
          <p:cNvPicPr/>
          <p:nvPr/>
        </p:nvPicPr>
        <p:blipFill>
          <a:blip r:embed="rId1"/>
          <a:stretch/>
        </p:blipFill>
        <p:spPr>
          <a:xfrm>
            <a:off x="533520" y="1523880"/>
            <a:ext cx="441936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otropic vs Anisotropic Min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otropic miner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e the same structure, composition and properties in all dir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isotropic miner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vast majority of minerals) have structures, and/or compositions, and properties that vary with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isotropic Min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sotropic minerals may exhibit variations in their optical properties under a PLM as a sample is rotated as a result of the variation in chemical properties with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EOCHROISM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nge in Color with Orientation of Mineral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Picture 6" descr="pleo1_0"/>
          <p:cNvPicPr/>
          <p:nvPr/>
        </p:nvPicPr>
        <p:blipFill>
          <a:blip r:embed="rId1"/>
          <a:stretch/>
        </p:blipFill>
        <p:spPr>
          <a:xfrm>
            <a:off x="457200" y="184644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pleo1_90"/>
          <p:cNvPicPr/>
          <p:nvPr/>
        </p:nvPicPr>
        <p:blipFill>
          <a:blip r:embed="rId2"/>
          <a:stretch/>
        </p:blipFill>
        <p:spPr>
          <a:xfrm>
            <a:off x="4648320" y="184644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ARIABLE RELIEF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nge in Relief with Orientation of Mineral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7" descr="calcite relief low"/>
          <p:cNvPicPr/>
          <p:nvPr/>
        </p:nvPicPr>
        <p:blipFill>
          <a:blip r:embed="rId1"/>
          <a:stretch/>
        </p:blipFill>
        <p:spPr>
          <a:xfrm>
            <a:off x="685800" y="18288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alcite relief high"/>
          <p:cNvPicPr/>
          <p:nvPr/>
        </p:nvPicPr>
        <p:blipFill>
          <a:blip r:embed="rId2"/>
          <a:stretch/>
        </p:blipFill>
        <p:spPr>
          <a:xfrm>
            <a:off x="4876920" y="18288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919440" y="56386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te: Lower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5110920" y="563868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te: Higher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finition of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is electromagnetic radiation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exhibits properties of both a particle (e.g., ability to travel through a vacuum) and a wave (e.g, interference and polariz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understanding behavior of light in minerals we can focus on the wave properties of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71440" y="152388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ractive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ke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a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-polar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tr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sotr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ochro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pects of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(height of wave) corresponds to the intensity (brightness) of ligh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length corresponds to the energy of 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visible spectrum wavelength corresponds to co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Wavelength_348x126"/>
          <p:cNvPicPr/>
          <p:nvPr/>
        </p:nvPicPr>
        <p:blipFill>
          <a:blip r:embed="rId1"/>
          <a:stretch/>
        </p:blipFill>
        <p:spPr>
          <a:xfrm>
            <a:off x="609480" y="1371600"/>
            <a:ext cx="80773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velength of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956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ble light is only a tiny, moderate energy fraction of the electromagnetic spect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er wavelengths (e.g., radio waves) have les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er wavelengths have mor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wavelength_figure"/>
          <p:cNvPicPr/>
          <p:nvPr/>
        </p:nvPicPr>
        <p:blipFill>
          <a:blip r:embed="rId1"/>
          <a:stretch/>
        </p:blipFill>
        <p:spPr>
          <a:xfrm>
            <a:off x="380880" y="1295280"/>
            <a:ext cx="3921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Why is the Visible Spectrum Visible?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6" descr="ems-atm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bsorption and Emission of Ligh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T028540A"/>
          <p:cNvPicPr/>
          <p:nvPr/>
        </p:nvPicPr>
        <p:blipFill>
          <a:blip r:embed="rId1"/>
          <a:stretch/>
        </p:blipFill>
        <p:spPr>
          <a:xfrm>
            <a:off x="533520" y="1708200"/>
            <a:ext cx="81532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bsorption Results in Color</a:t>
            </a:r>
            <a:br>
              <a:rPr sz="4000"/>
            </a:b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(A Familiar Example from Biology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5" descr="sf7x4c"/>
          <p:cNvPicPr/>
          <p:nvPr/>
        </p:nvPicPr>
        <p:blipFill>
          <a:blip r:embed="rId1"/>
          <a:stretch/>
        </p:blipFill>
        <p:spPr>
          <a:xfrm>
            <a:off x="533520" y="1828800"/>
            <a:ext cx="8024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ed of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eed of light varies with the media through which it pass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moves fastest in a vacuu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/s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moves slower in other medi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.g., 1.2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/s in diamo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14800" y="144792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action is the change in direction of a wave due to a change in its velocity when a wave passes from one medium to another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light passes from a less dense medium to a more dense medium, the wave will bend toward the normal (perpendicular to the interfa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Fig4b"/>
          <p:cNvPicPr/>
          <p:nvPr/>
        </p:nvPicPr>
        <p:blipFill>
          <a:blip r:embed="rId1"/>
          <a:stretch/>
        </p:blipFill>
        <p:spPr>
          <a:xfrm>
            <a:off x="380880" y="1066680"/>
            <a:ext cx="3651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23:43:46Z</dcterms:created>
  <dc:creator>authorized user</dc:creator>
  <dc:description/>
  <dc:language>en-US</dc:language>
  <cp:lastModifiedBy>ksu</cp:lastModifiedBy>
  <dcterms:modified xsi:type="dcterms:W3CDTF">2011-10-31T23:00:47Z</dcterms:modified>
  <cp:revision>19</cp:revision>
  <dc:subject/>
  <dc:title>Minerals and Their  Physical Properties</dc:title>
</cp:coreProperties>
</file>