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89B7-C7C3-47E2-914B-A43E80869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305A-B0D2-4B56-871A-4A5DF0AC54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BCEB-443C-4146-AE0F-F3AFD9B017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5B50-6D57-40BF-9758-5CD7400E06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34B1-BA2D-48D3-A876-3169AA62D6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53B3-5F76-48F9-AEAF-80BC0DA0CE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BF98-7F48-46F7-AD7F-D7CFDCF846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190D-DBF2-47AE-8B78-99CBD6DF9B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3F91-84C1-40CB-853A-AD66285DBC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ABFF-90C3-4B48-B8B0-CE6AAC64A4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B403-9DD1-4E7E-B552-6FCCBAAC5A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0BAA-74AB-4892-AC4D-FF57394E19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E6EC-D1BF-46C2-805A-8B08EAAC7B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B54A-AD59-40C7-8AF1-7467ADA84A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1696-A701-4376-9EFB-FDBBAC6AA5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8B20-50EE-4C57-9843-70AB941C64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61DB-66A2-47F0-B255-C6B527EE54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BE59-B3A8-412A-B220-C12299527F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050C-B6B7-4A22-B6BF-972B6AD693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135A-9D14-4320-97F7-291D50B130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0828-AC9A-4BDE-A3A2-BE5102422C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03C-EED7-4328-A78E-2023D21C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F1C-13E2-42B9-800E-1E22FE75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FA6-CFBE-4109-B397-BB9E44CE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CAF-FF58-4ED2-8165-A16BFD42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A5C9-ADC0-4D59-8F91-25F0DDDE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AC5F-C919-4B48-86BF-57E0C73D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83A4-1F64-4262-9823-458FE4D1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A377-6A97-43C1-86BF-4BF014EF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055E-258E-455F-BA0B-C40E4C76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4C8D-59BA-4199-8A6F-17509468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1D89-6341-4209-95E0-6F7D0E51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074-C426-4FB3-AA1A-6A9C14B2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526C-FFE5-4013-8C40-EE9B764C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3760-EAE2-412C-B32F-54B4D552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D0C9-8E5C-4D97-A76C-A4916691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9565-D246-4E64-9E0C-F447007D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464C-BF9A-4CDD-A721-D646A819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5CF-FA5E-4A6A-947B-D0A1574D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4D7B-D71C-41DA-B193-5A23B169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16C-8778-4FF9-8261-0A3BE749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5C8-FF49-4D0D-B235-636B55C6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291-A949-4352-A2E6-3F83B44C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D2F-A2F6-468A-AE8B-4E0BE37C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CC8-EB61-4929-B862-BA487C81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62EB-410C-43DD-B8CF-09C0D8C6F6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0C44-245A-41D2-98F2-7A4CB54729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troduction to Light and Polarized Ligh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ractive Index (RI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ractive Index is the ration of the speed of light in a vacuum to the speed of light in another mediu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ed of light in a vacuum is always faster than in any other medium so all RI values are &gt;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 of minerals range from1.32 to 2.40, with most between 1.50 and 1.8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228600" y="1905120"/>
            <a:ext cx="861048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LIEF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A Visual Estimate of Relative Refractive Indic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7" descr="Relief Plate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04920" y="1676520"/>
            <a:ext cx="85341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CKE LINE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An Indicator of Positive or Negative Relief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Picture 7" descr="Becke Line Explanation"/>
          <p:cNvPicPr/>
          <p:nvPr/>
        </p:nvPicPr>
        <p:blipFill>
          <a:blip r:embed="rId1"/>
          <a:stretch/>
        </p:blipFill>
        <p:spPr>
          <a:xfrm>
            <a:off x="380880" y="1752480"/>
            <a:ext cx="8305920" cy="2014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419112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ke line moves into higher RI when stage is lower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ositive relie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Greater than epoxy (1.54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gative relie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ess than epoxy (1.5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" descr="becke2"/>
          <p:cNvPicPr/>
          <p:nvPr/>
        </p:nvPicPr>
        <p:blipFill>
          <a:blip r:embed="rId2"/>
          <a:stretch/>
        </p:blipFill>
        <p:spPr>
          <a:xfrm>
            <a:off x="7162920" y="4114800"/>
            <a:ext cx="1677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Vibration and Polarization of Ligh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51055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light waves vibrate in all planes that are perpendicular with respect to the direction of propag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electric field vectors are restricted to a single plane by filtration of the beam with specialized materials, then the light is referred to a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lariz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 respect to the direction of propagatio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polarizersjavafigure1"/>
          <p:cNvPicPr/>
          <p:nvPr/>
        </p:nvPicPr>
        <p:blipFill>
          <a:blip r:embed="rId1"/>
          <a:stretch/>
        </p:blipFill>
        <p:spPr>
          <a:xfrm>
            <a:off x="1523880" y="1219320"/>
            <a:ext cx="62485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larizing Fil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29200" y="13716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izing filters are materials in which electrons can move freely in one direction but not another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uitively, you might think light polarized parallel to the direction of freedom might be able to "slip through". In fact, the opposite is the case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polarized parallel to the easy direction moves the electrons back and forth. In the process it does work and is absorbed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oriented perpendicular to that direction cannot move the electrons very much, does no work, and passes throug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polarfil"/>
          <p:cNvPicPr/>
          <p:nvPr/>
        </p:nvPicPr>
        <p:blipFill>
          <a:blip r:embed="rId1"/>
          <a:stretch/>
        </p:blipFill>
        <p:spPr>
          <a:xfrm>
            <a:off x="380880" y="1447920"/>
            <a:ext cx="44960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larizing Filters on a PL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0" y="13716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wer polarizing filter (polarizer) allows “N-S” vibrating light to p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pper polarizer (analyzer) allows “E-W” vibrating light to p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6" descr="E200POL"/>
          <p:cNvPicPr/>
          <p:nvPr/>
        </p:nvPicPr>
        <p:blipFill>
          <a:blip r:embed="rId1"/>
          <a:stretch/>
        </p:blipFill>
        <p:spPr>
          <a:xfrm>
            <a:off x="533520" y="1523880"/>
            <a:ext cx="441936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otropic vs Anisotropic Min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otropic miner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e the same structure, composition and properties in all dir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isotropic miner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vast majority of minerals) have structures, and/or compositions, and properties that vary with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isotropic Min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sotropic minerals may exhibit variations in their optical properties under a PLM as a sample is rotated as a result of the variation in chemical properties with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EOCHROISM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nge in Color with Orientation of Mineral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Picture 6" descr="pleo1_0"/>
          <p:cNvPicPr/>
          <p:nvPr/>
        </p:nvPicPr>
        <p:blipFill>
          <a:blip r:embed="rId1"/>
          <a:stretch/>
        </p:blipFill>
        <p:spPr>
          <a:xfrm>
            <a:off x="457200" y="184644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pleo1_90"/>
          <p:cNvPicPr/>
          <p:nvPr/>
        </p:nvPicPr>
        <p:blipFill>
          <a:blip r:embed="rId2"/>
          <a:stretch/>
        </p:blipFill>
        <p:spPr>
          <a:xfrm>
            <a:off x="4648320" y="184644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ARIABLE RELIEF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nge in Relief with Orientation of Mineral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7" descr="calcite relief low"/>
          <p:cNvPicPr/>
          <p:nvPr/>
        </p:nvPicPr>
        <p:blipFill>
          <a:blip r:embed="rId1"/>
          <a:stretch/>
        </p:blipFill>
        <p:spPr>
          <a:xfrm>
            <a:off x="685800" y="18288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alcite relief high"/>
          <p:cNvPicPr/>
          <p:nvPr/>
        </p:nvPicPr>
        <p:blipFill>
          <a:blip r:embed="rId2"/>
          <a:stretch/>
        </p:blipFill>
        <p:spPr>
          <a:xfrm>
            <a:off x="4876920" y="18288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919440" y="56386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te: Lower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5110920" y="563868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te: Higher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finition of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is electromagnetic radiation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exhibits properties of both a particle (e.g., ability to travel through a vacuum) and a wave (e.g, interference and polariz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understanding behavior of light in minerals we can focus on the wave properties of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71440" y="152388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ractive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ke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a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-polar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tr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sotr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ochro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pects of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(height of wave) corresponds to the intensity (brightness) of ligh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length corresponds to the energy of 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visible spectrum wavelength corresponds to co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Wavelength_348x126"/>
          <p:cNvPicPr/>
          <p:nvPr/>
        </p:nvPicPr>
        <p:blipFill>
          <a:blip r:embed="rId1"/>
          <a:stretch/>
        </p:blipFill>
        <p:spPr>
          <a:xfrm>
            <a:off x="609480" y="1371600"/>
            <a:ext cx="80773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velength of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956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ble light is only a tiny, moderate energy fraction of the electromagnetic spect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er wavelengths (e.g., radio waves) have les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er wavelengths have mor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wavelength_figure"/>
          <p:cNvPicPr/>
          <p:nvPr/>
        </p:nvPicPr>
        <p:blipFill>
          <a:blip r:embed="rId1"/>
          <a:stretch/>
        </p:blipFill>
        <p:spPr>
          <a:xfrm>
            <a:off x="380880" y="1295280"/>
            <a:ext cx="3921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Why is the Visible Spectrum Visible?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6" descr="ems-atm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bsorption and Emission of Ligh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T028540A"/>
          <p:cNvPicPr/>
          <p:nvPr/>
        </p:nvPicPr>
        <p:blipFill>
          <a:blip r:embed="rId1"/>
          <a:stretch/>
        </p:blipFill>
        <p:spPr>
          <a:xfrm>
            <a:off x="533520" y="1708200"/>
            <a:ext cx="81532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bsorption Results in Color</a:t>
            </a:r>
            <a:br>
              <a:rPr sz="4000"/>
            </a:b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(A Familiar Example from Biology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5" descr="sf7x4c"/>
          <p:cNvPicPr/>
          <p:nvPr/>
        </p:nvPicPr>
        <p:blipFill>
          <a:blip r:embed="rId1"/>
          <a:stretch/>
        </p:blipFill>
        <p:spPr>
          <a:xfrm>
            <a:off x="533520" y="1828800"/>
            <a:ext cx="8024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ed of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eed of light varies with the media through which it pass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moves fastest in a vacuu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/s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moves slower in other medi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.g., 1.2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/s in diamo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14800" y="144792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action is the change in direction of a wave due to a change in its velocity when a wave passes from one medium to another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light passes from a less dense medium to a more dense medium, the wave will bend toward the normal (perpendicular to the interfa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Fig4b"/>
          <p:cNvPicPr/>
          <p:nvPr/>
        </p:nvPicPr>
        <p:blipFill>
          <a:blip r:embed="rId1"/>
          <a:stretch/>
        </p:blipFill>
        <p:spPr>
          <a:xfrm>
            <a:off x="380880" y="1066680"/>
            <a:ext cx="3651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23:43:46Z</dcterms:created>
  <dc:creator>authorized user</dc:creator>
  <dc:description/>
  <dc:language>en-US</dc:language>
  <cp:lastModifiedBy>ksu</cp:lastModifiedBy>
  <dcterms:modified xsi:type="dcterms:W3CDTF">2011-10-31T23:00:47Z</dcterms:modified>
  <cp:revision>19</cp:revision>
  <dc:subject/>
  <dc:title>Minerals and Their  Physical Properties</dc:title>
</cp:coreProperties>
</file>