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AC8-FED7-41A4-83AD-B7D270DF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14F-D242-4295-8376-FF8131BFF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006E-774F-4500-9706-01A21B24AB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AC51-EEF7-4646-8CE8-81AEA2F83D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352-9757-4C17-9F2D-E12AC21268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894A-3DE8-45B9-AFF7-AC4C78E92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BD0-D69E-4C11-B443-D0FA06814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AC95-DD06-4F48-8CE6-E9D600EB7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CD71-C5DE-4658-9821-4B6498E82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5C9-92C7-45FB-8A9C-949816D2D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498E-FC8A-4BF8-8A2A-2740D2AFC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822-497F-4FA1-A602-DA8845B07A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2E0D-3FF1-44FC-9679-D37169423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873-7DF6-486E-A460-30B0DE3829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619D-4EB2-4081-A8E9-C6BBDABF8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E5E-B626-4660-929C-A9CEA8CE4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703-EBB4-4876-B54B-CC7AE7985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5646-3718-4F58-8B52-0E8E0738B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F11-4137-4756-8824-D769A36AF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CC60-0416-48C6-8D87-00DA80C942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3F7-87FF-4053-BDB1-62892187E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93A-37D6-4CB7-B4A7-51DBDC58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A31-86A5-461E-AA2E-E986027C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6DB-A9C5-4CEE-BF2B-BF1D69D2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D6B-2815-4503-A1D2-12D809C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0138-0664-4C6E-A621-FB4F0C3D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D6F-E29C-472E-A6B6-2FE51BD4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A02A-7888-4510-B3D2-9DCF77D6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D71-F00E-4B2E-B150-2065F91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5931-91F6-4D4B-B110-7E40F19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A6C-82F1-4C62-B359-B356DED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B3AF-EAB5-4934-8F98-E2C88C0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E97-6079-4607-BF99-481AA38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5B23-9A53-499A-B2DF-2E94C9A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CF20-9B5D-4653-AEE8-30E5ABB0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A246-48A1-472E-A9EC-58FD39B6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883-DD80-479B-8019-7972619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51D-12C4-48FA-BE05-8965BE4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C10-334A-4E10-8C80-6113F1F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034-79DA-44AA-B121-C3CB05D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A0A-5935-49FB-9ED3-DC30070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598-B3F6-46B5-97D8-7864634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346-F8AE-4FB3-A5DA-298E209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479-8249-438B-9F18-E87FFF8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B98-BB37-4C54-B0AE-DEE0A37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576-DDE6-442A-8F32-F723CFFC8C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BB21-1ADD-4B66-A334-08E015D7B6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Light and Polarized L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ve Index (R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 is the ration of the speed of light in a vacuum to the speed of light in another med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in a vacuum is always faster than in any other medium so all RI values are &gt;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of minerals range from1.32 to 2.40, with most between 1.50 and 1.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228600" y="1905120"/>
            <a:ext cx="86104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EF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 Visual Estimate of Relative Refractive Indic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Relief Plate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04920" y="1676520"/>
            <a:ext cx="853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CKE LIN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n Indicator of Positive or Negative Relief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7" descr="Becke Line Explanation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201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e line moves into higher RI when stage is lowe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i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reater than epoxy (1.5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ga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ess than epoxy (1.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becke2"/>
          <p:cNvPicPr/>
          <p:nvPr/>
        </p:nvPicPr>
        <p:blipFill>
          <a:blip r:embed="rId2"/>
          <a:stretch/>
        </p:blipFill>
        <p:spPr>
          <a:xfrm>
            <a:off x="7162920" y="4114800"/>
            <a:ext cx="1677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ibration and Polarizat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light waves vibrate in all planes that are perpendicular with respect to the direction of propa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electric field vectors are restricted to a single plane by filtration of the beam with specialized materials, then the light is referred to 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ariz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respect to the direction of propag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polarizersjavafigure1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ing filters are materials in which electrons can move freely in one direction but not another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uitively, you might think light polarized parallel to the direction of freedom might be able to "slip through". In fact, the opposite is the cas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polarized parallel to the easy direction moves the electrons back and forth. In the process it does work and is absorbe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oriented perpendicular to that direction cannot move the electrons very much, does no work, and passes throug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polarfil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 on a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wer polarizing filter (polarizer) allows “N-S” vibrating light to p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per polarizer (analyzer) allows “E-W” vibrating light to 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E200POL"/>
          <p:cNvPicPr/>
          <p:nvPr/>
        </p:nvPicPr>
        <p:blipFill>
          <a:blip r:embed="rId1"/>
          <a:stretch/>
        </p:blipFill>
        <p:spPr>
          <a:xfrm>
            <a:off x="533520" y="1523880"/>
            <a:ext cx="44193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ropic vs 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he same structure, composition and properties in all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ast majority of minerals) have structures, and/or compositions, and properties that vary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sotropic minerals may exhibit variations in their optical properties under a PLM as a sample is rotated as a result of the variation in chemical properties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OCHROISM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Color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6" descr="pleo1_0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leo1_90"/>
          <p:cNvPicPr/>
          <p:nvPr/>
        </p:nvPicPr>
        <p:blipFill>
          <a:blip r:embed="rId2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ARIABLE RELIEF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Relief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7" descr="calcite relief low"/>
          <p:cNvPicPr/>
          <p:nvPr/>
        </p:nvPicPr>
        <p:blipFill>
          <a:blip r:embed="rId1"/>
          <a:stretch/>
        </p:blipFill>
        <p:spPr>
          <a:xfrm>
            <a:off x="6858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alcite relief high"/>
          <p:cNvPicPr/>
          <p:nvPr/>
        </p:nvPicPr>
        <p:blipFill>
          <a:blip r:embed="rId2"/>
          <a:stretch/>
        </p:blipFill>
        <p:spPr>
          <a:xfrm>
            <a:off x="4876920" y="1828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19440" y="56386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Low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0920" y="56386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High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tion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s electromagnetic radiatio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exhibits properties of both a particle (e.g., ability to travel through a vacuum) and a wave (e.g, interference and polariz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nderstanding behavior of light in minerals we can focus on the wave properties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5238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-po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ochr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pects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(height of wave) corresponds to the intensity (brightness) of l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 corresponds to the energ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visible spectrum wavelength corresponds to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Wavelength_348x126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velength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only a tiny, moderate energy fraction of the electromagnetic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wavelengths (e.g., radio waves) have les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wavelengths hav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wavelength_figure"/>
          <p:cNvPicPr/>
          <p:nvPr/>
        </p:nvPicPr>
        <p:blipFill>
          <a:blip r:embed="rId1"/>
          <a:stretch/>
        </p:blipFill>
        <p:spPr>
          <a:xfrm>
            <a:off x="380880" y="1295280"/>
            <a:ext cx="392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Why is the Visible Spectrum Visible?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ems-atm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and Emiss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T028540A"/>
          <p:cNvPicPr/>
          <p:nvPr/>
        </p:nvPicPr>
        <p:blipFill>
          <a:blip r:embed="rId1"/>
          <a:stretch/>
        </p:blipFill>
        <p:spPr>
          <a:xfrm>
            <a:off x="533520" y="1708200"/>
            <a:ext cx="815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Results in Color</a:t>
            </a:r>
            <a:br>
              <a:rPr sz="40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A Familiar Example from Biology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5" descr="sf7x4c"/>
          <p:cNvPicPr/>
          <p:nvPr/>
        </p:nvPicPr>
        <p:blipFill>
          <a:blip r:embed="rId1"/>
          <a:stretch/>
        </p:blipFill>
        <p:spPr>
          <a:xfrm>
            <a:off x="533520" y="1828800"/>
            <a:ext cx="8024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ed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eed of light varies with the media through which it pas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fastest in a vacu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slower in other medi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, 1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 in diam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ction is the change in direction of a wave due to a change in its velocity when a wave passes from one medium to anoth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light passes from a less dense medium to a more dense medium, the wave will bend toward the normal (perpendicular to the inter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Fig4b"/>
          <p:cNvPicPr/>
          <p:nvPr/>
        </p:nvPicPr>
        <p:blipFill>
          <a:blip r:embed="rId1"/>
          <a:stretch/>
        </p:blipFill>
        <p:spPr>
          <a:xfrm>
            <a:off x="380880" y="1066680"/>
            <a:ext cx="36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3:00:47Z</dcterms:modified>
  <cp:revision>19</cp:revision>
  <dc:subject/>
  <dc:title>Minerals and Their  Physical Properties</dc:title>
</cp:coreProperties>
</file>