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E47E-178B-4903-BCD6-344F9E411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0ADB-31B4-48E3-8017-A71EB2AFC9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8057-F498-4595-B286-0BABF701E5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AAF0-99DB-40E8-8811-ABCCA8CE02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5E6B-45CD-4244-A192-6592C514B6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0C1F-8442-4557-AC88-1C1C2D02C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00A0-C7FE-4777-A3FB-4446E2D800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61BE-E047-46CB-BF5A-D51EA7001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476-20C2-4988-BBBD-71627B683E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4369-B3F0-42FE-9619-8C6E1D7A6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E219-9CF0-4561-A62B-659406495C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9474-D415-42CE-8726-0692E4492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2E34-180E-412B-BB94-A2DF7870C2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2AE6-141A-4260-B1E5-3A3D04B7CF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31A5-DAA7-4F47-BF41-34EE20DAC3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4416-6BA0-400C-A91D-3AACB39F9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819-BC2A-40FC-90B1-1F35E9E11E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586-528B-4EA1-BAB6-133A19329B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F604-E8E0-4CB1-8825-53866735E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7EAF-A0FF-43AA-A1D4-87EDF975C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CB3B-66DE-449D-969B-B5D1435353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415-F9BA-4848-8967-123AFEC9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30D-6D0D-487D-A801-E8082EA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DDB-87BD-4BF3-AFD8-DE73E2D7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E9B-31B0-4F98-AE0C-30473D5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A75C-CEAE-46EE-AF3F-26917A5C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C03D-928C-4D2E-8E2A-0AE8F1D8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A7D8-9B5C-4102-8536-5F27A6B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7E08-A666-4519-8EEF-4F67422D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1046-9BFF-4768-94D3-04B85B54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2AB-300F-4D18-8968-5C75D9B2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789F-6EB6-46C8-8524-188B31D2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9E5-7D09-4EC8-B101-59EA52B6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2F1-EC42-4074-85CE-8FC1B427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BD81-211D-4B70-A861-3BDB900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F826-0D82-4278-AB36-488BC88A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2886-6DDC-426A-B853-F7086A7D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F8E4-6CC5-4E99-8797-3960144F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250-693E-4766-87F1-3FCA367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A1B-ACC8-443B-96DD-BA9F5E7F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C4F-B941-4FE1-9A1A-D7F69A53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B5C-1077-4E42-8B93-7C7434F7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B5A-1628-4AD5-9061-116BA3A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28D-D4B4-4E81-8254-D27DFB3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909-7CBF-4E35-8972-86A6CE27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1A3-2B12-4961-9ECE-80AFD34DC0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D668-9813-449A-9BA7-FCE8AE0C0D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ntroduction to Light and Polarized Ligh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ve Index (R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 is the ration of the speed of light in a vacuum to the speed of light in another mediu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ed of light in a vacuum is always faster than in any other medium so all RI values are &gt;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 of minerals range from1.32 to 2.40, with most between 1.50 and 1.8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228600" y="1905120"/>
            <a:ext cx="86104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LIEF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 Visual Estimate of Relative Refractive Indic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Relief Plate"/>
          <p:cNvPicPr/>
          <p:nvPr/>
        </p:nvPicPr>
        <p:blipFill>
          <a:blip r:embed="rId1"/>
          <a:stretch/>
        </p:blipFill>
        <p:spPr>
          <a:xfrm>
            <a:off x="457200" y="2057400"/>
            <a:ext cx="82296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04920" y="1676520"/>
            <a:ext cx="8534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ECKE LINE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n Indicator of Positive or Negative Relief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7" descr="Becke Line Explanation"/>
          <p:cNvPicPr/>
          <p:nvPr/>
        </p:nvPicPr>
        <p:blipFill>
          <a:blip r:embed="rId1"/>
          <a:stretch/>
        </p:blipFill>
        <p:spPr>
          <a:xfrm>
            <a:off x="380880" y="1752480"/>
            <a:ext cx="8305920" cy="20145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ke line moves into higher RI when stage is lowe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osi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Greater than epoxy (1.54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gative relie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ess than epoxy (1.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becke2"/>
          <p:cNvPicPr/>
          <p:nvPr/>
        </p:nvPicPr>
        <p:blipFill>
          <a:blip r:embed="rId2"/>
          <a:stretch/>
        </p:blipFill>
        <p:spPr>
          <a:xfrm>
            <a:off x="7162920" y="4114800"/>
            <a:ext cx="1677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ibration and Polarizat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51055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light waves vibrate in all planes that are perpendicular with respect to the direction of propag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electric field vectors are restricted to a single plane by filtration of the beam with specialized materials, then the light is referred to 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lariz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ith respect to the direction of propaga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polarizersjavafigure1"/>
          <p:cNvPicPr/>
          <p:nvPr/>
        </p:nvPicPr>
        <p:blipFill>
          <a:blip r:embed="rId1"/>
          <a:stretch/>
        </p:blipFill>
        <p:spPr>
          <a:xfrm>
            <a:off x="1523880" y="1219320"/>
            <a:ext cx="62485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arizing filters are materials in which electrons can move freely in one direction but not another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uitively, you might think light polarized parallel to the direction of freedom might be able to "slip through". In fact, the opposite is the cas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polarized parallel to the easy direction moves the electrons back and forth. In the process it does work and is absorbed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oriented perpendicular to that direction cannot move the electrons very much, does no work, and passes throug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polarfil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arizing Filters on a PL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0" y="13716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wer polarizing filter (polarizer) allows “N-S” vibrating light to pa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pper polarizer (analyzer) allows “E-W” vibrating light to p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E200POL"/>
          <p:cNvPicPr/>
          <p:nvPr/>
        </p:nvPicPr>
        <p:blipFill>
          <a:blip r:embed="rId1"/>
          <a:stretch/>
        </p:blipFill>
        <p:spPr>
          <a:xfrm>
            <a:off x="533520" y="1523880"/>
            <a:ext cx="441936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ropic vs 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ve the same structure, composition and properties in all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isotropic miner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vast majority of minerals) have structures, and/or compositions, and properties that vary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nisotropic Miner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sotropic minerals may exhibit variations in their optical properties under a PLM as a sample is rotated as a result of the variation in chemical properties with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LEOCHROISM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Color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6" descr="pleo1_0"/>
          <p:cNvPicPr/>
          <p:nvPr/>
        </p:nvPicPr>
        <p:blipFill>
          <a:blip r:embed="rId1"/>
          <a:stretch/>
        </p:blipFill>
        <p:spPr>
          <a:xfrm>
            <a:off x="457200" y="18464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pleo1_90"/>
          <p:cNvPicPr/>
          <p:nvPr/>
        </p:nvPicPr>
        <p:blipFill>
          <a:blip r:embed="rId2"/>
          <a:stretch/>
        </p:blipFill>
        <p:spPr>
          <a:xfrm>
            <a:off x="4648320" y="184644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ARIABLE RELIEF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nge in Relief with Orientation of Mineral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7" descr="calcite relief low"/>
          <p:cNvPicPr/>
          <p:nvPr/>
        </p:nvPicPr>
        <p:blipFill>
          <a:blip r:embed="rId1"/>
          <a:stretch/>
        </p:blipFill>
        <p:spPr>
          <a:xfrm>
            <a:off x="685800" y="182880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alcite relief high"/>
          <p:cNvPicPr/>
          <p:nvPr/>
        </p:nvPicPr>
        <p:blipFill>
          <a:blip r:embed="rId2"/>
          <a:stretch/>
        </p:blipFill>
        <p:spPr>
          <a:xfrm>
            <a:off x="4876920" y="1828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919440" y="56386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Low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10920" y="56386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te: Higher Rel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finition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is electromagnetic radiation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exhibits properties of both a particle (e.g., ability to travel through a vacuum) and a wave (e.g, interference and polariz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nderstanding behavior of light in minerals we can focus on the wave properties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152388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ractive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k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a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e-po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sotr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ochro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pects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(height of wave) corresponds to the intensity (brightness) of ligh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length corresponds to the energy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visible spectrum wavelength corresponds to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Wavelength_348x126"/>
          <p:cNvPicPr/>
          <p:nvPr/>
        </p:nvPicPr>
        <p:blipFill>
          <a:blip r:embed="rId1"/>
          <a:stretch/>
        </p:blipFill>
        <p:spPr>
          <a:xfrm>
            <a:off x="609480" y="1371600"/>
            <a:ext cx="80773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avelength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 is only a tiny, moderate energy fraction of the electromagnetic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r wavelengths (e.g., radio waves) have les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r wavelengths have mo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wavelength_figure"/>
          <p:cNvPicPr/>
          <p:nvPr/>
        </p:nvPicPr>
        <p:blipFill>
          <a:blip r:embed="rId1"/>
          <a:stretch/>
        </p:blipFill>
        <p:spPr>
          <a:xfrm>
            <a:off x="380880" y="1295280"/>
            <a:ext cx="3921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2b2b2"/>
                </a:solidFill>
                <a:latin typeface="Arial"/>
              </a:rPr>
              <a:t>Why is the Visible Spectrum Visible?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6" descr="ems-atm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and Emission of Ligh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T028540A"/>
          <p:cNvPicPr/>
          <p:nvPr/>
        </p:nvPicPr>
        <p:blipFill>
          <a:blip r:embed="rId1"/>
          <a:stretch/>
        </p:blipFill>
        <p:spPr>
          <a:xfrm>
            <a:off x="533520" y="1708200"/>
            <a:ext cx="81532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bsorption Results in Color</a:t>
            </a:r>
            <a:br>
              <a:rPr sz="40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A Familiar Example from Biology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5" descr="sf7x4c"/>
          <p:cNvPicPr/>
          <p:nvPr/>
        </p:nvPicPr>
        <p:blipFill>
          <a:blip r:embed="rId1"/>
          <a:stretch/>
        </p:blipFill>
        <p:spPr>
          <a:xfrm>
            <a:off x="533520" y="1828800"/>
            <a:ext cx="8024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ed of Ligh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eed of light varies with the media through which it pass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fastest in a vacuu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moves slower in other medi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.g., 1.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/s in diamon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ra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14800" y="144792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action is the change in direction of a wave due to a change in its velocity when a wave passes from one medium to another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light passes from a less dense medium to a more dense medium, the wave will bend toward the normal (perpendicular to the interfa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Fig4b"/>
          <p:cNvPicPr/>
          <p:nvPr/>
        </p:nvPicPr>
        <p:blipFill>
          <a:blip r:embed="rId1"/>
          <a:stretch/>
        </p:blipFill>
        <p:spPr>
          <a:xfrm>
            <a:off x="380880" y="1066680"/>
            <a:ext cx="365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31T23:00:47Z</dcterms:modified>
  <cp:revision>19</cp:revision>
  <dc:subject/>
  <dc:title>Minerals and Their  Physical Properties</dc:title>
</cp:coreProperties>
</file>