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1E5D-F5C7-4C20-8961-9601E912C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Introduction to Information Retrieval and Web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s of Interaction in IR System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interconnect Web p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used for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or tex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phrases within documents used to label hyper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relevant to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s of Interaction in IR System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browsing and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 of a Web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relevance to query that generated resul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IR Pip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784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IR Pipelin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1523880" y="1616040"/>
            <a:ext cx="6021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iev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atist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represented as a set of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queries using standard Boolean logic set-theoretic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, OR and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and relev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s sophisticated rank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Sp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s features and weights i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mensional vecto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as a terms v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to the document vectors for similarity/relevanc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Space Mode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milarity functions can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ine of the angle between the query and document vector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F-I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weight mea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valuate the importance of a document word in a collection of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chio 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known relevance feedba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st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ranking princ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ther the document belong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 or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 for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ies calculated using Bayes’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M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est Match 2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probabilistic rank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ifferent levels o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c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-based I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eman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7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Retrieval (IR)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Queries in I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re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ted Ind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Queries in I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words, phrases, and other characterizations of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y IR system to build inverte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compared to set of index key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R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se of Boolean and other operators to build a complex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and most commonly used forms of IR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 implicitly connected by a logical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op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occurring wo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the,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ystems do not pay attention to the ordering of these words in the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4756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: both terms must b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 either term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: record containing keyword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): used for 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: equivalent to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operators: equivalent to AN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retrieved if query logically true as exact match in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s encoded in inverted index or implemented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 generally enclosed within double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stricted and specific version of proximity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for how close within a record multiple terms should be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option requires terms to be in the exac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operator n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, ADJ(adjacent), or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l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card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regular expressions and pattern matching-based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*’ would retrieve data, database, datapoint,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eprocessing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nsidered worth the cost by many Web search engine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odels do not directly provide support for this query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Languag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natural language 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area of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answ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and factoi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text preprocess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ext process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word Remo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4756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monly used words in a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occur in 80 percent or more of th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, of, to, a, and, in, said, for, that, was, on, he, is, with, at, by, an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must be performed before ind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can be preprocessed for stopword 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obtained after trimming the suffix and prefix of an original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different forms of the word formed by in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amous stemming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 Porter’s stemm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7 Outlin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Measures of Search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earch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 in Information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zing a Thesa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4756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au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mpiled list of important concepts and the main word that describes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 converted to its matching concept during pre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biomedical thesaurus of concepts/meta concepts/relation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ly constructed thesaurus that groups words into strict synonym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processing Steps: Digits, Hyphens, Punctuation Marks,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023560"/>
            <a:ext cx="82281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s, dates, phone numbers, e-mail addresses, and URLs may or may not be removed during pre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hens and punctuation ma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handled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nformation retrieval systems perform case-insensitiv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reprocessing steps languag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te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ing structured content from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used to identify contextually relevant features that involve text analysis, matching, and categ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d Ind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distinct query terms in the documen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ind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tructure that attaches distinct terms with a list of all documents that contains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volved in inverted index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Meas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earch Rele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al relev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extent to which topic of a result matches topic of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relev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“goodness” of a retrieved result with regard to user’s information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information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evaluate document rank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elevant documents retrieved by a search / Total number of existing relevant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elevant documents retrieved by a search / Total number of documents retrieved by tha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and Precision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computing a single precision value to compare different retrieval algorith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/precision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has a negative slope indicating inverse relationship between precision and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easure that combines precision and recall to compare different resul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arch a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ical search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-specific search eng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search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different search engin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of electronic resource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Analysis and Its Relationship to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of Web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and personalize search results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 Web analys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conten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structu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usag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Retrieval (IR)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retrie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retrieving documents from a collection in response to a query by a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information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stinction between structured and unstructured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retrieval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 that deals with the structure, analysis, organization, storage, searching, and retrieval of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ing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ination 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or a Website that links to a collection of prominent sit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a common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Link Structure of 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k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y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nked pages are more important (have greater authority) than pages with fewer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query-independent importance of a page/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k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two main steps: a sampling component and a weight-propagatio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Conten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data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pproaches: writ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anual extractio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per in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per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information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query interface integ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a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-based information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Content Analysi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in a search result are organized into groups in a hierarchical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ing Web pages and detecting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superfluous information such as ads and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s to Web Conten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-based approach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ligent Web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filtering/categ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ed Web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-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the structure of the Website or to transform a Web site to organize it as a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Usag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consists of three main ph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rocessing, pattern discovery, and patter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discovery techniq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ing of us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groups of users exhibiting similar brows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Usage Analysi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ing of p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s with similar contents are group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Applications of Web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optimize the performance of Web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p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berate activity to promote a page by manipulating results returned by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uses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craw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Information Retri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ted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ers to explore by filtering availab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properties or characteristics of a clas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enomenon facilitated by recent Web technolog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social 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ed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Information Retrieva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sational search (C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and collaborative information finding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ed by intelligent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Retrieval (IR) Concep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’s information need expressed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-form search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search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ystems characte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informat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terminology, query and browsing modes, semantics, retriev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earch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, structure,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Retrieval (IR) Concep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noise-to-signal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prise search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olutions for searching different entities in an enterprise’s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ktop search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files, folders, and different kinds of entities stored on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 and IR Systems: A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124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f History of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ted file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keywords and their we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system in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Retrieval Conference (TR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eng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information retrieval to large-scale docum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w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discovering, analyzing, and indexing new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s of Interaction in I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archer to specify information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modes of interaction with IR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information from a repository of documents through an IR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w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visiting or navigating through similar or rela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>Dr. HASSAN</dc:creator>
  <dc:description/>
  <dc:language>en-US</dc:language>
  <cp:lastModifiedBy>Dr. HASSAN</cp:lastModifiedBy>
  <dcterms:modified xsi:type="dcterms:W3CDTF">2011-06-26T09:22:45Z</dcterms:modified>
  <cp:revision>72</cp:revision>
  <dc:subject/>
  <dc:title>Slide 1</dc:title>
</cp:coreProperties>
</file>