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3B41-C05B-4642-B45E-199EFBE15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"/>
          <p:cNvSpPr/>
          <p:nvPr/>
        </p:nvSpPr>
        <p:spPr>
          <a:xfrm>
            <a:off x="990720" y="6553080"/>
            <a:ext cx="6548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Copyright © 2011 Pearson Education, Inc. Publishing as Pearson Addison-Wesl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2" descr="AW logo"/>
          <p:cNvPicPr/>
          <p:nvPr/>
        </p:nvPicPr>
        <p:blipFill>
          <a:blip r:embed="rId3"/>
          <a:stretch/>
        </p:blipFill>
        <p:spPr>
          <a:xfrm>
            <a:off x="0" y="6173640"/>
            <a:ext cx="914400" cy="6843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"/>
          <p:cNvPicPr/>
          <p:nvPr/>
        </p:nvPicPr>
        <p:blipFill>
          <a:blip r:embed="rId4"/>
          <a:stretch/>
        </p:blipFill>
        <p:spPr>
          <a:xfrm>
            <a:off x="3733920" y="228600"/>
            <a:ext cx="5151240" cy="6327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"/>
          <p:cNvSpPr/>
          <p:nvPr/>
        </p:nvSpPr>
        <p:spPr>
          <a:xfrm>
            <a:off x="685800" y="6553080"/>
            <a:ext cx="6548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Copyright © 2011 Ramez Elmasri and Shamkant Nava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2" descr=""/>
          <p:cNvPicPr/>
          <p:nvPr/>
        </p:nvPicPr>
        <p:blipFill>
          <a:blip r:embed="rId3"/>
          <a:stretch/>
        </p:blipFill>
        <p:spPr>
          <a:xfrm>
            <a:off x="0" y="6345360"/>
            <a:ext cx="685800" cy="512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4"/>
          <a:stretch/>
        </p:blipFill>
        <p:spPr>
          <a:xfrm>
            <a:off x="8686800" y="0"/>
            <a:ext cx="4665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685800" y="6553080"/>
            <a:ext cx="6548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Copyright © 2011 Ramez Elmasri and Shamkant Nava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2" descr="AW logo"/>
          <p:cNvPicPr/>
          <p:nvPr/>
        </p:nvPicPr>
        <p:blipFill>
          <a:blip r:embed="rId3"/>
          <a:stretch/>
        </p:blipFill>
        <p:spPr>
          <a:xfrm>
            <a:off x="0" y="6345360"/>
            <a:ext cx="685800" cy="512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4"/>
          <a:stretch/>
        </p:blipFill>
        <p:spPr>
          <a:xfrm>
            <a:off x="8686800" y="0"/>
            <a:ext cx="4665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990720" y="6553080"/>
            <a:ext cx="6548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Copyright © 2011 Pearson Education, Inc. Publishing as Pearson Addison-Wesl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2" descr="AW logo"/>
          <p:cNvPicPr/>
          <p:nvPr/>
        </p:nvPicPr>
        <p:blipFill>
          <a:blip r:embed="rId3"/>
          <a:stretch/>
        </p:blipFill>
        <p:spPr>
          <a:xfrm>
            <a:off x="0" y="6173640"/>
            <a:ext cx="914400" cy="684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"/>
          <p:cNvPicPr/>
          <p:nvPr/>
        </p:nvPicPr>
        <p:blipFill>
          <a:blip r:embed="rId4"/>
          <a:stretch/>
        </p:blipFill>
        <p:spPr>
          <a:xfrm>
            <a:off x="3733920" y="228600"/>
            <a:ext cx="5151240" cy="6327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0"/>
          <p:cNvSpPr/>
          <p:nvPr/>
        </p:nvSpPr>
        <p:spPr>
          <a:xfrm>
            <a:off x="380880" y="2209680"/>
            <a:ext cx="3048120" cy="21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Century Gothic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Century Gothic"/>
              </a:rPr>
              <a:t>Databases and Database Us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380880" y="2209680"/>
            <a:ext cx="304812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Century Gothic"/>
              </a:rPr>
              <a:t>Chapter 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Century Gothic"/>
              </a:rPr>
              <a:t>Introduction to Information Retrieval and Web 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s of Interaction in IR System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erlin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interconnect Web pa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ly used for brow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or tex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phrases within documents used to label hyper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relevant to brow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s of Interaction in IR System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 sear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s browsing and retri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nk of a Webp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of relevance to query that generated result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ic IR Pipe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5878440" cy="49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ic IR Pipeline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1523880" y="1616040"/>
            <a:ext cx="602136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trieval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main statistical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ctor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il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antic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s represented as a set of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 queries using standard Boolean logic set-theoretic ope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, OR and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rieval and relev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ary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s sophisticated ranking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ctor Space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ed as features and weights in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dimensional vector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ed as a terms vec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d to the document vectors for similarity/relevance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ctor Space Model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similarity functions can be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ine of the angle between the query and document vector commonly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F-I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al weight meas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evaluate the importance of a document word in a collection of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cchio algorith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-known relevance feedback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stic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ranking princi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whether the document belongs to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ev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t or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relev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t for a qu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itional probabilities calculated using Bayes’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M2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Best Match 25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r probabilistic ranking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kap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antic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different levels of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rpholog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ntac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man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-based I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semantic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c knowledge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27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Retrieval (IR)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rieval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Queries in I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Pre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rted Index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Queries in IR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wor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 of words, phrases, and other characterizations of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by IR system to build inverted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ries compared to set of index key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IR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use of Boolean and other operators to build a complex qu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word Qu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st and most commonly used forms of IR qu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words implicitly connected by a logical AND op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top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monly occurring word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 the,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 systems do not pay attention to the ordering of these words in the qu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 Qu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447560"/>
            <a:ext cx="822816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: both terms must be f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: either term f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: record containing keyword omit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): used for n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: equivalent to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operators: equivalent to AND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 retrieved if query logically true as exact match in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rase Qu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rases encoded in inverted index or implemented differ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rase generally enclosed within double qu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restricted and specific version of proximity sear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ximity Qu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s for how close within a record multiple terms should be to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option requires terms to be in the exact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operator na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R, ADJ(adjacent), or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ationally 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ldcard Qu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regular expressions and pattern matching-based sear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*’ would retrieve data, database, datapoint,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s preprocessing over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considered worth the cost by many Web search engines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rieval models do not directly provide support for this query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al Language Qu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w natural language search eng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 area of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ier to answer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and factoid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 Preproc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ly used text preprocessing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of text processing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word Remov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447560"/>
            <a:ext cx="822816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pwor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commonly used words in a langu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to occur in 80 percent or more of the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, of, to, a, and, in, said, for, that, was, on, he, is, with, at, by, an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al must be performed before index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ries can be preprocessed for stopword rem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m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 obtained after trimming the suffix and prefix of an original 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s different forms of the word formed by inf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famous stemming algorith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tin Porter’s stemming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27 Outline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 Measures of Search Relev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Search and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nds in Information Retri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tilizing a Thesau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447560"/>
            <a:ext cx="822816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saur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compiled list of important concepts and the main word that describes ea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onym converted to its matching concept during pre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M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biomedical thesaurus of concepts/meta concepts/relationshi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d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ally constructed thesaurus that groups words into strict synonym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Preprocessing Steps: Digits, Hyphens, Punctuation Marks,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023560"/>
            <a:ext cx="8228160" cy="42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s, dates, phone numbers, e-mail addresses, and URLs may or may not be removed during pre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hens and punctuation mar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handled in different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information retrieval systems perform case-insensitive 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preprocessing steps language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on Ex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ic ter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cting structured content from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IE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ly used to identify contextually relevant features that involve text analysis, matching, and categor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ted Index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of distinct query terms in the document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rted inde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structure that attaches distinct terms with a list of all documents that contains 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involved in inverted index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4293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ion Measur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Search Relev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al relev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extent to which topic of a result matches topic of qu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r relev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s “goodness” of a retrieved result with regard to user’s information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information retri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evaluate document ranking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and Prec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a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relevant documents retrieved by a search / Total number of existing relevant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ci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relevant documents retrieved by a search / Total number of documents retrieved by that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and Precision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ful for computing a single precision value to compare different retrieval algorith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/precision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has a negative slope indicating inverse relationship between precision and re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-s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measure that combines precision and recall to compare different result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Search and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tical search eng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ic-specific search eng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asearch eng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y different search engines simultaneou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git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ons of electronic resources an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Analysis and Its Relationship to 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s of Web analy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and personalize search results relev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r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y Web analysi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b content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b structur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b usag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on Retrieval (IR)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retriev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of retrieving documents from a collection in response to a query by a u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to information retri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distinction between structured and unstructured da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retrieval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ipline that deals with the structure, analysis, organization, storage, searching, and retrieval of inform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arching the 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erlin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tination p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cho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u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page or a Website that links to a collection of prominent sites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or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on a common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zing the Link Structure of Web P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Ran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anking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by Goo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y linked pages are more important (have greater authority) than pages with fewer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of query-independent importance of a page/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anking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two main steps: a sampling component and a weight-propagation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Content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d data ext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approaches: writing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app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manual extraction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apper indu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apper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information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b query interface integr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ema ma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tology-based information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Content Analysi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ept hierarc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s in a search result are organized into groups in a hierarchical fash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gmenting Web pages and detecting no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superfluous information such as ads and navi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roaches to Web Content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nt-based approach categ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lligent Web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 filtering/catego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alized Web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-based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r the structure of the Website or to transform a Web site to organize it as a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Usag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 consists of three main phas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rocessing, pattern discovery, and pattern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 discovery techniq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al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ociation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ustering of us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groups of users exhibiting similar browsing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Usage Analysi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ustering of pa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s with similar contents are grouped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tial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cy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tern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al Applications of Web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 analy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and optimize the performance of Web u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 sp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berate activity to promote a page by manipulating results returned by search eng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e uses f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 craw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nds in Information Retriev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ceted sear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users to explore by filtering availabl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c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properties or characteristics of a class of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cial 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phenomenon facilitated by recent Web technolog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aborative social sear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uided particip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nds in Information Retrieval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versational search (C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and collaborative information finding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ded by intelligent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on Retrieval (IR) Concept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’s information need expressed as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ee-form search 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yword search qu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 systems characteriz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information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s of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 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terminology, query and browsing modes, semantics, retrieval m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search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, structure, u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tr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on Retrieval (IR) Concept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noise-to-signal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terprise search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 solutions for searching different entities in an enterprise’s intra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ktop search eng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rieve files, folders, and different kinds of entities stored on the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bases and IR Systems: A Compari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12484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ief History of 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rted file organiz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keywords and their weigh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RT system in 196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Retrieval Conference (TRE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arch eng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information retrieval to large-scale docum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aw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discovering, analyzing, and indexing new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s of Interaction in IR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of te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by searcher to specify information 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modes of interaction with IR syst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ri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ction of information from a repository of documents through an IR qu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ow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visiting or navigating through similar or related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5:58:58Z</dcterms:created>
  <dc:creator>Dr. HASSAN</dc:creator>
  <dc:description/>
  <dc:language>en-US</dc:language>
  <cp:lastModifiedBy>Dr. HASSAN</cp:lastModifiedBy>
  <dcterms:modified xsi:type="dcterms:W3CDTF">2011-06-26T09:22:45Z</dcterms:modified>
  <cp:revision>72</cp:revision>
  <dc:subject/>
  <dc:title>Slide 1</dc:title>
</cp:coreProperties>
</file>