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3D6-3E49-4B6A-A83A-47F9262D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738-FA9C-4543-8338-A3B1AB1F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296-CF0C-42C2-81D8-B0A8E15C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16C-8CF3-4A94-9965-434A31CE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B70-8BCC-4C69-BCB0-8CD72BAA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A42-70E3-46DF-91D3-48FFD5B7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E5A-8727-43A6-BF9C-1F6F2BBF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3BF-8EBE-465C-AA6E-88AAD458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7D2-EBC9-45B7-9BE5-9BA60DB7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7CD-274B-464B-A9AB-3DAA2E0F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BF7-AD12-4FEE-895B-870C5008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67B-C5B5-43B1-8358-169C1A44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1D24-C5BE-4F71-A5F5-88A6F5FA90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igheredbcs.wiley.com/legacy/college/voet/0471214957/animated_figures/ch05/f5-5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 Exchange Chroma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Keep the top of the resin covered with buffer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Remove the buffer from the top of the resin and replace with NaCL solution and continue collecting fractions until the second colored protein is fully el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Collect approximately 25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Read the absorbance at 400 nm using phosphate buffer as blank for the first protein and Nacl for the second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Record all your results in a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graph of the absorbance against the fraction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esulting 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 Exchange Chroma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5041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Anion exchang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contain immobilized cationic groups that bind to anio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most common: a matrix with attached diethylaminoethyl (DEAE)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E: matrix-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(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  <a:ea typeface="Times New Roman"/>
                        </a:rPr>
                        <a:t>Cation exchang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contain immobilized anionic groups that bind to catio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.g. a matrix with carboxymethyl group(C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: matrix- 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COO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rix could be cellulose or agar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have negative or positive charges, so they can bind both excha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inding affinity of a protein depends 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f other ions that compete with the protein for binding to the ion exch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the solution which influences the net charge of the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bcs.wiley.com/legacy/college/voet/0471214957/animated_figures/ch05/f5-5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ixture of the proteins is applied to the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umn is washed with the bu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teins with low affinity to the ion exchanger move faster than the proteins with higher aff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 that bind tightly can be eluted by applying a buffer with a higher salt concentration or pH that reduces the aff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experiment two proteins( cytochrom c and myoglobin) will be separated by cation exchange chromatography using Sephadex C-25 resin with a  50mM sodium phosphate buffer at pH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se conditions only one protein ( cytochrom) will become attached to the resin. The cytochrom will be attached to the cation exchanger because it is positive at pH 8 since it's pI = 10.4 while the myoglobin's pI= 7 so its negative (why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lute the cytochrom which is attached to the resin sodium chloride is added, the positive sodium ions will replace the cytochro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the buffer solution from the top of the resin bed using a Pasteur pipette and then very carefully add the sample. ( the sample is a mixture of myoglobin and cytochrome 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ait for a while till the protein mixture enters the resin then open the screw cl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mmediately add the phosphate buffer (PH 8) and collect 2 ml fractions, collect the fractions until the first colored protein is fully el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22:04:03Z</dcterms:created>
  <dc:creator>admin</dc:creator>
  <dc:description/>
  <dc:language>en-US</dc:language>
  <cp:lastModifiedBy>noa</cp:lastModifiedBy>
  <dcterms:modified xsi:type="dcterms:W3CDTF">2009-05-17T06:00:49Z</dcterms:modified>
  <cp:revision>3</cp:revision>
  <dc:subject/>
  <dc:title>Ion Exchange Chromatography</dc:title>
</cp:coreProperties>
</file>