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A7E7-C214-46EF-9542-D6F265C70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0BCB-8566-4EFC-92C2-4468E96C0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109B-C262-4085-B9BB-8A53E504A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ECCA-5029-4813-A939-61B79897A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9767-F21A-4A4E-AB55-8612933D5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29AA-9628-4C22-87CD-EE5F66250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B040-A139-4A4C-996A-1AB3E799D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E760-41D1-499F-A4CF-380763301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243B-EF94-4657-A18F-C10ED48C9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F902-8515-4ADA-910D-4D837A9B9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D8AA-4145-45CB-B664-4718BB2E7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C244-CD9A-4C1A-B3AF-3BC8B09A7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C076F-5BA2-4975-8CAA-7111BCFE333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higheredbcs.wiley.com/legacy/college/voet/0471214957/animated_figures/ch05/f5-5.html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on Exchange Chromat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Keep the top of the resin covered with buffer at all ti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Remove the buffer from the top of the resin and replace with NaCL solution and continue collecting fractions until the second colored protein is fully elu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 Collect approximately 25 fra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 Read the absorbance at 400 nm using phosphate buffer as blank for the first protein and Nacl for the second prote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 Record all your results in a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a graph of the absorbance against the fraction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the resulting pea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on Exchange Chromat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1600200"/>
          <a:ext cx="8229600" cy="50418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20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  <a:ea typeface="Times New Roman"/>
                        </a:rPr>
                        <a:t>Anion exchang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y contain immobilized cationic groups that bind to anion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 most common: a matrix with attached diethylaminoethyl (DEAE)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AE: matrix-CH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CH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N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(CH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  <a:ea typeface="Times New Roman"/>
                        </a:rPr>
                        <a:t>Cation exchang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y contain immobilized anionic groups that bind to cation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.g. a matrix with carboxymethyl group(C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M: matrix- CH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 COO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atrix could be cellulose or agaro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ins have negative or positive charges, so they can bind both exchang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binding affinity of a protein depends 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esence of other ions that compete with the protein for binding to the ion exchang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H of the solution which influences the net charge of the prote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higheredbcs.wiley.com/legacy/college/voet/0471214957/animated_figures/ch05/f5-5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dur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mixture of the proteins is applied to the colum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olumn is washed with the buff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proteins with low affinity to the ion exchanger move faster than the proteins with higher affin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eins that bind tightly can be eluted by applying a buffer with a higher salt concentration or pH that reduces the affin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is experiment two proteins( cytochrom c and myoglobin) will be separated by cation exchange chromatography using Sephadex C-25 resin with a  50mM sodium phosphate buffer at pH 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 these conditions only one protein ( cytochrom) will become attached to the resin. The cytochrom will be attached to the cation exchanger because it is positive at pH 8 since it's pI = 10.4 while the myoglobin's pI= 7 so its negative (why?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elute the cytochrom which is attached to the resin sodium chloride is added, the positive sodium ions will replace the cytochrom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e the buffer solution from the top of the resin bed using a Pasteur pipette and then very carefully add the sample. ( the sample is a mixture of myoglobin and cytochrome c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Wait for a while till the protein mixture enters the resin then open the screw cl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Immediately add the phosphate buffer (PH 8) and collect 2 ml fractions, collect the fractions until the first colored protein is fully elu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6T22:04:03Z</dcterms:created>
  <dc:creator>admin</dc:creator>
  <dc:description/>
  <dc:language>en-US</dc:language>
  <cp:lastModifiedBy>noa</cp:lastModifiedBy>
  <dcterms:modified xsi:type="dcterms:W3CDTF">2009-05-17T06:00:49Z</dcterms:modified>
  <cp:revision>3</cp:revision>
  <dc:subject/>
  <dc:title>Ion Exchange Chromatography</dc:title>
</cp:coreProperties>
</file>