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DD32-8675-470F-B662-0725FAF5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803-C382-4867-9FC9-457D1F765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109A-2267-496E-9CCC-25F759976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1CEB-E128-4DA1-BC31-23209C347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9DDD-374E-4066-B050-88E9DF5EA8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DD2-3251-40BE-B739-44C3FFB7D5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C28-6D2D-4465-A556-776F21BDB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559-7938-418D-B032-55D9F87E6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3656-30ED-4902-A3A8-D201563C3B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D915-1CE7-489F-A2EE-42A1815855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AEF-06F8-46BE-A798-B7E81FF95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D58-6BA1-41BA-8646-A86F5E5EB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D3E-E5FC-40C9-84D8-6B9AEC5C0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D4FC-D8E1-48E8-9A36-4DDD476B5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505-195F-49F9-A1B6-3D1B76D9D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4E26-89CC-4152-BA06-C9227686A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82C-675C-47A1-80A3-197FF355E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263-F162-4F24-A83B-517382F3D9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B7E-5565-4C1F-8A09-EB2C7E1D02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F7C-D64E-496F-9F5E-C99FF7C99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6C1F-C83B-4096-A2EF-EBFDEB74A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3F0-1A9A-40EF-9105-4D01D8328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54B-AECF-44CE-ABF2-8EEC27C5F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5454-AF03-4AA7-8C7D-385F20FE4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07C-B1CE-40A0-9998-220042752E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CABD-7940-49D5-9BAB-B698EDE3D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1B8-0054-403D-89C0-868D7CB39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C79-F5C0-4119-A74C-30F03D9A1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F377-9D4E-45D1-A61D-E411A10B9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ED4-4F9E-4776-9797-4D57092D0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55F-8560-4B08-9434-FC0F8249A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1F56-633A-4243-960B-41741C4D7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852-CA37-48EB-8CBC-E4AF38B7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F6A-D857-42BB-BD74-B9BCDE4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E4D-9B10-4827-BC3C-C09D2E7C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FF5-021E-4EED-9299-F290FC81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B5E9-E15A-4BB0-8F85-B73E943B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76F6-BF01-4552-B677-EFDA209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2B80-CEBA-4F15-818A-F54F7F7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6154-405F-4F15-A1AB-42A34B3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9B45-CE99-4A78-984F-5C84846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A955-971D-44C9-9B86-271C4E8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8C2-6553-498F-804F-06A5FAE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036-6398-4263-8FE6-39160295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109-74E2-42F3-ABB6-36A35FA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332E-F383-48C8-ABA8-FBA3A7C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01D8-118F-4EC5-A08B-9B39237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B24F-ADB9-4428-8A00-CDA6BEAB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BA5-0B65-4311-B18F-B6BA1C59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F1D-2ECD-4017-8EFE-269824BC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2E2-A3CD-41CE-8315-B3A5A337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F22-1AB5-4D8E-8B47-449D2EF7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BD4-6656-4486-8360-9CC9EFD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7F2-0A51-4C87-ABFB-77056D2F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983-D781-4841-B442-D959008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06E-50F7-4ECE-BE34-FA6BE17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245E-2EE8-43B9-A7E6-4274F3500A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DC1B-0FE6-497A-826B-8F2434695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onic Coordination and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ilicate Struc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3: Triangul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7" descr="203co3-2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4: Tetr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sio4_tetraeder_gre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6: Oct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5" descr="FG11_40"/>
          <p:cNvPicPr/>
          <p:nvPr/>
        </p:nvPicPr>
        <p:blipFill>
          <a:blip r:embed="rId1"/>
          <a:stretch/>
        </p:blipFill>
        <p:spPr>
          <a:xfrm>
            <a:off x="2178000" y="1600200"/>
            <a:ext cx="478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8: Cu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5" descr="FG11_46"/>
          <p:cNvPicPr/>
          <p:nvPr/>
        </p:nvPicPr>
        <p:blipFill>
          <a:blip r:embed="rId1"/>
          <a:stretch/>
        </p:blipFill>
        <p:spPr>
          <a:xfrm>
            <a:off x="457200" y="2770200"/>
            <a:ext cx="8229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N=12: Hexagonal 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bic Close Pack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FG11_42"/>
          <p:cNvPicPr/>
          <p:nvPr/>
        </p:nvPicPr>
        <p:blipFill>
          <a:blip r:embed="rId1"/>
          <a:stretch/>
        </p:blipFill>
        <p:spPr>
          <a:xfrm>
            <a:off x="914400" y="1676520"/>
            <a:ext cx="7292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oordination of Common Crustal Io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752480"/>
          <a:ext cx="7543800" cy="440064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990720"/>
                <a:gridCol w="3352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with 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/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ic/Clos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Formula for Silic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in silicates will be in tetrahedral, octahedral, or cubic/closest packed coord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Form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8-12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6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4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=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 = OH, F, 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286000"/>
          <a:ext cx="4038480" cy="33764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2057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T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R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neral Formula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,Na)(Mg,Fe,Al,Ti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ov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)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H,F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giocla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a,Ca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: Ionic Bond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onic structure will be stable to the extent that the sum of the strengths of the electrostatic bonds that reach an ion equal the charge on that 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static Valency = Cation Charge/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bo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arbonateion"/>
          <p:cNvPicPr/>
          <p:nvPr/>
        </p:nvPicPr>
        <p:blipFill>
          <a:blip r:embed="rId1"/>
          <a:stretch/>
        </p:blipFill>
        <p:spPr>
          <a:xfrm>
            <a:off x="3429000" y="4191120"/>
            <a:ext cx="217332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lecstat4"/>
          <p:cNvPicPr/>
          <p:nvPr/>
        </p:nvPicPr>
        <p:blipFill>
          <a:blip r:embed="rId2"/>
          <a:stretch/>
        </p:blipFill>
        <p:spPr>
          <a:xfrm>
            <a:off x="5867280" y="4191120"/>
            <a:ext cx="2819520" cy="243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svalency6"/>
          <p:cNvPicPr/>
          <p:nvPr/>
        </p:nvPicPr>
        <p:blipFill>
          <a:blip r:embed="rId3"/>
          <a:stretch/>
        </p:blipFill>
        <p:spPr>
          <a:xfrm>
            <a:off x="533520" y="411480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1 and 2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coordination numbers for Si and Al result in complex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etrahedra and Al octahedra must bond with other 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cat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 and octahedra must commonly share oxygens with other complex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76520"/>
          <a:ext cx="7391520" cy="4665600"/>
        </p:xfrm>
        <a:graphic>
          <a:graphicData uri="http://schemas.openxmlformats.org/drawingml/2006/table">
            <a:tbl>
              <a:tblPr/>
              <a:tblGrid>
                <a:gridCol w="2209680"/>
                <a:gridCol w="1517760"/>
                <a:gridCol w="179712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edges, and particularly faces of two anion polyhedra in a crystal structure decreases its s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distance between cations, and therefore minimizes repul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polyedge"/>
          <p:cNvPicPr/>
          <p:nvPr/>
        </p:nvPicPr>
        <p:blipFill>
          <a:blip r:embed="rId1"/>
          <a:stretch/>
        </p:blipFill>
        <p:spPr>
          <a:xfrm>
            <a:off x="1219320" y="4016520"/>
            <a:ext cx="64008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 3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ilicates the tetrahedra will share oxygens with neighboring tetrahedra, as well as with neighboring octahe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rystal structure containing several cations, those of high valency and small coordination number te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to share polyhedral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low-up to Rul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3 and 4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4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as a high valency and low coordination number (4 with oxygen), so silica tetrahedra will not share sides or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ngements of silica tetrahedra must be based on the sharing of ap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solated Tetraheda Silicates (Nes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hedra do not share any oxygens with neighboring silicon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Olivine, Garnet, Ky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silicat_insel"/>
          <p:cNvPicPr/>
          <p:nvPr/>
        </p:nvPicPr>
        <p:blipFill>
          <a:blip r:embed="rId1"/>
          <a:stretch/>
        </p:blipFill>
        <p:spPr>
          <a:xfrm>
            <a:off x="5562720" y="1828800"/>
            <a:ext cx="2286000" cy="148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tomic_structure_of_olivine_1"/>
          <p:cNvPicPr/>
          <p:nvPr/>
        </p:nvPicPr>
        <p:blipFill>
          <a:blip r:embed="rId2"/>
          <a:stretch/>
        </p:blipFill>
        <p:spPr>
          <a:xfrm>
            <a:off x="5334120" y="3657600"/>
            <a:ext cx="2857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ired Silicates (Sor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rs of tetrahedra share one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Epi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silicat_gruppen"/>
          <p:cNvPicPr/>
          <p:nvPr/>
        </p:nvPicPr>
        <p:blipFill>
          <a:blip r:embed="rId1"/>
          <a:stretch/>
        </p:blipFill>
        <p:spPr>
          <a:xfrm>
            <a:off x="4800600" y="1752480"/>
            <a:ext cx="34290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5-Emerald"/>
          <p:cNvPicPr/>
          <p:nvPr/>
        </p:nvPicPr>
        <p:blipFill>
          <a:blip r:embed="rId1"/>
          <a:stretch/>
        </p:blipFill>
        <p:spPr>
          <a:xfrm>
            <a:off x="4800600" y="3048120"/>
            <a:ext cx="3760920" cy="3292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ing Silicates (Cycl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tourmaline, ber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silicat_ring"/>
          <p:cNvPicPr/>
          <p:nvPr/>
        </p:nvPicPr>
        <p:blipFill>
          <a:blip r:embed="rId2"/>
          <a:stretch/>
        </p:blipFill>
        <p:spPr>
          <a:xfrm>
            <a:off x="5410080" y="1600200"/>
            <a:ext cx="266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ng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yrox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silicat_ketten"/>
          <p:cNvPicPr/>
          <p:nvPr/>
        </p:nvPicPr>
        <p:blipFill>
          <a:blip r:embed="rId1"/>
          <a:stretch/>
        </p:blipFill>
        <p:spPr>
          <a:xfrm>
            <a:off x="1600200" y="4952880"/>
            <a:ext cx="53341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deite"/>
          <p:cNvPicPr/>
          <p:nvPr/>
        </p:nvPicPr>
        <p:blipFill>
          <a:blip r:embed="rId2"/>
          <a:stretch/>
        </p:blipFill>
        <p:spPr>
          <a:xfrm>
            <a:off x="4648320" y="1523880"/>
            <a:ext cx="3913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ub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oxygens (2 and 3 alternation)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amphib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silicat_band"/>
          <p:cNvPicPr/>
          <p:nvPr/>
        </p:nvPicPr>
        <p:blipFill>
          <a:blip r:embed="rId1"/>
          <a:stretch/>
        </p:blipFill>
        <p:spPr>
          <a:xfrm>
            <a:off x="6477120" y="304920"/>
            <a:ext cx="2089080" cy="3962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remolite"/>
          <p:cNvPicPr/>
          <p:nvPr/>
        </p:nvPicPr>
        <p:blipFill>
          <a:blip r:embed="rId2"/>
          <a:stretch/>
        </p:blipFill>
        <p:spPr>
          <a:xfrm>
            <a:off x="5029200" y="4413240"/>
            <a:ext cx="3809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04920" y="30492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eet Silica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Phyll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hree oxygens to form a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m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silicat_schicht"/>
          <p:cNvPicPr/>
          <p:nvPr/>
        </p:nvPicPr>
        <p:blipFill>
          <a:blip r:embed="rId1"/>
          <a:stretch/>
        </p:blipFill>
        <p:spPr>
          <a:xfrm>
            <a:off x="5029200" y="304920"/>
            <a:ext cx="3438360" cy="3152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Muscovite"/>
          <p:cNvPicPr/>
          <p:nvPr/>
        </p:nvPicPr>
        <p:blipFill>
          <a:blip r:embed="rId2"/>
          <a:stretch/>
        </p:blipFill>
        <p:spPr>
          <a:xfrm>
            <a:off x="5029200" y="3657600"/>
            <a:ext cx="33796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71600"/>
          <a:ext cx="7620120" cy="5370480"/>
        </p:xfrm>
        <a:graphic>
          <a:graphicData uri="http://schemas.openxmlformats.org/drawingml/2006/table">
            <a:tbl>
              <a:tblPr/>
              <a:tblGrid>
                <a:gridCol w="2133720"/>
                <a:gridCol w="3006720"/>
                <a:gridCol w="24796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Radius (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/0.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/1.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/1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1/1.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ramework Silicates (Tect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s of tetrahedra share all 4 oxygens in 3 dimensions to form a 3-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ll tetrahedra are cored by silicon then there is no charg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qua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me tetrahedra are cored by Al, then the remaining charge balance achieved by bonding with 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feldsp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silicat_geruest"/>
          <p:cNvPicPr/>
          <p:nvPr/>
        </p:nvPicPr>
        <p:blipFill>
          <a:blip r:embed="rId1"/>
          <a:stretch/>
        </p:blipFill>
        <p:spPr>
          <a:xfrm>
            <a:off x="4724280" y="1981080"/>
            <a:ext cx="40482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licon Content of Silica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066680"/>
          <a:ext cx="8229600" cy="54864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  <a:gridCol w="182880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:O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Sing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g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Doub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O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t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toms and Ions Have Different Radi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6" descr="FG08_14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ULE 1: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ound every cation, a coordination polyhedron of anions forms, in which the cation-anion distance is determined by the radius sums and the coordination number is determined by the radius rati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tetrahedcoord"/>
          <p:cNvPicPr/>
          <p:nvPr/>
        </p:nvPicPr>
        <p:blipFill>
          <a:blip r:embed="rId1"/>
          <a:stretch/>
        </p:blipFill>
        <p:spPr>
          <a:xfrm>
            <a:off x="1143000" y="44956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octahedcoord"/>
          <p:cNvPicPr/>
          <p:nvPr/>
        </p:nvPicPr>
        <p:blipFill>
          <a:blip r:embed="rId2"/>
          <a:stretch/>
        </p:blipFill>
        <p:spPr>
          <a:xfrm>
            <a:off x="4876920" y="4191120"/>
            <a:ext cx="3504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ion-Anion Distance (Ionic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FG08_11"/>
          <p:cNvPicPr/>
          <p:nvPr/>
        </p:nvPicPr>
        <p:blipFill>
          <a:blip r:embed="rId1"/>
          <a:stretch/>
        </p:blipFill>
        <p:spPr>
          <a:xfrm>
            <a:off x="2666880" y="1905120"/>
            <a:ext cx="423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valent Radius IS Smaller than Ionic Radiu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5" descr="FG08_08"/>
          <p:cNvPicPr/>
          <p:nvPr/>
        </p:nvPicPr>
        <p:blipFill>
          <a:blip r:embed="rId1"/>
          <a:stretch/>
        </p:blipFill>
        <p:spPr>
          <a:xfrm>
            <a:off x="2133720" y="1752480"/>
            <a:ext cx="4968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ordination Numb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on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.n.) is the sum of the total number of neighbors of a central atom in a comp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ratio of radii of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rangement of ions of a given size will allow them to be the most closely pac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affects ionic rad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CN results in larger ionic rad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2: Lin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5638320"/>
            <a:ext cx="525780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important in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arbon-dioxide-b-150"/>
          <p:cNvPicPr/>
          <p:nvPr/>
        </p:nvPicPr>
        <p:blipFill>
          <a:blip r:embed="rId1"/>
          <a:stretch/>
        </p:blipFill>
        <p:spPr>
          <a:xfrm>
            <a:off x="2514600" y="1600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932080" y="20178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27T13:43:01Z</dcterms:modified>
  <cp:revision>41</cp:revision>
  <dc:subject/>
  <dc:title>Minerals and Their  Physical Properties</dc:title>
</cp:coreProperties>
</file>