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F68B-E9BF-465A-8F98-A6CBC749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4CE-333A-43FB-A77C-35250AED36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B0C6-D088-4356-986B-91032C53E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3A8-B51C-4608-85F1-02CDD7E5D7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E22-FADB-48D0-AE6D-8DE7529665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F4E-2D32-4081-93E8-1AA2754AE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1073-53C0-4E1F-8A1B-FA50398E75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509-8B28-421C-BB2C-D23FBCC27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E0D2-22E7-4A15-B2F0-3D84B145C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F84E-0536-48A3-B4EF-6BB2D6809E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A6B2-5DBB-4C6F-B18E-C05CC1471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8AD1-8E6F-4EAB-956C-91DD2A54D6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6FEA-7749-487F-B34E-DE0F06688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6BBB-66CC-4DDB-9FCC-F5295FDBF9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DA42-7640-44C3-AA91-F0DA58FC03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1DD7-5FE2-42D3-9B74-3247D6DE7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3B85-B330-45B8-8FCD-55799CF7C5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3A60-83B9-4D54-BD62-E6887F17D6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D8AF-6212-4688-85B8-A4F267A34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838E-D504-47E2-84C8-389D58C0F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763-AA9E-49BC-91D6-D3241A4E1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263A-E4A2-432C-ACAD-84F3A6473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E663-E264-4114-B0AD-6F66A4CB01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1257-96BC-4B05-8964-5029D6FF69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5AE4-6335-4337-9196-C9C9659F94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A65-B653-44BD-976E-FFDB2709B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7521-BA78-41EE-8D55-88F8F37E2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CC7E-C598-406D-875A-CC3EDDE34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7503-D694-4A01-8F26-46D5389640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EF28-28C8-4921-946E-CA9CE3BF3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250-DA94-42D7-BFF4-FE94F56F6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14AE-6825-40FD-A21D-C4D4FFB3E4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202-B766-405E-BD54-626DABB6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5C1-17A8-4FD0-ADA5-E72EDEAE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F47-7CBE-4D5C-932D-1C58C4A8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B49-9E39-4CA8-A148-F0F19C61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FF5B-E304-4557-BCE0-2251BF86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0A91-BB34-4AA1-85C3-D0359F19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149-540C-4A40-BE06-EA1E54F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28FB-5C65-471A-BD18-8822648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B512-EDA7-4D1A-8637-256D4D81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FE73-2FB6-47F8-B4AF-8C3D843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4978-CBFE-428F-B7EB-AB7D6CA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56F-A462-48D5-8DBF-DCB97DD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4ECE-A3E1-49D9-A0E4-2F2E5969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FAB7-F7BB-440A-8A35-C22DB43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C719-F2AE-4F40-B95A-F042B68C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B739-9F5F-481B-9CAB-A4D9CCEC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EF39-D433-4AEA-85CC-9F2EF30E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D6E-4B39-4765-BE69-7C525BA5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60D-D9D6-4E7F-A010-0D374575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497-DA70-46E1-B6B3-9ACC8137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060-EC1E-47D0-B9FB-9C043EA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9F0-2F12-4885-8AEB-A3C55C0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C83-A319-48BD-8142-DC822EB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044-A681-4DBE-A4F1-93623A8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63C7-4965-429D-9507-D15B90F24A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AD9A-C36C-41B7-A93D-16D308D0C1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onic Coordination and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ilicate Struc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3: Triangul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7" descr="203co3-2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4: Tetr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sio4_tetraeder_gre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6: Oct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5" descr="FG11_40"/>
          <p:cNvPicPr/>
          <p:nvPr/>
        </p:nvPicPr>
        <p:blipFill>
          <a:blip r:embed="rId1"/>
          <a:stretch/>
        </p:blipFill>
        <p:spPr>
          <a:xfrm>
            <a:off x="2178000" y="1600200"/>
            <a:ext cx="4788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8: Cu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5" descr="FG11_46"/>
          <p:cNvPicPr/>
          <p:nvPr/>
        </p:nvPicPr>
        <p:blipFill>
          <a:blip r:embed="rId1"/>
          <a:stretch/>
        </p:blipFill>
        <p:spPr>
          <a:xfrm>
            <a:off x="457200" y="2770200"/>
            <a:ext cx="8229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N=12: Hexagonal 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ubic Close Packe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FG11_42"/>
          <p:cNvPicPr/>
          <p:nvPr/>
        </p:nvPicPr>
        <p:blipFill>
          <a:blip r:embed="rId1"/>
          <a:stretch/>
        </p:blipFill>
        <p:spPr>
          <a:xfrm>
            <a:off x="914400" y="1676520"/>
            <a:ext cx="7292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oordination of Common Crustal Ion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752480"/>
          <a:ext cx="7543800" cy="440064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990720"/>
                <a:gridCol w="3352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with 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/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/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ic/Clos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neral Formula for Silica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in silicates will be in tetrahedral, octahedral, or cubic/closest packed coordi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Form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= 8-12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= 6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 = 4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=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 = OH, F, 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286000"/>
          <a:ext cx="4038480" cy="337644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2057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T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B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R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neral Formula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,Na)(Mg,Fe,Al,Ti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ov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)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H,F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giocla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a,Ca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: Ionic Bond Str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onic structure will be stable to the extent that the sum of the strengths of the electrostatic bonds that reach an ion equal the charge on that 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static Valency = Cation Charge/C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bo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carbonateion"/>
          <p:cNvPicPr/>
          <p:nvPr/>
        </p:nvPicPr>
        <p:blipFill>
          <a:blip r:embed="rId1"/>
          <a:stretch/>
        </p:blipFill>
        <p:spPr>
          <a:xfrm>
            <a:off x="3429000" y="4191120"/>
            <a:ext cx="2173320" cy="243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lecstat4"/>
          <p:cNvPicPr/>
          <p:nvPr/>
        </p:nvPicPr>
        <p:blipFill>
          <a:blip r:embed="rId2"/>
          <a:stretch/>
        </p:blipFill>
        <p:spPr>
          <a:xfrm>
            <a:off x="5867280" y="4191120"/>
            <a:ext cx="2819520" cy="2439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svalency6"/>
          <p:cNvPicPr/>
          <p:nvPr/>
        </p:nvPicPr>
        <p:blipFill>
          <a:blip r:embed="rId3"/>
          <a:stretch/>
        </p:blipFill>
        <p:spPr>
          <a:xfrm>
            <a:off x="533520" y="411480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1 and 2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coordination numbers for Si and Al result in complex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tetrahedra and Al octahedra must bond with other 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cat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hedra and octahedra must commonly share oxygens with other complex 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676520"/>
          <a:ext cx="7391520" cy="4665600"/>
        </p:xfrm>
        <a:graphic>
          <a:graphicData uri="http://schemas.openxmlformats.org/drawingml/2006/table">
            <a:tbl>
              <a:tblPr/>
              <a:tblGrid>
                <a:gridCol w="2209680"/>
                <a:gridCol w="1517760"/>
                <a:gridCol w="1797120"/>
                <a:gridCol w="186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3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edges, and particularly faces of two anion polyhedra in a crystal structure decreases its s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s distance between cations, and therefore minimizes repul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polyedge"/>
          <p:cNvPicPr/>
          <p:nvPr/>
        </p:nvPicPr>
        <p:blipFill>
          <a:blip r:embed="rId1"/>
          <a:stretch/>
        </p:blipFill>
        <p:spPr>
          <a:xfrm>
            <a:off x="1219320" y="4016520"/>
            <a:ext cx="64008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 3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ilicates the tetrahedra will share oxygens with neighboring tetrahedra, as well as with neighboring octahe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4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rystal structure containing several cations, those of high valency and small coordination number te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to share polyhedral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llow-up to Rul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3 and 4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4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as a high valency and low coordination number (4 with oxygen), so silica tetrahedra will not share sides or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rangements of silica tetrahedra must be based on the sharing of ap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solated Tetraheda Silicates (Nes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hedra do not share any oxygens with neighboring silicon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Olivine, Garnet, Ky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silicat_insel"/>
          <p:cNvPicPr/>
          <p:nvPr/>
        </p:nvPicPr>
        <p:blipFill>
          <a:blip r:embed="rId1"/>
          <a:stretch/>
        </p:blipFill>
        <p:spPr>
          <a:xfrm>
            <a:off x="5562720" y="1828800"/>
            <a:ext cx="2286000" cy="1482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tomic_structure_of_olivine_1"/>
          <p:cNvPicPr/>
          <p:nvPr/>
        </p:nvPicPr>
        <p:blipFill>
          <a:blip r:embed="rId2"/>
          <a:stretch/>
        </p:blipFill>
        <p:spPr>
          <a:xfrm>
            <a:off x="5334120" y="3657600"/>
            <a:ext cx="2857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ired Silicates (Sor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rs of tetrahedra share one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Epid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silicat_gruppen"/>
          <p:cNvPicPr/>
          <p:nvPr/>
        </p:nvPicPr>
        <p:blipFill>
          <a:blip r:embed="rId1"/>
          <a:stretch/>
        </p:blipFill>
        <p:spPr>
          <a:xfrm>
            <a:off x="4800600" y="1752480"/>
            <a:ext cx="342900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5-Emerald"/>
          <p:cNvPicPr/>
          <p:nvPr/>
        </p:nvPicPr>
        <p:blipFill>
          <a:blip r:embed="rId1"/>
          <a:stretch/>
        </p:blipFill>
        <p:spPr>
          <a:xfrm>
            <a:off x="4800600" y="3048120"/>
            <a:ext cx="3760920" cy="3292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ing Silicates (Cycl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tourmaline, ber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silicat_ring"/>
          <p:cNvPicPr/>
          <p:nvPr/>
        </p:nvPicPr>
        <p:blipFill>
          <a:blip r:embed="rId2"/>
          <a:stretch/>
        </p:blipFill>
        <p:spPr>
          <a:xfrm>
            <a:off x="5410080" y="1600200"/>
            <a:ext cx="266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ng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yrox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silicat_ketten"/>
          <p:cNvPicPr/>
          <p:nvPr/>
        </p:nvPicPr>
        <p:blipFill>
          <a:blip r:embed="rId1"/>
          <a:stretch/>
        </p:blipFill>
        <p:spPr>
          <a:xfrm>
            <a:off x="1600200" y="4952880"/>
            <a:ext cx="5334120" cy="17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deite"/>
          <p:cNvPicPr/>
          <p:nvPr/>
        </p:nvPicPr>
        <p:blipFill>
          <a:blip r:embed="rId2"/>
          <a:stretch/>
        </p:blipFill>
        <p:spPr>
          <a:xfrm>
            <a:off x="4648320" y="1523880"/>
            <a:ext cx="39132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ub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oxygens (2 and 3 alternation)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amphib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silicat_band"/>
          <p:cNvPicPr/>
          <p:nvPr/>
        </p:nvPicPr>
        <p:blipFill>
          <a:blip r:embed="rId1"/>
          <a:stretch/>
        </p:blipFill>
        <p:spPr>
          <a:xfrm>
            <a:off x="6477120" y="304920"/>
            <a:ext cx="2089080" cy="3962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Tremolite"/>
          <p:cNvPicPr/>
          <p:nvPr/>
        </p:nvPicPr>
        <p:blipFill>
          <a:blip r:embed="rId2"/>
          <a:stretch/>
        </p:blipFill>
        <p:spPr>
          <a:xfrm>
            <a:off x="5029200" y="4413240"/>
            <a:ext cx="38098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04920" y="30492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eet Silica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Phyll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hree oxygens to form a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m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silicat_schicht"/>
          <p:cNvPicPr/>
          <p:nvPr/>
        </p:nvPicPr>
        <p:blipFill>
          <a:blip r:embed="rId1"/>
          <a:stretch/>
        </p:blipFill>
        <p:spPr>
          <a:xfrm>
            <a:off x="5029200" y="304920"/>
            <a:ext cx="3438360" cy="3152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Muscovite"/>
          <p:cNvPicPr/>
          <p:nvPr/>
        </p:nvPicPr>
        <p:blipFill>
          <a:blip r:embed="rId2"/>
          <a:stretch/>
        </p:blipFill>
        <p:spPr>
          <a:xfrm>
            <a:off x="5029200" y="3657600"/>
            <a:ext cx="33796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371600"/>
          <a:ext cx="7620120" cy="5370480"/>
        </p:xfrm>
        <a:graphic>
          <a:graphicData uri="http://schemas.openxmlformats.org/drawingml/2006/table">
            <a:tbl>
              <a:tblPr/>
              <a:tblGrid>
                <a:gridCol w="2133720"/>
                <a:gridCol w="3006720"/>
                <a:gridCol w="24796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Radius (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/0.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/1.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/1.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1/1.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ramework Silicates (Tect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s of tetrahedra share all 4 oxygens in 3 dimensions to form a 3-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ll tetrahedra are cored by silicon then there is no charge im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quar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ome tetrahedra are cored by Al, then the remaining charge balance achieved by bonding with 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feldsp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silicat_geruest"/>
          <p:cNvPicPr/>
          <p:nvPr/>
        </p:nvPicPr>
        <p:blipFill>
          <a:blip r:embed="rId1"/>
          <a:stretch/>
        </p:blipFill>
        <p:spPr>
          <a:xfrm>
            <a:off x="4724280" y="1981080"/>
            <a:ext cx="40482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licon Content of Silicat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066680"/>
          <a:ext cx="8229600" cy="5486400"/>
        </p:xfrm>
        <a:graphic>
          <a:graphicData uri="http://schemas.openxmlformats.org/drawingml/2006/table">
            <a:tbl>
              <a:tblPr/>
              <a:tblGrid>
                <a:gridCol w="2590920"/>
                <a:gridCol w="3809880"/>
                <a:gridCol w="182880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:O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Sing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g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Doub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O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t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toms and Ions Have Different Radi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6" descr="FG08_14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ULE 1: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round every cation, a coordination polyhedron of anions forms, in which the cation-anion distance is determined by the radius sums and the coordination number is determined by the radius ratio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tetrahedcoord"/>
          <p:cNvPicPr/>
          <p:nvPr/>
        </p:nvPicPr>
        <p:blipFill>
          <a:blip r:embed="rId1"/>
          <a:stretch/>
        </p:blipFill>
        <p:spPr>
          <a:xfrm>
            <a:off x="1143000" y="4495680"/>
            <a:ext cx="3200400" cy="170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octahedcoord"/>
          <p:cNvPicPr/>
          <p:nvPr/>
        </p:nvPicPr>
        <p:blipFill>
          <a:blip r:embed="rId2"/>
          <a:stretch/>
        </p:blipFill>
        <p:spPr>
          <a:xfrm>
            <a:off x="4876920" y="4191120"/>
            <a:ext cx="3504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tion-Anion Distance (Ionic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6" descr="FG08_11"/>
          <p:cNvPicPr/>
          <p:nvPr/>
        </p:nvPicPr>
        <p:blipFill>
          <a:blip r:embed="rId1"/>
          <a:stretch/>
        </p:blipFill>
        <p:spPr>
          <a:xfrm>
            <a:off x="2666880" y="1905120"/>
            <a:ext cx="4235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valent Radius IS Smaller than Ionic Radiu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5" descr="FG08_08"/>
          <p:cNvPicPr/>
          <p:nvPr/>
        </p:nvPicPr>
        <p:blipFill>
          <a:blip r:embed="rId1"/>
          <a:stretch/>
        </p:blipFill>
        <p:spPr>
          <a:xfrm>
            <a:off x="2133720" y="1752480"/>
            <a:ext cx="4968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ordination Numb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rdination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.n.) is the sum of the total number of neighbors of a central atom in a compou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by the ratio of radii of th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rangement of ions of a given size will allow them to be the most closely pack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number affects ionic rad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CN results in larger ionic rad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2: Lin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5638320"/>
            <a:ext cx="525780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important in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arbon-dioxide-b-150"/>
          <p:cNvPicPr/>
          <p:nvPr/>
        </p:nvPicPr>
        <p:blipFill>
          <a:blip r:embed="rId1"/>
          <a:stretch/>
        </p:blipFill>
        <p:spPr>
          <a:xfrm>
            <a:off x="2514600" y="16002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932080" y="20178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27T13:43:01Z</dcterms:modified>
  <cp:revision>41</cp:revision>
  <dc:subject/>
  <dc:title>Minerals and Their  Physical Properties</dc:title>
</cp:coreProperties>
</file>