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FCCF-B16E-4508-AE95-A7855F08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D754-9047-44A2-B2FB-CC0D00890B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B727-A25E-40CE-AD92-479EA8DEC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4ED-2040-430C-800B-06E79D2A1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274-CFBE-49E8-8658-39D8BE9077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AD03-4B0C-468C-AE7F-40ACED131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C4AB-E2E3-4801-8A30-B5026467A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CAB1-D447-4C5B-9D6F-B42B1033AF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8796-ACAF-4E86-8647-86E2C5F656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DBB-381C-40DA-8053-5061D5377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BE52-09B0-43C8-8886-DE90B7E0B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7CC5-A823-4204-87CA-0B114780A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D295-2826-4EED-8934-D945F6052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BE7-9462-4D19-9409-83C1EA7DA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CBB6-14F2-4D92-9E3A-13A7E3C3E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171-76B1-449D-A4A2-88782401C3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58A1-6F08-432D-A7F5-0A2A445200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3678-48A7-4F2A-85FB-8C7D914D4A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F4A-2AD3-4B08-9204-2B172AD77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0C99-114C-478A-B12C-54E9A66F3C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3568-C21E-44FA-984E-C87941C5A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186-7E12-45B7-BDBF-9AAC9B68F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64E2-1E29-40EB-88BC-111F188A86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883A-70EE-4846-AA6F-452B84112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B020-0FFF-459F-86B4-374E5FC913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8F42-B680-4806-9383-7F3840D548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40BA-FB8B-4F97-B48B-49226F5B85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F064-AD17-4CCE-88AC-8054859416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DD8-2456-43F0-B2B7-AD7834301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B96B-6168-4A39-8093-FF05EBF380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CE29-38EA-4535-B4C6-82703FAD3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6870-9607-42C2-9D8D-0AF992A5DB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B56-50AD-477A-85EF-9F6D3B20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35D-8D56-44DF-8989-58C5B18A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522-AD64-453C-84F1-FC7409B0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36F-75FC-45A2-A23B-212311B2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90A0-E366-45E6-AC9E-205C88C5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EED8-CF4F-4B18-BF81-AFB9E975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9D82-BDA4-480B-8962-EC39DA9D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A5A7-3A52-49EF-BF45-E056D9C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6BE7-6CEF-465E-B244-C2DC0095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BDA6-C15C-4A4F-9FF7-3CF69FE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6464-869D-4D31-8C0E-8195806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A82-AC07-4AB7-BF7D-3BFE200B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50F4-E155-49F0-804C-F4354B0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7ACB-50A2-4359-AB52-E6B17BA7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2CD-87B9-4B20-9E7C-81AA48F2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2383-C038-4C15-B157-B717CC5F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95AF-5FFC-471F-BD93-C81CA95B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996-8677-4811-8E68-268F728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B68-8249-4A62-B0D9-2BE4755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BC8-CFBF-4E6C-BD59-6EDDD10D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A12-3AD5-4933-A0B3-399A7CBA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85C-E05F-4509-B27E-31169DE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4A8-4955-49F8-9D80-280F132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0DD-97F1-4F66-A870-C5589C4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A4E9-CB11-4DB8-9E74-77C41F244B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0344-3D54-408F-A81A-44BE2D8E7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onic Coordination and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ilicate Struc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3: Triangul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7" descr="203co3-2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4: Tetr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sio4_tetraeder_gre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6: Octahedr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Picture 5" descr="FG11_40"/>
          <p:cNvPicPr/>
          <p:nvPr/>
        </p:nvPicPr>
        <p:blipFill>
          <a:blip r:embed="rId1"/>
          <a:stretch/>
        </p:blipFill>
        <p:spPr>
          <a:xfrm>
            <a:off x="2178000" y="1600200"/>
            <a:ext cx="4788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8: Cu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Picture 5" descr="FG11_46"/>
          <p:cNvPicPr/>
          <p:nvPr/>
        </p:nvPicPr>
        <p:blipFill>
          <a:blip r:embed="rId1"/>
          <a:stretch/>
        </p:blipFill>
        <p:spPr>
          <a:xfrm>
            <a:off x="457200" y="2770200"/>
            <a:ext cx="8229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N=12: Hexagonal or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ubic Close Packed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FG11_42"/>
          <p:cNvPicPr/>
          <p:nvPr/>
        </p:nvPicPr>
        <p:blipFill>
          <a:blip r:embed="rId1"/>
          <a:stretch/>
        </p:blipFill>
        <p:spPr>
          <a:xfrm>
            <a:off x="914400" y="1676520"/>
            <a:ext cx="7292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oordination of Common Crustal Ion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752480"/>
          <a:ext cx="7543800" cy="4400640"/>
        </p:xfrm>
        <a:graphic>
          <a:graphicData uri="http://schemas.openxmlformats.org/drawingml/2006/table">
            <a:tbl>
              <a:tblPr/>
              <a:tblGrid>
                <a:gridCol w="1447920"/>
                <a:gridCol w="1752480"/>
                <a:gridCol w="990720"/>
                <a:gridCol w="3352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ion with 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/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trahedral/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ctahedral/Cub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ic/Clos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eneral Formula for Silica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in silicates will be in tetrahedral, octahedral, or cubic/closest packed coord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Formu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 = 8-12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= 6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 = 4 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=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 = OH, F, 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286000"/>
          <a:ext cx="4038480" cy="337644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2057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Fe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g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Mn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Ti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C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B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Rb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neral Formula 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Z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,Na)(Mg,Fe,Al,Ti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ovi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)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H,F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gioclas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a,Ca)(Si,Al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: Ionic Bond Str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onic structure will be stable to the extent that the sum of the strengths of the electrostatic bonds that reach an ion equal the charge on that 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static Valency = Cation Charge/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bond str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carbonateion"/>
          <p:cNvPicPr/>
          <p:nvPr/>
        </p:nvPicPr>
        <p:blipFill>
          <a:blip r:embed="rId1"/>
          <a:stretch/>
        </p:blipFill>
        <p:spPr>
          <a:xfrm>
            <a:off x="3429000" y="4191120"/>
            <a:ext cx="2173320" cy="243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lecstat4"/>
          <p:cNvPicPr/>
          <p:nvPr/>
        </p:nvPicPr>
        <p:blipFill>
          <a:blip r:embed="rId2"/>
          <a:stretch/>
        </p:blipFill>
        <p:spPr>
          <a:xfrm>
            <a:off x="5867280" y="4191120"/>
            <a:ext cx="2819520" cy="2439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svalency6"/>
          <p:cNvPicPr/>
          <p:nvPr/>
        </p:nvPicPr>
        <p:blipFill>
          <a:blip r:embed="rId3"/>
          <a:stretch/>
        </p:blipFill>
        <p:spPr>
          <a:xfrm>
            <a:off x="533520" y="4114800"/>
            <a:ext cx="2666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1 and 2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coordination numbers for Si and Al result in complex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tetrahedra and Al octahedra must bond with other 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cations to balance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trahedra and octahedra must commonly share oxygens with other complex 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676520"/>
          <a:ext cx="7391520" cy="4665600"/>
        </p:xfrm>
        <a:graphic>
          <a:graphicData uri="http://schemas.openxmlformats.org/drawingml/2006/table">
            <a:tbl>
              <a:tblPr/>
              <a:tblGrid>
                <a:gridCol w="2209680"/>
                <a:gridCol w="1517760"/>
                <a:gridCol w="1797120"/>
                <a:gridCol w="186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l w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by m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3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edges, and particularly faces of two anion polyhedra in a crystal structure decreases its s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s distance between cations, and therefore minimizes repul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polyedge"/>
          <p:cNvPicPr/>
          <p:nvPr/>
        </p:nvPicPr>
        <p:blipFill>
          <a:blip r:embed="rId1"/>
          <a:stretch/>
        </p:blipFill>
        <p:spPr>
          <a:xfrm>
            <a:off x="1219320" y="4016520"/>
            <a:ext cx="64008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 3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ilicates the tetrahedra will share oxygens with neighboring tetrahedra, as well as with neighboring octahe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LE 4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crystal structure containing several cations, those of high valency and small coordination number te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to share polyhedral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llow-up to Rul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quirements of Rules 3 and 4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4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has a high valency and low coordination number (4 with oxygen), so silica tetrahedra will not share sides or 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rangements of silica tetrahedra must be based on the sharing of ap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solated Tetraheda Silicates (Nes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hedra do not share any oxygens with neighboring silicon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Olivine, Garnet, Ky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silicat_insel"/>
          <p:cNvPicPr/>
          <p:nvPr/>
        </p:nvPicPr>
        <p:blipFill>
          <a:blip r:embed="rId1"/>
          <a:stretch/>
        </p:blipFill>
        <p:spPr>
          <a:xfrm>
            <a:off x="5562720" y="1828800"/>
            <a:ext cx="2286000" cy="1482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tomic_structure_of_olivine_1"/>
          <p:cNvPicPr/>
          <p:nvPr/>
        </p:nvPicPr>
        <p:blipFill>
          <a:blip r:embed="rId2"/>
          <a:stretch/>
        </p:blipFill>
        <p:spPr>
          <a:xfrm>
            <a:off x="5334120" y="3657600"/>
            <a:ext cx="28573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ired Silicates (Sor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rs of tetrahedra share one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Epid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silicat_gruppen"/>
          <p:cNvPicPr/>
          <p:nvPr/>
        </p:nvPicPr>
        <p:blipFill>
          <a:blip r:embed="rId1"/>
          <a:stretch/>
        </p:blipFill>
        <p:spPr>
          <a:xfrm>
            <a:off x="4800600" y="1752480"/>
            <a:ext cx="342900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5-Emerald"/>
          <p:cNvPicPr/>
          <p:nvPr/>
        </p:nvPicPr>
        <p:blipFill>
          <a:blip r:embed="rId1"/>
          <a:stretch/>
        </p:blipFill>
        <p:spPr>
          <a:xfrm>
            <a:off x="4800600" y="3048120"/>
            <a:ext cx="3760920" cy="3292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ing Silicates (Cyclosilicates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tourmaline, ber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silicat_ring"/>
          <p:cNvPicPr/>
          <p:nvPr/>
        </p:nvPicPr>
        <p:blipFill>
          <a:blip r:embed="rId2"/>
          <a:stretch/>
        </p:blipFill>
        <p:spPr>
          <a:xfrm>
            <a:off x="5410080" y="1600200"/>
            <a:ext cx="2667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ng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wo oxygens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yrox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silicat_ketten"/>
          <p:cNvPicPr/>
          <p:nvPr/>
        </p:nvPicPr>
        <p:blipFill>
          <a:blip r:embed="rId1"/>
          <a:stretch/>
        </p:blipFill>
        <p:spPr>
          <a:xfrm>
            <a:off x="1600200" y="4952880"/>
            <a:ext cx="5334120" cy="1755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Jadeite"/>
          <p:cNvPicPr/>
          <p:nvPr/>
        </p:nvPicPr>
        <p:blipFill>
          <a:blip r:embed="rId2"/>
          <a:stretch/>
        </p:blipFill>
        <p:spPr>
          <a:xfrm>
            <a:off x="4648320" y="1523880"/>
            <a:ext cx="3913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864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ouble-Chain Silicates (In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oxygens (2 and 3 alternation) to form a ch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amphib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silicat_band"/>
          <p:cNvPicPr/>
          <p:nvPr/>
        </p:nvPicPr>
        <p:blipFill>
          <a:blip r:embed="rId1"/>
          <a:stretch/>
        </p:blipFill>
        <p:spPr>
          <a:xfrm>
            <a:off x="6477120" y="304920"/>
            <a:ext cx="2089080" cy="3962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Tremolite"/>
          <p:cNvPicPr/>
          <p:nvPr/>
        </p:nvPicPr>
        <p:blipFill>
          <a:blip r:embed="rId2"/>
          <a:stretch/>
        </p:blipFill>
        <p:spPr>
          <a:xfrm>
            <a:off x="5029200" y="4413240"/>
            <a:ext cx="38098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04920" y="30492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eet Silicates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(Phyll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f tetrahedra share three oxygens to form a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ining charge balance achieved by bonding with 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m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silicat_schicht"/>
          <p:cNvPicPr/>
          <p:nvPr/>
        </p:nvPicPr>
        <p:blipFill>
          <a:blip r:embed="rId1"/>
          <a:stretch/>
        </p:blipFill>
        <p:spPr>
          <a:xfrm>
            <a:off x="5029200" y="304920"/>
            <a:ext cx="3438360" cy="3152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Muscovite"/>
          <p:cNvPicPr/>
          <p:nvPr/>
        </p:nvPicPr>
        <p:blipFill>
          <a:blip r:embed="rId2"/>
          <a:stretch/>
        </p:blipFill>
        <p:spPr>
          <a:xfrm>
            <a:off x="5029200" y="3657600"/>
            <a:ext cx="337968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mental Abundance in Crus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371600"/>
          <a:ext cx="7620120" cy="5370480"/>
        </p:xfrm>
        <a:graphic>
          <a:graphicData uri="http://schemas.openxmlformats.org/drawingml/2006/table">
            <a:tbl>
              <a:tblPr/>
              <a:tblGrid>
                <a:gridCol w="2133720"/>
                <a:gridCol w="3006720"/>
                <a:gridCol w="247968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c Radius (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/R</a:t>
                      </a:r>
                      <a:r>
                        <a:rPr b="1" lang="en-US" sz="2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Oxy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/0.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0/0.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/1.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6/0.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/1.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/0.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1/1.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/1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4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Framework Silicates (Tectosilicates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s of tetrahedra share all 4 oxygens in 3 dimensions to form a 3-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ll tetrahedra are cored by silicon then there is no charge im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quar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me tetrahedra are cored by Al, then the remaining charge balance achieved by bonding with 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feldsp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silicat_geruest"/>
          <p:cNvPicPr/>
          <p:nvPr/>
        </p:nvPicPr>
        <p:blipFill>
          <a:blip r:embed="rId1"/>
          <a:stretch/>
        </p:blipFill>
        <p:spPr>
          <a:xfrm>
            <a:off x="4724280" y="1981080"/>
            <a:ext cx="40482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licon Content of Silicat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066680"/>
          <a:ext cx="8229600" cy="5486400"/>
        </p:xfrm>
        <a:graphic>
          <a:graphicData uri="http://schemas.openxmlformats.org/drawingml/2006/table">
            <a:tbl>
              <a:tblPr/>
              <a:tblGrid>
                <a:gridCol w="2590920"/>
                <a:gridCol w="3809880"/>
                <a:gridCol w="182880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UC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FORMU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:O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r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Sing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Mg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osilicates (Double Chai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OH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l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)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to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O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: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Atoms and Ions Have Different Radii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6" descr="FG08_14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auling’s Rul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ULE 1: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round every cation, a coordination polyhedron of anions forms, in which the cation-anion distance is determined by the radius sums and the coordination number is determined by the radius ratio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tetrahedcoord"/>
          <p:cNvPicPr/>
          <p:nvPr/>
        </p:nvPicPr>
        <p:blipFill>
          <a:blip r:embed="rId1"/>
          <a:stretch/>
        </p:blipFill>
        <p:spPr>
          <a:xfrm>
            <a:off x="1143000" y="4495680"/>
            <a:ext cx="3200400" cy="170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octahedcoord"/>
          <p:cNvPicPr/>
          <p:nvPr/>
        </p:nvPicPr>
        <p:blipFill>
          <a:blip r:embed="rId2"/>
          <a:stretch/>
        </p:blipFill>
        <p:spPr>
          <a:xfrm>
            <a:off x="4876920" y="4191120"/>
            <a:ext cx="3504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tion-Anion Distance (Ionic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FG08_11"/>
          <p:cNvPicPr/>
          <p:nvPr/>
        </p:nvPicPr>
        <p:blipFill>
          <a:blip r:embed="rId1"/>
          <a:stretch/>
        </p:blipFill>
        <p:spPr>
          <a:xfrm>
            <a:off x="2666880" y="1905120"/>
            <a:ext cx="42354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ovalent Radius IS Smaller than Ionic Radiu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5" descr="FG08_08"/>
          <p:cNvPicPr/>
          <p:nvPr/>
        </p:nvPicPr>
        <p:blipFill>
          <a:blip r:embed="rId1"/>
          <a:stretch/>
        </p:blipFill>
        <p:spPr>
          <a:xfrm>
            <a:off x="2133720" y="1752480"/>
            <a:ext cx="4968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ordination Numb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rdination numb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.n.) is the sum of the total number of neighbors of a central atom in a compou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led by the ratio of radii of th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rangement of ions of a given size will allow them to be the most closely pack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rdination number affects ionic rad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CN results in larger ionic rad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N=2: Line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5638320"/>
            <a:ext cx="525780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important in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arbon-dioxide-b-150"/>
          <p:cNvPicPr/>
          <p:nvPr/>
        </p:nvPicPr>
        <p:blipFill>
          <a:blip r:embed="rId1"/>
          <a:stretch/>
        </p:blipFill>
        <p:spPr>
          <a:xfrm>
            <a:off x="2514600" y="16002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932080" y="20178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43:46Z</dcterms:created>
  <dc:creator>authorized user</dc:creator>
  <dc:description/>
  <dc:language>en-US</dc:language>
  <cp:lastModifiedBy>ksu</cp:lastModifiedBy>
  <dcterms:modified xsi:type="dcterms:W3CDTF">2011-10-27T13:43:01Z</dcterms:modified>
  <cp:revision>41</cp:revision>
  <dc:subject/>
  <dc:title>Minerals and Their  Physical Properties</dc:title>
</cp:coreProperties>
</file>