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54CE-0955-4558-9E6B-DE1B652BA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C7A9-2E2A-404C-B0A6-A5CD39FFBA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CD84-338F-4360-88A8-EA0FB7B902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518E-18D5-4BD9-897F-2410B6C21B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C723-99C4-4F61-BCED-6FE9C910E4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D8DA-A502-464E-802B-0711D0A6DA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B2D3-BFB8-4D18-BFC8-60E9DCE566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AC18-8108-48C3-A9C7-90BA9A5A81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86B5-A5AF-4DEF-8396-284F03F2B1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8557-89FF-4479-A1D1-DA1EAA4FC7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4820-D22E-4C69-9684-D422AE1C69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B9C0-BEA5-4773-BCBD-2CD3E1168F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B0D8-B69A-4179-A796-C5F677C47A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A41D-D819-4B71-8C84-7304B949A9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4C7E-1A71-4459-9087-8CF3748313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DB81-83AB-4BB4-AF2B-D278CD8C98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679B-58FD-4BA1-9801-86B47FD129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91CE-1B8D-4AB4-B19E-2CC598D0A8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94CF-189F-4F05-A07E-E461F2E2D6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89CC-AF71-44D8-B677-6015EAA372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22A5-42FC-43AF-8E4C-44EB5D7F5A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6556-2ACF-4795-963C-37322FA344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3B93-5ECC-4038-A041-167457EF47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8067-8F4A-48F1-96A4-91A1367CB6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3D68-FB65-447E-B008-0D6C2FE6B0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3A17-9C06-4697-A092-E78DFFBF07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1906-3DAA-4758-9977-55DE2025C8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F2F3-A124-4372-9687-9BA5CFB6D3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47E9-95C6-4BFA-82F9-0BBA35BB0A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4B75-9F79-45A5-A012-328BADAF50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07BF-D077-42DE-80E7-2896132A34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FD5A-AD36-4F25-877E-F3409EC719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0AE-1550-45B7-81E9-5A633CD0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04C-543A-49C7-A38F-1F913E4E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B9A5-1418-4728-920F-206FBFBE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651-93BB-4E9B-A7AC-99F644E5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EDFE-E999-4CB5-A388-81DE3939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DA0C-B539-4740-9664-4B4C9BC3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F38C-5EE2-46E3-8366-F0450FEC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7DA9-E844-49FD-B95F-DBB72306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E2C6-680D-41C8-87E9-06505AEF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1898-DD22-47B2-BDE2-52B8DEC3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6A03-974A-4476-BEB2-F796645E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9E08-9870-49E9-87A9-5DA42C53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3F04-2096-4B3B-AD83-1F6F9F21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8723-BBBA-4211-8370-63CA2486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A77F-7D16-4DB1-889E-10F57AA0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CDEA-C3BB-4293-BAEF-D80EA00F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32A0-0E82-4413-87B8-56F6A177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011-71ED-4CCF-BA6B-D7718628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5DC-9EFB-4FAA-BCA6-95049FEB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A843-A47D-437A-885F-206DBF36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8346-4EC6-4311-AC43-5751525C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B8FC-5DF3-45E0-923E-458375F8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FA7-A97A-42B7-9040-F31A82FF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A10-732B-4EEE-8AF7-959AFC40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800E-AE8E-4378-BAE1-61CE7A92A8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7307-91BD-411A-BC8E-3CBED7E05D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onic Coordination and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ilicate Structur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N=3: Triangul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7" descr="203co3-2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N=4: Tetrahed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5" descr="sio4_tetraeder_gre"/>
          <p:cNvPicPr/>
          <p:nvPr/>
        </p:nvPicPr>
        <p:blipFill>
          <a:blip r:embed="rId1"/>
          <a:stretch/>
        </p:blipFill>
        <p:spPr>
          <a:xfrm>
            <a:off x="1371600" y="1676520"/>
            <a:ext cx="6705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N=6: Octahed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Picture 5" descr="FG11_40"/>
          <p:cNvPicPr/>
          <p:nvPr/>
        </p:nvPicPr>
        <p:blipFill>
          <a:blip r:embed="rId1"/>
          <a:stretch/>
        </p:blipFill>
        <p:spPr>
          <a:xfrm>
            <a:off x="2178000" y="1600200"/>
            <a:ext cx="4788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N=8: Cub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Picture 5" descr="FG11_46"/>
          <p:cNvPicPr/>
          <p:nvPr/>
        </p:nvPicPr>
        <p:blipFill>
          <a:blip r:embed="rId1"/>
          <a:stretch/>
        </p:blipFill>
        <p:spPr>
          <a:xfrm>
            <a:off x="457200" y="2770200"/>
            <a:ext cx="82296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N=12: Hexagonal or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ubic Close Packed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5" descr="FG11_42"/>
          <p:cNvPicPr/>
          <p:nvPr/>
        </p:nvPicPr>
        <p:blipFill>
          <a:blip r:embed="rId1"/>
          <a:stretch/>
        </p:blipFill>
        <p:spPr>
          <a:xfrm>
            <a:off x="914400" y="1676520"/>
            <a:ext cx="7292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oordination of Common Crustal Ion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1752480"/>
          <a:ext cx="7543800" cy="440064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990720"/>
                <a:gridCol w="3352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/R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Oxyg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ion with 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4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trahed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0/0.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trahedral/Octahed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hed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hed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hed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6/0.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hedral/Cub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8/0.8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hedral/Cub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4/1.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/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bic/Clos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neral Formula for Silicat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s in silicates will be in tetrahedral, octahedral, or cubic/closest packed coordin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Formul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= 8-12 C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= 6 C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 = 4 C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= Oxy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 = OH, F, 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48320" y="2286000"/>
          <a:ext cx="4038480" cy="3376440"/>
        </p:xfrm>
        <a:graphic>
          <a:graphicData uri="http://schemas.openxmlformats.org/drawingml/2006/table">
            <a:tbl>
              <a:tblPr/>
              <a:tblGrid>
                <a:gridCol w="914400"/>
                <a:gridCol w="1066680"/>
                <a:gridCol w="20574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4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Al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Fe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Fe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Mg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Mn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Ti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C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-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B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Rb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neral Formula Examp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Z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it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a,Na)(Mg,Fe,Al,Ti)(Si,Al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covit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)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OH,F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gioclas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a,Ca)(Si,Al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uling’s Ru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LE 2: Ionic Bond Strengt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onic structure will be stable to the extent that the sum of the strengths of the electrostatic bonds that reach an ion equal the charge on that 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static Valency = Cation Charge/C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of bond str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carbonateion"/>
          <p:cNvPicPr/>
          <p:nvPr/>
        </p:nvPicPr>
        <p:blipFill>
          <a:blip r:embed="rId1"/>
          <a:stretch/>
        </p:blipFill>
        <p:spPr>
          <a:xfrm>
            <a:off x="3429000" y="4191120"/>
            <a:ext cx="2173320" cy="2438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elecstat4"/>
          <p:cNvPicPr/>
          <p:nvPr/>
        </p:nvPicPr>
        <p:blipFill>
          <a:blip r:embed="rId2"/>
          <a:stretch/>
        </p:blipFill>
        <p:spPr>
          <a:xfrm>
            <a:off x="5867280" y="4191120"/>
            <a:ext cx="2819520" cy="2439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esvalency6"/>
          <p:cNvPicPr/>
          <p:nvPr/>
        </p:nvPicPr>
        <p:blipFill>
          <a:blip r:embed="rId3"/>
          <a:stretch/>
        </p:blipFill>
        <p:spPr>
          <a:xfrm>
            <a:off x="533520" y="4114800"/>
            <a:ext cx="26668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quirements of Rules 1 and 2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ble coordination numbers for Si and Al result in complex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tetrahedra and Al octahedra must bond with other ions to balance negative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fficient cations to balance negative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trahedra and octahedra must commonly share oxygens with other complex 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lemental Abundance in Crus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1676520"/>
          <a:ext cx="7391520" cy="4665600"/>
        </p:xfrm>
        <a:graphic>
          <a:graphicData uri="http://schemas.openxmlformats.org/drawingml/2006/table">
            <a:tbl>
              <a:tblPr/>
              <a:tblGrid>
                <a:gridCol w="2209680"/>
                <a:gridCol w="1517760"/>
                <a:gridCol w="1797120"/>
                <a:gridCol w="186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by w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l w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by m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auling’s Ru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LE 3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d edges, and particularly faces of two anion polyhedra in a crystal structure decreases its st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s distance between cations, and therefore minimizes repul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polyedge"/>
          <p:cNvPicPr/>
          <p:nvPr/>
        </p:nvPicPr>
        <p:blipFill>
          <a:blip r:embed="rId1"/>
          <a:stretch/>
        </p:blipFill>
        <p:spPr>
          <a:xfrm>
            <a:off x="1219320" y="4016520"/>
            <a:ext cx="640080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quirements of Rule 3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ilicates the tetrahedra will share oxygens with neighboring tetrahedra, as well as with neighboring octahed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auling’s Ru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LE 4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crystal structure containing several cations, those of high valency and small coordination number te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to share polyhedral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ollow-up to Rule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quirements of Rules 3 and 4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4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has a high valency and low coordination number (4 with oxygen), so silica tetrahedra will not share sides or 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rangements of silica tetrahedra must be based on the sharing of ap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solated Tetraheda Silicates (Nesosilicate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hedra do not share any oxygens with neighboring silicon 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Olivine, Garnet, Kya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6" descr="silicat_insel"/>
          <p:cNvPicPr/>
          <p:nvPr/>
        </p:nvPicPr>
        <p:blipFill>
          <a:blip r:embed="rId1"/>
          <a:stretch/>
        </p:blipFill>
        <p:spPr>
          <a:xfrm>
            <a:off x="5562720" y="1828800"/>
            <a:ext cx="2286000" cy="1482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Atomic_structure_of_olivine_1"/>
          <p:cNvPicPr/>
          <p:nvPr/>
        </p:nvPicPr>
        <p:blipFill>
          <a:blip r:embed="rId2"/>
          <a:stretch/>
        </p:blipFill>
        <p:spPr>
          <a:xfrm>
            <a:off x="5334120" y="3657600"/>
            <a:ext cx="28573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ired Silicates (Sorosilicates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rs of tetrahedra share one 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Epid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7" descr="silicat_gruppen"/>
          <p:cNvPicPr/>
          <p:nvPr/>
        </p:nvPicPr>
        <p:blipFill>
          <a:blip r:embed="rId1"/>
          <a:stretch/>
        </p:blipFill>
        <p:spPr>
          <a:xfrm>
            <a:off x="4800600" y="1752480"/>
            <a:ext cx="342900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5-Emerald"/>
          <p:cNvPicPr/>
          <p:nvPr/>
        </p:nvPicPr>
        <p:blipFill>
          <a:blip r:embed="rId1"/>
          <a:stretch/>
        </p:blipFill>
        <p:spPr>
          <a:xfrm>
            <a:off x="4800600" y="3048120"/>
            <a:ext cx="3760920" cy="3292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ing Silicates (Cyclosilicates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f tetrahedra share two oxygens to form a 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tourmaline, bery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silicat_ring"/>
          <p:cNvPicPr/>
          <p:nvPr/>
        </p:nvPicPr>
        <p:blipFill>
          <a:blip r:embed="rId2"/>
          <a:stretch/>
        </p:blipFill>
        <p:spPr>
          <a:xfrm>
            <a:off x="5410080" y="1600200"/>
            <a:ext cx="266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ingle-Chain Silicates (Inosilicate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f tetrahedra share two oxygens to form a ch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pyrox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7" descr="silicat_ketten"/>
          <p:cNvPicPr/>
          <p:nvPr/>
        </p:nvPicPr>
        <p:blipFill>
          <a:blip r:embed="rId1"/>
          <a:stretch/>
        </p:blipFill>
        <p:spPr>
          <a:xfrm>
            <a:off x="1600200" y="4952880"/>
            <a:ext cx="5334120" cy="1755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Jadeite"/>
          <p:cNvPicPr/>
          <p:nvPr/>
        </p:nvPicPr>
        <p:blipFill>
          <a:blip r:embed="rId2"/>
          <a:stretch/>
        </p:blipFill>
        <p:spPr>
          <a:xfrm>
            <a:off x="4648320" y="1523880"/>
            <a:ext cx="391320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4864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ouble-Chain Silicates (Inosilicate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f tetrahedra share oxygens (2 and 3 alternation) to form a ch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amphib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7" descr="silicat_band"/>
          <p:cNvPicPr/>
          <p:nvPr/>
        </p:nvPicPr>
        <p:blipFill>
          <a:blip r:embed="rId1"/>
          <a:stretch/>
        </p:blipFill>
        <p:spPr>
          <a:xfrm>
            <a:off x="6477120" y="304920"/>
            <a:ext cx="2089080" cy="3962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Tremolite"/>
          <p:cNvPicPr/>
          <p:nvPr/>
        </p:nvPicPr>
        <p:blipFill>
          <a:blip r:embed="rId2"/>
          <a:stretch/>
        </p:blipFill>
        <p:spPr>
          <a:xfrm>
            <a:off x="5029200" y="4413240"/>
            <a:ext cx="38098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04920" y="30492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heet Silicates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Phyllosilicate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f tetrahedra share three oxygens to form a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m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silicat_schicht"/>
          <p:cNvPicPr/>
          <p:nvPr/>
        </p:nvPicPr>
        <p:blipFill>
          <a:blip r:embed="rId1"/>
          <a:stretch/>
        </p:blipFill>
        <p:spPr>
          <a:xfrm>
            <a:off x="5029200" y="304920"/>
            <a:ext cx="3438360" cy="3152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Muscovite"/>
          <p:cNvPicPr/>
          <p:nvPr/>
        </p:nvPicPr>
        <p:blipFill>
          <a:blip r:embed="rId2"/>
          <a:stretch/>
        </p:blipFill>
        <p:spPr>
          <a:xfrm>
            <a:off x="5029200" y="3657600"/>
            <a:ext cx="337968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lemental Abundance in Crus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480" y="1371600"/>
          <a:ext cx="7620120" cy="5370480"/>
        </p:xfrm>
        <a:graphic>
          <a:graphicData uri="http://schemas.openxmlformats.org/drawingml/2006/table">
            <a:tbl>
              <a:tblPr/>
              <a:tblGrid>
                <a:gridCol w="2133720"/>
                <a:gridCol w="3006720"/>
                <a:gridCol w="24796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ic Radius (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/R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Oxy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4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9/0.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0/0.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/1.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6/0.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2/1.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8/0.8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1/1.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4/1.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4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Framework Silicates (Tectosilicate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s of tetrahedra share all 4 oxygens in 3 dimensions to form a 3-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ll tetrahedra are cored by silicon then there is no charge im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quart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some tetrahedra are cored by Al, then the remaining charge balance achieved by bonding with 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feldsp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7" descr="silicat_geruest"/>
          <p:cNvPicPr/>
          <p:nvPr/>
        </p:nvPicPr>
        <p:blipFill>
          <a:blip r:embed="rId1"/>
          <a:stretch/>
        </p:blipFill>
        <p:spPr>
          <a:xfrm>
            <a:off x="4724280" y="1981080"/>
            <a:ext cx="404820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ilicon Content of Silicat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066680"/>
          <a:ext cx="8229600" cy="5486400"/>
        </p:xfrm>
        <a:graphic>
          <a:graphicData uri="http://schemas.openxmlformats.org/drawingml/2006/table">
            <a:tbl>
              <a:tblPr/>
              <a:tblGrid>
                <a:gridCol w="2590920"/>
                <a:gridCol w="3809880"/>
                <a:gridCol w="182880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C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 FORMU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:O Rat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osilic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osilic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H)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H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3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closilic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osilicates (Single Chai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MgSi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osilicates (Double Chai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i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OH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2.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losilic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H)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2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tosilic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O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Atoms and Ions Have Different Radii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6" descr="FG08_14"/>
          <p:cNvPicPr/>
          <p:nvPr/>
        </p:nvPicPr>
        <p:blipFill>
          <a:blip r:embed="rId1"/>
          <a:stretch/>
        </p:blipFill>
        <p:spPr>
          <a:xfrm>
            <a:off x="1066680" y="1295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auling’s Ru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ULE 1: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round every cation, a coordination polyhedron of anions forms, in which the cation-anion distance is determined by the radius sums and the coordination number is determined by the radius ratio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tetrahedcoord"/>
          <p:cNvPicPr/>
          <p:nvPr/>
        </p:nvPicPr>
        <p:blipFill>
          <a:blip r:embed="rId1"/>
          <a:stretch/>
        </p:blipFill>
        <p:spPr>
          <a:xfrm>
            <a:off x="1143000" y="4495680"/>
            <a:ext cx="3200400" cy="1702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octahedcoord"/>
          <p:cNvPicPr/>
          <p:nvPr/>
        </p:nvPicPr>
        <p:blipFill>
          <a:blip r:embed="rId2"/>
          <a:stretch/>
        </p:blipFill>
        <p:spPr>
          <a:xfrm>
            <a:off x="4876920" y="4191120"/>
            <a:ext cx="3504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tion-Anion Distance (Ionic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6" descr="FG08_11"/>
          <p:cNvPicPr/>
          <p:nvPr/>
        </p:nvPicPr>
        <p:blipFill>
          <a:blip r:embed="rId1"/>
          <a:stretch/>
        </p:blipFill>
        <p:spPr>
          <a:xfrm>
            <a:off x="2666880" y="1905120"/>
            <a:ext cx="4235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ovalent Radius IS Smaller than Ionic Radiu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Picture 5" descr="FG08_08"/>
          <p:cNvPicPr/>
          <p:nvPr/>
        </p:nvPicPr>
        <p:blipFill>
          <a:blip r:embed="rId1"/>
          <a:stretch/>
        </p:blipFill>
        <p:spPr>
          <a:xfrm>
            <a:off x="2133720" y="1752480"/>
            <a:ext cx="496872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ordination Numb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ordination n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.n.) is the sum of the total number of neighbors of a central atom in a compou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led by the ratio of radii of the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rangement of ions of a given size will allow them to be the most closely pack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rdination number affects ionic rad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CN results in larger ionic rad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N=2: Line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4760" y="5638320"/>
            <a:ext cx="5257800" cy="6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important in min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carbon-dioxide-b-150"/>
          <p:cNvPicPr/>
          <p:nvPr/>
        </p:nvPicPr>
        <p:blipFill>
          <a:blip r:embed="rId1"/>
          <a:stretch/>
        </p:blipFill>
        <p:spPr>
          <a:xfrm>
            <a:off x="2514600" y="160020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5932080" y="20178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23:43:46Z</dcterms:created>
  <dc:creator>authorized user</dc:creator>
  <dc:description/>
  <dc:language>en-US</dc:language>
  <cp:lastModifiedBy>ksu</cp:lastModifiedBy>
  <dcterms:modified xsi:type="dcterms:W3CDTF">2011-10-27T13:43:01Z</dcterms:modified>
  <cp:revision>41</cp:revision>
  <dc:subject/>
  <dc:title>Minerals and Their  Physical Properties</dc:title>
</cp:coreProperties>
</file>