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54E1-835A-4D2C-8D7E-24A57547A2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(medicine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E846-B9CA-4837-8670-BB410CDF30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4FF-01D9-4D5B-A66D-DF2E857C779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E7C-B6FD-4D17-AFC6-4171D0E3AE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111-81A3-4697-AC14-DF65F589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26C-EFDA-4C63-AB48-0B591393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6B1-2C59-41EB-BB53-760368D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EC3-B1F1-4231-9E16-1D8A327B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BC23-4B5D-49BA-A624-BF66906A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6661-7B26-44F2-A35C-AFF5B09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A07E-0941-46F5-8B93-1387CCB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98E9-1A7B-4F39-A752-09A559A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FAA-20D3-4005-A69E-020AF1D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523-E0C6-4162-A2C7-4F5F2889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1BE7-CA91-4D58-88B3-F08A55D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5FD-FACA-4ADD-9D0E-CCDBEC8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AD17-CC94-4558-9D87-458820F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35E2-4E87-4ABA-964D-438CE829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B945-C203-41DE-A3B9-3F974EB3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64E1-C61C-4A3C-8BD1-67FC9B0E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43C4-15B3-495A-8AC5-E7F86DD1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6EFC-4EC1-4418-A06B-D9A8C7C6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C8EE-4C52-47CF-B383-DD70B7C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72F1-D41D-4A00-9746-EFB277A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A846-83AB-4988-8D8C-2AAE5CF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F021-1F2F-45C6-AC8A-89335E0D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195-828C-4A75-9D59-8B6D0FA2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34C7-9191-494F-A09C-EDDA434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D040-7751-4098-9898-54A5035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F104-6748-4230-BA85-F25D0F7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2AD7-F58B-412F-9B6E-1E8585C9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7F84-4CE1-4E82-A124-BFF0D05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4850-AF28-4CF6-B458-FD133E7B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DEA0-25F4-4431-BD29-49BF149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AA9-3A87-4D67-A474-F18F831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618-09BF-45F0-A5AC-1632387C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3FA-6F2F-42FF-BB22-1DD118D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D9C-65E2-4CC3-9298-1C94D2D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DF9-A43F-4149-AB70-36CB70A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E1B-5328-43C9-AE08-A8703F73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901-9DA5-4D93-9865-7490D064DDFF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563E-B75D-443F-9188-DE08C941CCCA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985B-344E-47F5-9B0C-424566340E48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528F-1F80-4962-B809-C722CE7B0A43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A37-0881-4059-A145-F6C1ECF49BD7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F51-2890-47AB-ACC2-0CCBB46C2576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6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09" name="Content Placeholder 2"/>
          <p:cNvGrpSpPr/>
          <p:nvPr/>
        </p:nvGrpSpPr>
        <p:grpSpPr>
          <a:xfrm>
            <a:off x="450720" y="2243160"/>
            <a:ext cx="8242560" cy="4340160"/>
            <a:chOff x="450720" y="2243160"/>
            <a:chExt cx="8242560" cy="4340160"/>
          </a:xfrm>
        </p:grpSpPr>
        <p:pic>
          <p:nvPicPr>
            <p:cNvPr id="21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2243160"/>
              <a:ext cx="824256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254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5924520" y="4322880"/>
            <a:ext cx="30672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711680" y="4370400"/>
            <a:ext cx="371952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53880" y="4286160"/>
            <a:ext cx="3864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77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mall dose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”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Large volume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Large volume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</a:t>
            </a:r>
            <a:r>
              <a:rPr b="0" lang="ja-JP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ryoscopic method</a:t>
            </a:r>
            <a:r>
              <a:rPr b="0" lang="ja-JP" sz="26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</a:t>
            </a:r>
            <a:r>
              <a:rPr b="0" lang="ja-JP" sz="36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ryoscopic method</a:t>
            </a:r>
            <a:r>
              <a:rPr b="0" lang="ja-JP" sz="3600" spc="-1" strike="noStrike">
                <a:solidFill>
                  <a:srgbClr val="424456"/>
                </a:solidFill>
                <a:latin typeface="Trebuchet MS"/>
              </a:rPr>
              <a:t>”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ADEL ALHOWYAN</cp:lastModifiedBy>
  <dcterms:modified xsi:type="dcterms:W3CDTF">2013-02-02T12:01:55Z</dcterms:modified>
  <cp:revision>80</cp:revision>
  <dc:subject/>
  <dc:title>Isotonicity</dc:title>
</cp:coreProperties>
</file>