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792F-BCB9-4395-9C0F-690597090B6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ubcutaneous" TargetMode="External"/><Relationship Id="rId2" Type="http://schemas.openxmlformats.org/officeDocument/2006/relationships/hyperlink" Target="http://en.wikipedia.org/wiki/Saline_(medicine)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740B-A950-4882-9365-5CAD1CA2803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bcutaneous infus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s th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ubcutaneo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dministration of fluids to the body. This would often be in the form of a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ali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glucos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9E57-8C6A-43E7-B643-A3F1AB928EB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ligative propert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e properties of solutions that depend on the number of molecules in a given volume of solvent and not on the properties (e.g. size or mass) of the molecu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EBF7-21CF-4E0F-99D0-E54B723CAE6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D7B-E625-4CD7-9E90-0F639797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7AF8-FEDA-43E3-82DA-BEE2B7A0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1EA-4B45-489B-8418-403116BA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EFE-3527-4C6F-9FB3-C8F647AD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B20D-4984-4F3D-832A-9F663CB9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A8AC-6C5D-43DB-93E8-43FABA5B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5CF4-2CFD-456E-891D-09895CEA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D675-BF91-4C06-B259-23BCF2BA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DF8C-0295-46A5-B72B-1625A7D7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4D29-4D4D-412A-83E0-86DFFD61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AFA2-2DBD-4249-8F55-F1BF79EF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196-F894-4B79-A124-A22BE5F8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1760-1B46-4838-87AB-A1FFFD14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51DA-CF78-40EE-94A7-11A5DB92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E504-D298-494B-AFBB-63D509E9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3E88-31D9-4B38-8BBE-213ACBBA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D0D4-40D8-401D-87B2-23E7E32B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FC09D-AB3A-4397-968B-83EEF963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6AC02-BAC1-49AE-ACD0-D2FA4FD8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75A5E-C34E-48B7-8C30-E4C3647A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F3523-F730-45FE-9E95-951EF034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D2A9B-BF6B-478E-BCCA-337BE444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1527-440B-426B-8147-A3A201C2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39AA7-F56E-476D-BCA9-667392C6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31B22-02B5-44E5-A50B-44E68E74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B4AFA-DF54-45E8-AD15-8132B77F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298A3-55A3-4AFC-87CB-45C92730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89DA9-8846-4E73-A928-23128276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9D1A3-AE6D-4054-B88A-3F0892C1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33F00-E0BE-4250-B832-5C854C32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35A-6E1C-4C24-828E-7B5AD778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665-ACB4-4111-B812-C6FD84C3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9738-18AC-403F-AFE1-C4B89052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3E3-1D01-48B7-AE37-80FB9D97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1FF8-BD91-49E8-9687-45EA2796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7551-583F-43CD-92B1-F48CDC73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8FF1-275B-46AA-B6A0-778C631F5A8A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4D7E-28C7-4ADD-8B4A-9B6E97AC6562}" type="slidenum">
              <a:rPr b="0" lang="ar-SA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25F3-EEAB-4C5D-A573-6709830F5322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4CBF-D779-4512-BDC2-F59DEDB45E09}" type="slidenum">
              <a:rPr b="0" lang="ar-SA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8C75-2C40-4B9D-A2D8-650355CC18F1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0508-74EF-4F39-927E-C81A561C8407}" type="slidenum">
              <a:rPr b="0" lang="ar-SA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3840" y="17856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Isotonicity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01040" y="4285800"/>
            <a:ext cx="15429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PHT 43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c. gm/100 ml of adjusting subst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.p.d of 1% of unadjusted substance(table) X percentage strength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f.p.d of 1% of adjusting substance (tabl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6"/>
              <p:cNvSpPr txBox="1"/>
              <p:nvPr/>
            </p:nvSpPr>
            <p:spPr>
              <a:xfrm>
                <a:off x="2952720" y="2143080"/>
                <a:ext cx="323856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8"/>
              <p:cNvSpPr txBox="1"/>
              <p:nvPr/>
            </p:nvSpPr>
            <p:spPr>
              <a:xfrm>
                <a:off x="285840" y="3714840"/>
                <a:ext cx="1235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428760" y="4857840"/>
                <a:ext cx="858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0"/>
              <p:cNvSpPr txBox="1"/>
              <p:nvPr/>
            </p:nvSpPr>
            <p:spPr>
              <a:xfrm>
                <a:off x="500040" y="6000840"/>
                <a:ext cx="7142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1" descr=""/>
          <p:cNvPicPr/>
          <p:nvPr/>
        </p:nvPicPr>
        <p:blipFill>
          <a:blip r:embed="rId1"/>
          <a:stretch/>
        </p:blipFill>
        <p:spPr>
          <a:xfrm>
            <a:off x="2500200" y="5857920"/>
            <a:ext cx="3181320" cy="10000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NaCl is required to render 100 ml of a 1% soln. of apomorphin HCL isotonic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.p.d of 1%NaCl=0.58º, F.p.d of 1%drug=0.08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% drug                   0.08º   (0.52º- 0.08º=0.44º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% NaCl                  0.58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% NaCl                 0.44º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3"/>
              <p:cNvSpPr txBox="1"/>
              <p:nvPr/>
            </p:nvSpPr>
            <p:spPr>
              <a:xfrm>
                <a:off x="770040" y="3500280"/>
                <a:ext cx="23889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º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6573960" y="3770280"/>
                <a:ext cx="2070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5"/>
              <p:cNvSpPr txBox="1"/>
              <p:nvPr/>
            </p:nvSpPr>
            <p:spPr>
              <a:xfrm>
                <a:off x="3270240" y="3500280"/>
                <a:ext cx="29624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º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º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º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Right Arrow 7"/>
          <p:cNvSpPr/>
          <p:nvPr/>
        </p:nvSpPr>
        <p:spPr>
          <a:xfrm>
            <a:off x="2428920" y="471492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ight Arrow 8"/>
          <p:cNvSpPr/>
          <p:nvPr/>
        </p:nvSpPr>
        <p:spPr>
          <a:xfrm>
            <a:off x="2428920" y="5143680"/>
            <a:ext cx="1000080" cy="28548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ight Arrow 9"/>
          <p:cNvSpPr/>
          <p:nvPr/>
        </p:nvSpPr>
        <p:spPr>
          <a:xfrm rot="10800000">
            <a:off x="2500200" y="557208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6500880" y="5214960"/>
                <a:ext cx="2070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6" name="Picture 8" descr=""/>
          <p:cNvPicPr/>
          <p:nvPr/>
        </p:nvPicPr>
        <p:blipFill>
          <a:blip r:embed="rId2"/>
          <a:stretch/>
        </p:blipFill>
        <p:spPr>
          <a:xfrm>
            <a:off x="5643720" y="5143680"/>
            <a:ext cx="761760" cy="15714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3"/>
          <a:stretch/>
        </p:blipFill>
        <p:spPr>
          <a:xfrm>
            <a:off x="6415200" y="5715000"/>
            <a:ext cx="165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09" name="Content Placeholder 2"/>
          <p:cNvGrpSpPr/>
          <p:nvPr/>
        </p:nvGrpSpPr>
        <p:grpSpPr>
          <a:xfrm>
            <a:off x="450720" y="2243160"/>
            <a:ext cx="8242560" cy="4340160"/>
            <a:chOff x="450720" y="2243160"/>
            <a:chExt cx="8242560" cy="4340160"/>
          </a:xfrm>
        </p:grpSpPr>
        <p:pic>
          <p:nvPicPr>
            <p:cNvPr id="210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50720" y="2243160"/>
              <a:ext cx="824256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57200" y="2249640"/>
              <a:ext cx="8229600" cy="43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adjust isotonicity of procaine HCl 3% using NaCl ? Fpd of 1%NaCl=0.57º, f.p.d of 1% drug=0.112º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2952720" y="3432240"/>
                <a:ext cx="254808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3000240" y="4689360"/>
                <a:ext cx="228600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)</m:t>
                    </m:r>
                    <m:eqArr>
                      <m:e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6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1285920" y="5857920"/>
                <a:ext cx="5857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l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rPr>
                        <m:lit/>
                        <m:nor/>
                      </m:rPr>
                      <m:t xml:space="preserve">NaC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aCl equivalent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Cl equivalent </a:t>
            </a:r>
            <a:r>
              <a:rPr b="0" lang="ja-JP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</a:t>
            </a:r>
            <a:r>
              <a:rPr b="0" lang="ja-JP" sz="28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mount of NaCl that is equivalent to(i.e., has the same osmotic effect (same f.p.d) as ) 1 gm of dru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st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alculate  E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dd NaCl to reach 0.9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E</a:t>
            </a:r>
            <a:r>
              <a:rPr b="0" lang="en-US" sz="4000" spc="-1" strike="noStrike" baseline="-25000">
                <a:solidFill>
                  <a:srgbClr val="424456"/>
                </a:solidFill>
                <a:latin typeface="Trebuchet MS"/>
              </a:rPr>
              <a:t>NaCl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214200" y="2714760"/>
                <a:ext cx="3915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4789440" y="2714760"/>
                <a:ext cx="387972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so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4857840" y="3857760"/>
                <a:ext cx="37908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aC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6788160" y="4799160"/>
                <a:ext cx="1998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t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TextBox 11"/>
          <p:cNvSpPr/>
          <p:nvPr/>
        </p:nvSpPr>
        <p:spPr>
          <a:xfrm>
            <a:off x="4286160" y="3857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6"/>
              <p:cNvSpPr txBox="1"/>
              <p:nvPr/>
            </p:nvSpPr>
            <p:spPr>
              <a:xfrm>
                <a:off x="3146400" y="5821200"/>
                <a:ext cx="22986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so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rug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8"/>
              <p:cNvSpPr txBox="1"/>
              <p:nvPr/>
            </p:nvSpPr>
            <p:spPr>
              <a:xfrm>
                <a:off x="3929040" y="2286000"/>
                <a:ext cx="1287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0"/>
              <p:cNvSpPr txBox="1"/>
              <p:nvPr/>
            </p:nvSpPr>
            <p:spPr>
              <a:xfrm>
                <a:off x="1171440" y="4786200"/>
                <a:ext cx="1757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t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1"/>
              <p:cNvSpPr txBox="1"/>
              <p:nvPr/>
            </p:nvSpPr>
            <p:spPr>
              <a:xfrm>
                <a:off x="4856040" y="4786200"/>
                <a:ext cx="16448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t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2"/>
              <p:cNvSpPr txBox="1"/>
              <p:nvPr/>
            </p:nvSpPr>
            <p:spPr>
              <a:xfrm>
                <a:off x="6786720" y="5357880"/>
                <a:ext cx="1923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3"/>
              <p:cNvSpPr txBox="1"/>
              <p:nvPr/>
            </p:nvSpPr>
            <p:spPr>
              <a:xfrm>
                <a:off x="368280" y="3825720"/>
                <a:ext cx="3625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amount of NaC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500040" y="3071880"/>
                <a:ext cx="8228160" cy="22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weight of NaCl in gm per 100 m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 make solution isotoni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rug%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weight of drug in gm per 100 ml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aCl equivalent weight to 1gm of drug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isotonic solution of NaC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1808280" y="2571840"/>
                <a:ext cx="4309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drug%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0040" y="18572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f drug (M.wt=187,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iso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3.4)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NaCl needed to make 2% of this drug isotonic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5072040" y="2928960"/>
                <a:ext cx="19209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2071800" y="2643120"/>
                <a:ext cx="22986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so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rug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857160" y="4714920"/>
                <a:ext cx="3489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u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5"/>
              <p:cNvSpPr txBox="1"/>
              <p:nvPr/>
            </p:nvSpPr>
            <p:spPr>
              <a:xfrm>
                <a:off x="857160" y="5572080"/>
                <a:ext cx="3362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Right Arrow 7"/>
          <p:cNvSpPr/>
          <p:nvPr/>
        </p:nvSpPr>
        <p:spPr>
          <a:xfrm>
            <a:off x="4500720" y="478620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6"/>
              <p:cNvSpPr txBox="1"/>
              <p:nvPr/>
            </p:nvSpPr>
            <p:spPr>
              <a:xfrm>
                <a:off x="5033880" y="4714920"/>
                <a:ext cx="35654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u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1" name="Picture 8" descr=""/>
          <p:cNvPicPr/>
          <p:nvPr/>
        </p:nvPicPr>
        <p:blipFill>
          <a:blip r:embed="rId1"/>
          <a:stretch/>
        </p:blipFill>
        <p:spPr>
          <a:xfrm>
            <a:off x="7643880" y="5214960"/>
            <a:ext cx="761760" cy="15717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"/>
          <p:cNvPicPr/>
          <p:nvPr/>
        </p:nvPicPr>
        <p:blipFill>
          <a:blip r:embed="rId2"/>
          <a:stretch/>
        </p:blipFill>
        <p:spPr>
          <a:xfrm>
            <a:off x="4643280" y="5357880"/>
            <a:ext cx="2886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amount of NaCl needed to adjust 1.5% Atropine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0.12gm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0.9 –(W x 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9 –(1.5x 0.12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72 gm of NaCl should be ad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8" descr=""/>
          <p:cNvPicPr/>
          <p:nvPr/>
        </p:nvPicPr>
        <p:blipFill>
          <a:blip r:embed="rId1"/>
          <a:stretch/>
        </p:blipFill>
        <p:spPr>
          <a:xfrm>
            <a:off x="5572080" y="4857840"/>
            <a:ext cx="762120" cy="1571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2071800" y="4929120"/>
            <a:ext cx="3341520" cy="150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3"/>
          <a:stretch/>
        </p:blipFill>
        <p:spPr>
          <a:xfrm>
            <a:off x="6343560" y="492912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ite – Vincent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incip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st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Addition of H2O to drug to make it isotonic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nd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addition of isotonic vehicle to bring solution to final volum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amount of H</a:t>
            </a:r>
            <a:r>
              <a:rPr b="0" lang="en-US" sz="4000" spc="-1" strike="noStrike" baseline="-25000">
                <a:solidFill>
                  <a:srgbClr val="424456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se preparing 30ml of 1% drug isotonic with body fluid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0.16gm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gm                       100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                            30ml        =0.3g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ount of NaCl eq. to 0.3 dru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3 x 0.16 =0.048g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9 gm                         100 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048 gm                      ? ml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5.3 ml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8072280" y="4734000"/>
            <a:ext cx="928800" cy="2124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"/>
          <p:cNvPicPr/>
          <p:nvPr/>
        </p:nvPicPr>
        <p:blipFill>
          <a:blip r:embed="rId2"/>
          <a:stretch/>
        </p:blipFill>
        <p:spPr>
          <a:xfrm>
            <a:off x="7639200" y="3643200"/>
            <a:ext cx="1504800" cy="1152720"/>
          </a:xfrm>
          <a:prstGeom prst="rect">
            <a:avLst/>
          </a:prstGeom>
          <a:ln w="0">
            <a:noFill/>
          </a:ln>
        </p:spPr>
      </p:pic>
      <p:sp>
        <p:nvSpPr>
          <p:cNvPr id="254" name="Right Arrow 6"/>
          <p:cNvSpPr/>
          <p:nvPr/>
        </p:nvSpPr>
        <p:spPr>
          <a:xfrm>
            <a:off x="2071800" y="335772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ight Arrow 7"/>
          <p:cNvSpPr/>
          <p:nvPr/>
        </p:nvSpPr>
        <p:spPr>
          <a:xfrm rot="10800000">
            <a:off x="1999800" y="3786120"/>
            <a:ext cx="1357560" cy="21456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ight Arrow 8"/>
          <p:cNvSpPr/>
          <p:nvPr/>
        </p:nvSpPr>
        <p:spPr>
          <a:xfrm>
            <a:off x="2428920" y="521496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ight Arrow 9"/>
          <p:cNvSpPr/>
          <p:nvPr/>
        </p:nvSpPr>
        <p:spPr>
          <a:xfrm>
            <a:off x="2571840" y="564372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5357880" y="3643200"/>
            <a:ext cx="1285920" cy="50004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928800" y="6000840"/>
            <a:ext cx="1285920" cy="50004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3"/>
          <a:stretch/>
        </p:blipFill>
        <p:spPr>
          <a:xfrm>
            <a:off x="5286240" y="5219640"/>
            <a:ext cx="2648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smosi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Osmosis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s the diffusion of solvent through a semi-permeable membran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ater always flows from lower solute concentration [dilute solution] to higher solute concentration until a balance is produce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Osmotic pressure</a:t>
            </a:r>
            <a:r>
              <a:rPr b="1" lang="en-US" sz="26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s the force that cause this diffusion 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Tonicity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s a measure of the                                     osmotic pressure of two solutions                       separated by a semi-permeable                                 membran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5924520" y="4322880"/>
            <a:ext cx="30672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ne step equ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V :      volume of H</a:t>
            </a:r>
            <a:r>
              <a:rPr b="0" lang="en-US" sz="2400" spc="-1" strike="noStrike" baseline="-25000">
                <a:solidFill>
                  <a:srgbClr val="53548a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O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W:      weight of drug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111.1= 100/0.9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st examp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2357280" y="2428920"/>
                <a:ext cx="3308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3"/>
              <p:cNvSpPr txBox="1"/>
              <p:nvPr/>
            </p:nvSpPr>
            <p:spPr>
              <a:xfrm>
                <a:off x="2214720" y="5429160"/>
                <a:ext cx="33764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143160" y="6143760"/>
                <a:ext cx="1621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24456"/>
                </a:solidFill>
                <a:latin typeface="Trebuchet MS"/>
              </a:rPr>
              <a:t>    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I</a:t>
            </a:r>
            <a:r>
              <a:rPr b="0" lang="ar-SA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28760" y="121428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 volume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 and then complete with isotonic solu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henacaine HCl                   0.06 gm  (E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NaC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=0.16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oric acid                              0.3 gm     (E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NaC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=0.5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erile distilled H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O up to    100 ml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 = 111.1 x(weight x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 =111.1 x [(0.06x0.16)+(0.3x0.5)] = 17.7 ml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785880" y="1714680"/>
            <a:ext cx="7429320" cy="214308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8" descr=""/>
          <p:cNvPicPr/>
          <p:nvPr/>
        </p:nvPicPr>
        <p:blipFill>
          <a:blip r:embed="rId1"/>
          <a:stretch/>
        </p:blipFill>
        <p:spPr>
          <a:xfrm>
            <a:off x="6858000" y="5143680"/>
            <a:ext cx="762120" cy="1571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785880" y="5072040"/>
            <a:ext cx="6143400" cy="1500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"/>
          <p:cNvPicPr/>
          <p:nvPr/>
        </p:nvPicPr>
        <p:blipFill>
          <a:blip r:embed="rId3"/>
          <a:stretch/>
        </p:blipFill>
        <p:spPr>
          <a:xfrm>
            <a:off x="7486560" y="478620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22960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Types of Tonicity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4711680" y="4370400"/>
            <a:ext cx="3719520" cy="24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1357200" y="1785960"/>
          <a:ext cx="6786720" cy="2620800"/>
        </p:xfrm>
        <a:graphic>
          <a:graphicData uri="http://schemas.openxmlformats.org/drawingml/2006/table">
            <a:tbl>
              <a:tblPr/>
              <a:tblGrid>
                <a:gridCol w="2262240"/>
                <a:gridCol w="2262240"/>
                <a:gridCol w="2262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Hypo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iso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Hyper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Cl 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Cl 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Cl 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6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</a:rPr>
                        <a:t>›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</a:rPr>
                        <a:t>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we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quilib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hrin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353880" y="4286160"/>
            <a:ext cx="38642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using isotonic solution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77" name="Picture 5" descr="SDXTMPPPT01.emf"/>
          <p:cNvPicPr/>
          <p:nvPr/>
        </p:nvPicPr>
        <p:blipFill>
          <a:blip r:embed="rId1"/>
          <a:stretch/>
        </p:blipFill>
        <p:spPr>
          <a:xfrm>
            <a:off x="457200" y="2286000"/>
            <a:ext cx="83296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09120"/>
            <a:ext cx="81435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sotonicity &amp; route of administrati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bcu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taneou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jec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not necessarily </a:t>
            </a:r>
            <a:r>
              <a:rPr b="0" lang="ja-JP" sz="2000" spc="-1" strike="noStrike">
                <a:solidFill>
                  <a:srgbClr val="53548a"/>
                </a:solidFill>
                <a:latin typeface="Georgia"/>
              </a:rPr>
              <a:t>“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mall dose</a:t>
            </a:r>
            <a:r>
              <a:rPr b="0" lang="ja-JP" sz="2000" spc="-1" strike="noStrike">
                <a:solidFill>
                  <a:srgbClr val="53548a"/>
                </a:solidFill>
                <a:latin typeface="Georgia"/>
              </a:rPr>
              <a:t>”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 but isotonicity reduce pain.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ypodermoclysi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</a:t>
            </a:r>
            <a:r>
              <a:rPr b="0" lang="ja-JP" sz="2000" spc="-1" strike="noStrike">
                <a:solidFill>
                  <a:srgbClr val="53548a"/>
                </a:solidFill>
                <a:latin typeface="Georgia"/>
              </a:rPr>
              <a:t>“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Large volume</a:t>
            </a:r>
            <a:r>
              <a:rPr b="0" lang="ja-JP" sz="2000" spc="-1" strike="noStrike">
                <a:solidFill>
                  <a:srgbClr val="53548a"/>
                </a:solidFill>
                <a:latin typeface="Georgia"/>
              </a:rPr>
              <a:t>”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ntramuscular inj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or slightly hypertonic  to increase  penetration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ntravenous inj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</a:t>
            </a:r>
            <a:r>
              <a:rPr b="0" lang="ja-JP" sz="2000" spc="-1" strike="noStrike">
                <a:solidFill>
                  <a:srgbClr val="53548a"/>
                </a:solidFill>
                <a:latin typeface="Georgia"/>
              </a:rPr>
              <a:t>“</a:t>
            </a: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Large volume </a:t>
            </a:r>
            <a:r>
              <a:rPr b="0" lang="ja-JP" sz="2000" spc="-1" strike="noStrike">
                <a:solidFill>
                  <a:srgbClr val="53548a"/>
                </a:solidFill>
                <a:latin typeface="Georgia"/>
              </a:rPr>
              <a:t>”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otonic cause haemolysis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ertonic solution may be administered slowly into a vein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ertonic large volume administered through a cannula into large vessels.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5840" y="609120"/>
            <a:ext cx="85010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sotonicity &amp; route of administration 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cont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rathecal injes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Should be isotonic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ye dr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Rapid diluted by tear, but most of it is isotonic to decrease irritation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ye lo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Preferably isotonic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sal dr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Isotonic, but not essentially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80726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lasses of adjustment of isotonicity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lass 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ding substace to lower f.p of solution to -0.52º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reezing point depression (FPD) </a:t>
            </a:r>
            <a:r>
              <a:rPr b="0" lang="ja-JP" sz="26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ryoscopic method</a:t>
            </a:r>
            <a:r>
              <a:rPr b="0" lang="ja-JP" sz="2600" spc="-1" strike="noStrike">
                <a:solidFill>
                  <a:srgbClr val="438086"/>
                </a:solidFill>
                <a:latin typeface="Georgia"/>
              </a:rPr>
              <a:t>”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aCL equivalent method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lass I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ding H2O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White –Vincent metho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reezing point depression (f.p.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eezing Po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Freezing Po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solve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Δ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Δ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L c       L : constant ,   c : conc.(molarit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olligative propert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Depend on concetra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same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.p.d             same conc.             same tonic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9% NaCl is isotonic i.e.  F.p.d = 0.52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Right Arrow 3"/>
          <p:cNvSpPr/>
          <p:nvPr/>
        </p:nvSpPr>
        <p:spPr>
          <a:xfrm>
            <a:off x="2928960" y="4286160"/>
            <a:ext cx="857160" cy="142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ight Arrow 4"/>
          <p:cNvSpPr/>
          <p:nvPr/>
        </p:nvSpPr>
        <p:spPr>
          <a:xfrm>
            <a:off x="5572080" y="428616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-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Freezing point depression (FPD) </a:t>
            </a:r>
            <a:r>
              <a:rPr b="0" lang="ja-JP" sz="3600" spc="-1" strike="noStrike">
                <a:solidFill>
                  <a:srgbClr val="424456"/>
                </a:solidFill>
                <a:latin typeface="Trebuchet MS"/>
              </a:rPr>
              <a:t>“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ryoscopic method</a:t>
            </a:r>
            <a:r>
              <a:rPr b="0" lang="ja-JP" sz="3600" spc="-1" strike="noStrike">
                <a:solidFill>
                  <a:srgbClr val="424456"/>
                </a:solidFill>
                <a:latin typeface="Trebuchet MS"/>
              </a:rPr>
              <a:t>”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00040" y="1857240"/>
            <a:ext cx="81439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.P. of blood &amp; tears = - 0.52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solution have F.P. = - 0.52º is isotonic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solution have F.P.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›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0.52º is hypo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0.4º hypo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0.6º  hyper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 solute to hypotonic solution to reach f.p.d of blood (- 0.52º 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20:04:28Z</dcterms:created>
  <dc:creator>M.Tayel</dc:creator>
  <dc:description/>
  <dc:language>en-US</dc:language>
  <cp:lastModifiedBy>ADEL ALHOWYAN</cp:lastModifiedBy>
  <dcterms:modified xsi:type="dcterms:W3CDTF">2013-02-02T12:01:55Z</dcterms:modified>
  <cp:revision>80</cp:revision>
  <dc:subject/>
  <dc:title>Isotonicity</dc:title>
</cp:coreProperties>
</file>