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DA57-76B8-46EB-AB18-FD8BFF1467D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ubcutaneous" TargetMode="External"/><Relationship Id="rId2" Type="http://schemas.openxmlformats.org/officeDocument/2006/relationships/hyperlink" Target="http://en.wikipedia.org/wiki/Saline_%28medicine%29" TargetMode="External"/><Relationship Id="rId3" Type="http://schemas.openxmlformats.org/officeDocument/2006/relationships/slide" Target="../slides/slide5.xml"/><Relationship Id="rId4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5EAD-C745-4CB2-942C-D7AF4FC80A9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ubcutaneous infusio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is the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ubcutaneou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dministration of fluids to the body. This would often be in the form of a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sali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or glucos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77CA-6592-40C4-920F-ADF8E8F6191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lligative properti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re properties of solutions that depend on the number of molecules in a given volume of solvent and not on the properties (e.g. size or mass) of the molecule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BF84-9FA4-4299-BC1B-6F241B6301FD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E4DD-7259-41CE-96D6-28106E82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7ED-6653-4AEA-BB03-D6068FA5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0C85-21C9-481A-AF00-5AA56164A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084-775B-43AC-A69B-B3F8850D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2C29-DB68-4620-B1D8-EFFFCBDF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3D4-4F75-47AA-9208-6FD32DFC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E68E7-FD8A-4DCB-B23B-456DC45E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1827-D1CF-4D70-9575-869DCE04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3B9B-4C1D-4DF5-B412-B69ABE63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FD31-DE98-4AAF-B26A-08C0A2DC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A19C-775B-439C-AE89-39341110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0515-6AB9-4ACE-AE91-A8B602FB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D0F3-7EA3-4FE1-88F5-6226794D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8F8A-93F3-4EE5-A8A1-5BADCE3D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B29D-1398-43C5-B10A-62976C87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2E38-6B26-431B-99C3-93602311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CA6C-CF4C-4D47-A2BD-C51C8394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13D420-BBF3-4C74-A16A-E209931B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104E0-E613-4536-8031-B69F89FF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9C945-3181-4294-BFA6-F9D0A72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419FE2-E196-4AE1-8BAA-E04510E4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ED2D1-0572-4F0E-A7B6-741CB9EE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554C-BF23-471C-86F5-339859B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90B733-439C-4B1E-87BB-138E9058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67664-4A3B-4B4F-813E-3899ED7F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2F17D-F3AF-46AE-B6DE-8DFA3974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26E0A-8450-4B57-9B97-8F06EAF8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927D9-18D3-47E7-8FA8-8DEAB34A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1250C-D92F-493F-8634-CE27B7953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34A84A-94F2-4725-8AFF-C1982FD79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2F4D6-3B68-445C-827A-BE00FA167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52B02-D589-4320-9B2E-C2586C38D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2094B-1544-463B-8AF2-22D8F7EF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555A-8DBC-41F7-A0EA-2E5671D2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458C-7B03-4726-A91A-0E215425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8216-4299-45A6-B87D-766B6617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46E24-87AE-43C0-86F3-7D97C982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CCD87-EC6B-4D2E-95FD-BFF7B6D7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C6CF6-8EB8-45AE-9155-E3B2107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C0C8-7A6F-4F0B-9A14-B8DBF33E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457B7-1EB3-45BC-83E9-BA28E7AF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54D5-C7A7-4EAF-8AFD-A334E089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17EC8-FFED-451B-BEB7-F1A1E0BE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D34-2F2A-4071-A642-11BF670C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CC4-B628-4C73-A5DC-184073D2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7024-B044-4851-9135-5CEB024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368-0E8B-4848-9B2B-8057E44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9AC-0185-445E-8DB0-4B435E47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F45B-045F-4FD3-8911-C304B73601A1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8B2F-8C98-432B-A24E-4394F6C5F0CF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9313-F70F-408C-A54C-A1FA79579712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B4A2-5BC3-498B-A55B-6876351DF10B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B1C1-64F5-48E0-861C-033F2B87C775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BC09-AD9D-4D38-B077-823BF4463DE8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4E19-ED26-4BC6-A800-7B1E358EBD6F}" type="datetime">
              <a:rPr b="0" lang="ar-SA" sz="800" spc="-1" strike="noStrike">
                <a:solidFill>
                  <a:srgbClr val="438086"/>
                </a:solidFill>
                <a:latin typeface="Georgia"/>
              </a:rPr>
              <a:t>١٤٤٨/٠٢/١٤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5A9D-8DBA-4768-BC6C-4A78226B6E45}" type="slidenum">
              <a:rPr b="0" lang="ar-SA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3840" y="178560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Isotonicity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01040" y="4285800"/>
            <a:ext cx="1542960" cy="11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PHT 434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. gm/100 ml of adjusting subs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.p.d of 1% of unadjusted substance(table) X percentage strength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f.p.d of 1% of adjusting substance (t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6"/>
              <p:cNvSpPr txBox="1"/>
              <p:nvPr/>
            </p:nvSpPr>
            <p:spPr>
              <a:xfrm>
                <a:off x="2952720" y="2143080"/>
                <a:ext cx="323856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85840" y="3714840"/>
                <a:ext cx="1235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428760" y="4857840"/>
                <a:ext cx="8586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500040" y="6000840"/>
                <a:ext cx="7142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11" descr=""/>
          <p:cNvPicPr/>
          <p:nvPr/>
        </p:nvPicPr>
        <p:blipFill>
          <a:blip r:embed="rId1"/>
          <a:stretch/>
        </p:blipFill>
        <p:spPr>
          <a:xfrm>
            <a:off x="2500200" y="5857920"/>
            <a:ext cx="3181320" cy="100008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is required to render 100 ml of a 1% soln. of apomorphin HCL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d of 1%NaCl=0.58º, F.p.d of 1%drug=0.0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drug                   0.08º   (0.52º- 0.08º=0.44º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% NaCl                  0.58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% NaCl                 0.44º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3"/>
              <p:cNvSpPr txBox="1"/>
              <p:nvPr/>
            </p:nvSpPr>
            <p:spPr>
              <a:xfrm>
                <a:off x="770040" y="3500280"/>
                <a:ext cx="238896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6573960" y="377028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5"/>
              <p:cNvSpPr txBox="1"/>
              <p:nvPr/>
            </p:nvSpPr>
            <p:spPr>
              <a:xfrm>
                <a:off x="3270240" y="3500280"/>
                <a:ext cx="296244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º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º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º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Right Arrow 7"/>
          <p:cNvSpPr/>
          <p:nvPr/>
        </p:nvSpPr>
        <p:spPr>
          <a:xfrm>
            <a:off x="2428920" y="471492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ight Arrow 8"/>
          <p:cNvSpPr/>
          <p:nvPr/>
        </p:nvSpPr>
        <p:spPr>
          <a:xfrm>
            <a:off x="2428920" y="5143680"/>
            <a:ext cx="1000080" cy="28548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Arrow 9"/>
          <p:cNvSpPr/>
          <p:nvPr/>
        </p:nvSpPr>
        <p:spPr>
          <a:xfrm rot="10800000">
            <a:off x="2500200" y="5572080"/>
            <a:ext cx="1000080" cy="2858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6500880" y="5214960"/>
                <a:ext cx="20700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0" name="Picture 8" descr=""/>
          <p:cNvPicPr/>
          <p:nvPr/>
        </p:nvPicPr>
        <p:blipFill>
          <a:blip r:embed="rId2"/>
          <a:stretch/>
        </p:blipFill>
        <p:spPr>
          <a:xfrm>
            <a:off x="5643720" y="5143680"/>
            <a:ext cx="761760" cy="15714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"/>
          <p:cNvPicPr/>
          <p:nvPr/>
        </p:nvPicPr>
        <p:blipFill>
          <a:blip r:embed="rId3"/>
          <a:stretch/>
        </p:blipFill>
        <p:spPr>
          <a:xfrm>
            <a:off x="6415200" y="5715000"/>
            <a:ext cx="16570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pSp>
        <p:nvGrpSpPr>
          <p:cNvPr id="263" name="Content Placeholder 2"/>
          <p:cNvGrpSpPr/>
          <p:nvPr/>
        </p:nvGrpSpPr>
        <p:grpSpPr>
          <a:xfrm>
            <a:off x="444600" y="2236680"/>
            <a:ext cx="8254800" cy="4353120"/>
            <a:chOff x="444600" y="2236680"/>
            <a:chExt cx="8254800" cy="4353120"/>
          </a:xfrm>
        </p:grpSpPr>
        <p:pic>
          <p:nvPicPr>
            <p:cNvPr id="264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44600" y="2236680"/>
              <a:ext cx="825480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57200" y="2249640"/>
              <a:ext cx="8229600" cy="43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adjust isotonicity of procaine HCl 3% using NaCl ? Fpd of 1%NaCl=0.57º, f.p.d of 1% drug=0.112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buClr>
                  <a:srgbClr val="a04da3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65040" indent="-2556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eorgia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2952720" y="3432240"/>
                <a:ext cx="254808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Object 3"/>
              <p:cNvSpPr txBox="1"/>
              <p:nvPr/>
            </p:nvSpPr>
            <p:spPr>
              <a:xfrm>
                <a:off x="3000240" y="4689360"/>
                <a:ext cx="2286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2</m:t>
                    </m:r>
                    <m:r>
                      <m:t xml:space="preserve">∗</m:t>
                    </m:r>
                    <m:r>
                      <m:t xml:space="preserve">3</m:t>
                    </m:r>
                    <m:r>
                      <m:t xml:space="preserve">)</m:t>
                    </m:r>
                    <m:eqArr>
                      <m:e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76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1285920" y="5857920"/>
                <a:ext cx="58579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gm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ml</m:t>
                    </m:r>
                    <m:acc>
                      <m:accPr>
                        <m:chr m:val="⃗"/>
                      </m:accPr>
                      <m:e/>
                    </m:acc>
                    <m:r>
                      <m:rPr>
                        <m:lit/>
                        <m:nor/>
                      </m:rPr>
                      <m:t xml:space="preserve">NaC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aCl equival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Cl equivalent “E”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mount of NaCl that is equivalent to(i.e., has the same osmotic effect (same f.p.d) as ) 1 gm of dru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st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alculate  E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dd NaCl to reach 0.9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E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NaCl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2"/>
              <p:cNvSpPr txBox="1"/>
              <p:nvPr/>
            </p:nvSpPr>
            <p:spPr>
              <a:xfrm>
                <a:off x="214200" y="2714760"/>
                <a:ext cx="39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Object 3"/>
              <p:cNvSpPr txBox="1"/>
              <p:nvPr/>
            </p:nvSpPr>
            <p:spPr>
              <a:xfrm>
                <a:off x="4789440" y="2714760"/>
                <a:ext cx="387972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so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Object 4"/>
              <p:cNvSpPr txBox="1"/>
              <p:nvPr/>
            </p:nvSpPr>
            <p:spPr>
              <a:xfrm>
                <a:off x="4857840" y="3857760"/>
                <a:ext cx="379080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C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6788160" y="4799160"/>
                <a:ext cx="19987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t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TextBox 11"/>
          <p:cNvSpPr/>
          <p:nvPr/>
        </p:nvSpPr>
        <p:spPr>
          <a:xfrm>
            <a:off x="4286160" y="3857760"/>
            <a:ext cx="2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Georgi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3146400" y="582120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" name="Object 8"/>
              <p:cNvSpPr txBox="1"/>
              <p:nvPr/>
            </p:nvSpPr>
            <p:spPr>
              <a:xfrm>
                <a:off x="3929040" y="2286000"/>
                <a:ext cx="12873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Tf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10"/>
              <p:cNvSpPr txBox="1"/>
              <p:nvPr/>
            </p:nvSpPr>
            <p:spPr>
              <a:xfrm>
                <a:off x="1171440" y="4786200"/>
                <a:ext cx="1757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1" name="Object 11"/>
              <p:cNvSpPr txBox="1"/>
              <p:nvPr/>
            </p:nvSpPr>
            <p:spPr>
              <a:xfrm>
                <a:off x="4856040" y="4786200"/>
                <a:ext cx="16448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t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12"/>
              <p:cNvSpPr txBox="1"/>
              <p:nvPr/>
            </p:nvSpPr>
            <p:spPr>
              <a:xfrm>
                <a:off x="6786720" y="5357880"/>
                <a:ext cx="19238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3"/>
              <p:cNvSpPr txBox="1"/>
              <p:nvPr/>
            </p:nvSpPr>
            <p:spPr>
              <a:xfrm>
                <a:off x="368280" y="3825720"/>
                <a:ext cx="36259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o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rug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t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 V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NaC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"/>
              <p:cNvSpPr txBox="1"/>
              <p:nvPr/>
            </p:nvSpPr>
            <p:spPr>
              <a:xfrm>
                <a:off x="500040" y="3071880"/>
                <a:ext cx="8228160" cy="22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weight of NaCl in gm per 100 ml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o make solution isotoni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rug% 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weight of drug in gm per 100 ml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aC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aCl equivalent weight to 1gm of drug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sotonic solution of NaC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4"/>
              <p:cNvSpPr txBox="1"/>
              <p:nvPr/>
            </p:nvSpPr>
            <p:spPr>
              <a:xfrm>
                <a:off x="1808280" y="2571840"/>
                <a:ext cx="430992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 drug%</m:t>
                    </m:r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00040" y="1857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of drug (M.wt=187,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iso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3.4)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much NaCl needed to make 2% of this drug isotonic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Object 2"/>
              <p:cNvSpPr txBox="1"/>
              <p:nvPr/>
            </p:nvSpPr>
            <p:spPr>
              <a:xfrm>
                <a:off x="5072040" y="2928960"/>
                <a:ext cx="19209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3"/>
              <p:cNvSpPr txBox="1"/>
              <p:nvPr/>
            </p:nvSpPr>
            <p:spPr>
              <a:xfrm>
                <a:off x="2071800" y="2643120"/>
                <a:ext cx="22986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iso</m:t>
                                </m:r>
                              </m:e>
                              <m:sub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rug</m:t>
                                </m:r>
                                <m:r>
                                  <m:t xml:space="preserve">)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t 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rug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Object 4"/>
              <p:cNvSpPr txBox="1"/>
              <p:nvPr/>
            </p:nvSpPr>
            <p:spPr>
              <a:xfrm>
                <a:off x="857160" y="4714920"/>
                <a:ext cx="3489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857160" y="5572080"/>
                <a:ext cx="3362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Right Arrow 7"/>
          <p:cNvSpPr/>
          <p:nvPr/>
        </p:nvSpPr>
        <p:spPr>
          <a:xfrm>
            <a:off x="4500720" y="4786200"/>
            <a:ext cx="357120" cy="214560"/>
          </a:xfrm>
          <a:prstGeom prst="rightArrow">
            <a:avLst>
              <a:gd name="adj1" fmla="val 50000"/>
              <a:gd name="adj2" fmla="val 49933"/>
            </a:avLst>
          </a:prstGeom>
          <a:solidFill>
            <a:srgbClr val="000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5033880" y="4714920"/>
                <a:ext cx="3565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NaC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gm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ru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95" name="Picture 8" descr=""/>
          <p:cNvPicPr/>
          <p:nvPr/>
        </p:nvPicPr>
        <p:blipFill>
          <a:blip r:embed="rId1"/>
          <a:stretch/>
        </p:blipFill>
        <p:spPr>
          <a:xfrm>
            <a:off x="7643880" y="5214960"/>
            <a:ext cx="761760" cy="15717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2"/>
          <a:stretch/>
        </p:blipFill>
        <p:spPr>
          <a:xfrm>
            <a:off x="4643280" y="5357880"/>
            <a:ext cx="2886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 II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alculate amount of NaCl needed to adjust 1.5% Atropine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2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0.9 –(W x E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9 –(1.5x 0.12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72 gm of NaCl should be add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9" name="Picture 8" descr=""/>
          <p:cNvPicPr/>
          <p:nvPr/>
        </p:nvPicPr>
        <p:blipFill>
          <a:blip r:embed="rId1"/>
          <a:stretch/>
        </p:blipFill>
        <p:spPr>
          <a:xfrm>
            <a:off x="5572080" y="485784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2071800" y="4929120"/>
            <a:ext cx="3341520" cy="15001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6343560" y="492912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-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ite – Vincent metho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incipl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1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st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H2O to drug to make it isotonic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nd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addition of isotonic vehicle to bring solution to final volume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ow to calculate amount of H</a:t>
            </a:r>
            <a:r>
              <a:rPr b="0" lang="en-US" sz="4000" spc="-1" strike="noStrike" baseline="-25000">
                <a:solidFill>
                  <a:srgbClr val="424456"/>
                </a:solidFill>
                <a:latin typeface="Trebuchet MS"/>
              </a:rPr>
              <a:t>2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uppose preparing 30ml of 1% drug isotonic with body fluid(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0.16gm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1gm                       100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?                             30ml        =0.3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mount of NaCl eq. to 0.3 dru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0.3 x 0.16 =0.048g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 gm                         100 m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048 gm                      ? ml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5.3 ml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8072280" y="4734000"/>
            <a:ext cx="928800" cy="2124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2"/>
          <a:stretch/>
        </p:blipFill>
        <p:spPr>
          <a:xfrm>
            <a:off x="7639200" y="3643200"/>
            <a:ext cx="1504800" cy="1152720"/>
          </a:xfrm>
          <a:prstGeom prst="rect">
            <a:avLst/>
          </a:prstGeom>
          <a:ln w="0">
            <a:noFill/>
          </a:ln>
        </p:spPr>
      </p:pic>
      <p:sp>
        <p:nvSpPr>
          <p:cNvPr id="308" name="Right Arrow 6"/>
          <p:cNvSpPr/>
          <p:nvPr/>
        </p:nvSpPr>
        <p:spPr>
          <a:xfrm>
            <a:off x="2071800" y="3357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ight Arrow 7"/>
          <p:cNvSpPr/>
          <p:nvPr/>
        </p:nvSpPr>
        <p:spPr>
          <a:xfrm rot="10800000">
            <a:off x="1999800" y="3786120"/>
            <a:ext cx="1357560" cy="214560"/>
          </a:xfrm>
          <a:prstGeom prst="rightArrow">
            <a:avLst>
              <a:gd name="adj1" fmla="val 50000"/>
              <a:gd name="adj2" fmla="val 4994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ight Arrow 8"/>
          <p:cNvSpPr/>
          <p:nvPr/>
        </p:nvSpPr>
        <p:spPr>
          <a:xfrm>
            <a:off x="2428920" y="521496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ight Arrow 9"/>
          <p:cNvSpPr/>
          <p:nvPr/>
        </p:nvSpPr>
        <p:spPr>
          <a:xfrm>
            <a:off x="2571840" y="5643720"/>
            <a:ext cx="1357200" cy="21420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357880" y="364320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928800" y="6000840"/>
            <a:ext cx="1285920" cy="50004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"/>
          <p:cNvPicPr/>
          <p:nvPr/>
        </p:nvPicPr>
        <p:blipFill>
          <a:blip r:embed="rId3"/>
          <a:stretch/>
        </p:blipFill>
        <p:spPr>
          <a:xfrm>
            <a:off x="5286240" y="5219640"/>
            <a:ext cx="26481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smosi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eorgia"/>
              </a:rPr>
              <a:t>Osmosis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the diffusion of solvent through a semi-permeable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ter always flows from lower solute concentration [dilute solution] to higher solute concentration until a balance is produc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Osmotic pressure</a:t>
            </a:r>
            <a:r>
              <a:rPr b="1" lang="en-US" sz="26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s the force that cause this diffusion 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onicit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is a measure of the                                     osmotic pressure of two solutions                       separated by a semi-permeable                                 membran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924520" y="4316400"/>
            <a:ext cx="30672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One step equ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V :      volume of H</a:t>
            </a:r>
            <a:r>
              <a:rPr b="0" lang="en-US" sz="2400" spc="-1" strike="noStrike" baseline="-25000">
                <a:solidFill>
                  <a:srgbClr val="53548a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O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W:      weight of drug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                  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111.1= 100/0.9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ast examp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Object 2"/>
              <p:cNvSpPr txBox="1"/>
              <p:nvPr/>
            </p:nvSpPr>
            <p:spPr>
              <a:xfrm>
                <a:off x="2357280" y="2428920"/>
                <a:ext cx="33084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aCl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3"/>
              <p:cNvSpPr txBox="1"/>
              <p:nvPr/>
            </p:nvSpPr>
            <p:spPr>
              <a:xfrm>
                <a:off x="2214720" y="5429160"/>
                <a:ext cx="337644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9" name="Object 4"/>
              <p:cNvSpPr txBox="1"/>
              <p:nvPr/>
            </p:nvSpPr>
            <p:spPr>
              <a:xfrm>
                <a:off x="3143160" y="6143760"/>
                <a:ext cx="16210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   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I</a:t>
            </a:r>
            <a:r>
              <a:rPr b="0" lang="ar-SA" sz="4000" spc="-1" strike="noStrike">
                <a:solidFill>
                  <a:srgbClr val="424456"/>
                </a:solidFill>
                <a:latin typeface="Trebuchet MS"/>
                <a:ea typeface="Tahoma"/>
              </a:rPr>
              <a:t> 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ampl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28760" y="1214280"/>
            <a:ext cx="81439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volume of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 and then complete with isotonic solu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henacaine HCl                   0.06 gm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16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Boric acid                              0.3 gm     (E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NaCl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=0.5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 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terile distilled H</a:t>
            </a:r>
            <a:r>
              <a:rPr b="0" lang="en-US" sz="2600" spc="-1" strike="noStrike" baseline="-25000">
                <a:solidFill>
                  <a:srgbClr val="438086"/>
                </a:solidFill>
                <a:latin typeface="Georgia"/>
              </a:rPr>
              <a:t>2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O up to    100 ml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 111.1 x(weight x 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NaCl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V =111.1 x [(0.06x0.16)+(0.3x0.5)] = 17.7 ml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785880" y="1714680"/>
            <a:ext cx="7429320" cy="2143080"/>
          </a:xfrm>
          <a:prstGeom prst="rect">
            <a:avLst/>
          </a:prstGeom>
          <a:noFill/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1"/>
          <a:stretch/>
        </p:blipFill>
        <p:spPr>
          <a:xfrm>
            <a:off x="6858000" y="5143680"/>
            <a:ext cx="762120" cy="1571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2"/>
          <a:stretch/>
        </p:blipFill>
        <p:spPr>
          <a:xfrm>
            <a:off x="785880" y="5072040"/>
            <a:ext cx="6143400" cy="15001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4" descr=""/>
          <p:cNvPicPr/>
          <p:nvPr/>
        </p:nvPicPr>
        <p:blipFill>
          <a:blip r:embed="rId3"/>
          <a:stretch/>
        </p:blipFill>
        <p:spPr>
          <a:xfrm>
            <a:off x="7486560" y="4786200"/>
            <a:ext cx="16574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8229600" cy="642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Types of Tonicity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705200" y="4370400"/>
            <a:ext cx="3732480" cy="249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8" name=""/>
          <p:cNvGraphicFramePr/>
          <p:nvPr/>
        </p:nvGraphicFramePr>
        <p:xfrm>
          <a:off x="1357200" y="1785960"/>
          <a:ext cx="6786720" cy="2620800"/>
        </p:xfrm>
        <a:graphic>
          <a:graphicData uri="http://schemas.openxmlformats.org/drawingml/2006/table">
            <a:tbl>
              <a:tblPr/>
              <a:tblGrid>
                <a:gridCol w="2262240"/>
                <a:gridCol w="2262240"/>
                <a:gridCol w="2262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iso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Georgia"/>
                        </a:rPr>
                        <a:t>Hyperto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0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aCl 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  <a:tr h="160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›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6000" spc="-1" strike="noStrike" baseline="-15000">
                          <a:solidFill>
                            <a:srgbClr val="000000"/>
                          </a:solidFill>
                          <a:latin typeface="Georgia"/>
                        </a:rPr>
                        <a:t>‹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olu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side     outs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we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quilibr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hrin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1da"/>
                    </a:solidFill>
                  </a:tcPr>
                </a:tc>
              </a:tr>
            </a:tbl>
          </a:graphicData>
        </a:graphic>
      </p:graphicFrame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353880" y="4280040"/>
            <a:ext cx="3864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using isotonic solutions</a:t>
            </a: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1" name="Picture 5" descr="SDXTMPPPT01.emf"/>
          <p:cNvPicPr/>
          <p:nvPr/>
        </p:nvPicPr>
        <p:blipFill>
          <a:blip r:embed="rId1"/>
          <a:stretch/>
        </p:blipFill>
        <p:spPr>
          <a:xfrm>
            <a:off x="457200" y="2286000"/>
            <a:ext cx="83296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320" y="609120"/>
            <a:ext cx="814356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bcu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aneous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jection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not necessarily “small dose” but isotonicity reduce pain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Hypodermoclysis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muscular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or slightly hypertonic  to increase  penetratio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Intravenous injection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should be isotonic “Large volume ”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otonic cause haemolysi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solution may be administered slowly into a vein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1048320" indent="-493560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Hypertonic large volume administered through a cannula into large vessels.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493560" indent="-4935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85840" y="609120"/>
            <a:ext cx="85010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Isotonicity &amp; route of administration 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cont</a:t>
            </a: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trathecal injes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Should be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Rapid diluted by tear, but most of it is isotonic to decrease irritation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ye lot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Preferably isotonic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asal drop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374840" indent="-51444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3548a"/>
                </a:solidFill>
                <a:latin typeface="Georgia"/>
              </a:rPr>
              <a:t>Isotonic, but not essentially</a:t>
            </a:r>
            <a:endParaRPr b="0" lang="en-US" sz="2200" spc="-1" strike="noStrike">
              <a:solidFill>
                <a:srgbClr val="53548a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57120" y="609120"/>
            <a:ext cx="8072640" cy="1143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Classes of adjustment of isotonicity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substace to lower f.p of solution to -0.52º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reezing point depression (FPD) “cryoscopic method”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aCL equivalent method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Class I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ding H2O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806400" indent="-514440">
              <a:spcBef>
                <a:spcPts val="300"/>
              </a:spcBef>
              <a:buClr>
                <a:srgbClr val="438086"/>
              </a:buClr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White –Vincent metho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reezing point depression (f.p.d)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 Freezing Poin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solven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Δ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eorgia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=L c       L : constant ,   c : conc.(molarity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t i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Colligative propert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Depend on concetr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38086"/>
                </a:solidFill>
                <a:latin typeface="Georgia"/>
              </a:rPr>
              <a:t>same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.p.d             same conc.             same tonicity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0.9% NaCl is isotonic i.e.  F.p.d =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2928960" y="4286160"/>
            <a:ext cx="857160" cy="14292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ight Arrow 4"/>
          <p:cNvSpPr/>
          <p:nvPr/>
        </p:nvSpPr>
        <p:spPr>
          <a:xfrm>
            <a:off x="5572080" y="4286160"/>
            <a:ext cx="785880" cy="14292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066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1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- 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Freezing point depression (FPD) “cryoscopic method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”.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857240"/>
            <a:ext cx="81439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.P. of blood &amp; tears = - 0.52º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= - 0.52º is isotonic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y solution have F.P. </a:t>
            </a: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›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0.52º is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0.4º hypo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0.6º  hyperton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dd solute to hypotonic solution to reach f.p.d of blood (- 0.52º 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20:04:28Z</dcterms:created>
  <dc:creator>M.Tayel</dc:creator>
  <dc:description/>
  <dc:language>en-US</dc:language>
  <cp:lastModifiedBy>FeRaS</cp:lastModifiedBy>
  <dcterms:modified xsi:type="dcterms:W3CDTF">2010-03-21T22:08:41Z</dcterms:modified>
  <cp:revision>80</cp:revision>
  <dc:subject/>
  <dc:title>Isotonicity</dc:title>
</cp:coreProperties>
</file>