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9F1F-0B48-4D80-8226-276504DA17D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ubcutaneous" TargetMode="External"/><Relationship Id="rId2" Type="http://schemas.openxmlformats.org/officeDocument/2006/relationships/hyperlink" Target="http://en.wikipedia.org/wiki/Saline_%28medicine%29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DBD6-4E67-4795-B124-44D960DA84C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ubcutaneous infus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s the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ubcutaneou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dministration of fluids to the body. This would often be in the form of a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alin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r glucos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8966-E142-4DD9-B352-A07EFCDB089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lligative propert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re properties of solutions that depend on the number of molecules in a given volume of solvent and not on the properties (e.g. size or mass) of the molecu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7238-8F88-4B59-973E-F077381CB13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3388-ACB9-4C9D-975C-A0DF1CB7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3CA1-22FF-4B59-850A-49FAF2B6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2952-2432-481B-9BB8-596CFB8D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261-C4A3-4EDF-9380-B1143BD1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0CA3-0056-49CE-96E5-B7F47C24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6221-0C9E-4829-8D16-8B290419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F7B3-C05E-4338-AA5B-E4715261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3695-0FB6-4B22-8D7E-3BAA708F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EF7B-985B-4645-B592-33EC25F1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2053-C9DD-40A9-A775-691DD84A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51CF-9070-4886-B5D0-8BED56C5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A82B-5593-40F3-8572-31475F03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2B61-37D9-461D-8B1C-44347022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D8AD-AC2C-4C59-BD37-0E610D0A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D373-069A-4753-BAE1-2F66E65A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BAD5-A5A1-439E-95F8-33829E86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5E1A-00A3-49FD-A4F9-D3DCAC65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C62A0E-B672-48E6-80BC-04BF0854E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9DCA1-EA76-4D74-9588-94193721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7D0518-F53E-4F91-B78F-AE5FC1B9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53A394-1AC1-44F5-9EE7-1C01FA9D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F0BA0D-483C-49A0-ABD7-872E0FA6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D5CD-0626-4309-9AC9-291C68B6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99943-035B-46A3-80A1-2FA89E67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A7C6D-E914-4BF2-B7F6-4EB140C0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855E5-B50D-49A5-BB5B-A32258CB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B3A955-4DFA-4DC5-B673-AEBFFD79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67E188-33D4-48B1-AD38-1DC913CD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28BDB2-2BBA-4B23-A54B-AC21F913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65A507-C393-47F0-ADF7-FF857A26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9A24A-B2D3-4642-B9FB-48CFCE2A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403DF-E0C0-4DCD-A7D8-55BDFF12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7EE1A-D1DE-4EA1-B0B3-B317C9D6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5176-93AA-4E22-AE90-D5493C66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00028-00C0-4178-9F59-BCC01D1B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F1A7B-A8D7-4DDE-8821-5CEF6709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FDB52-045D-40D5-8FCB-03A527B2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1F553-D158-4AA8-A28F-10B91103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49BB4-218B-4991-951B-4643E83E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0FAAF-1A0A-4DBD-811C-21A59EEA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21984-99EB-493B-84BE-252AA2D8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41415-8DF4-47E4-972D-56C12D63A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2F673-0FF8-4628-AC84-D0AF73F0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AB04-C11C-46A0-8A79-1A06BC71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9E4C-B1AC-4AF4-95D6-7B1592CD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5849-ECEC-447F-B971-8858C93C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69CE-61DC-44FC-B475-1B5D5A44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1B24-4D37-4597-9DD5-6F2FEC24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CF3E-0985-459C-9594-11C9E052F03C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٥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5DFA-E1C3-473C-9DDE-D386A42E8985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5E8C-FCBC-4952-8606-42AC7ACA48D9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٥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BA61-1D27-4ADB-A5F8-A279F9F129C0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5483-04D1-4296-9A8C-C90CDE6958FF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٥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E72B-5FEA-4A3B-AAFF-C98590ADC0CF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EFBC-FAC7-456A-81C1-74CDA1C375F0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٥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77FE-4ACB-4862-BD89-D759E4EF97D6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840" y="178560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rebuchet MS"/>
              </a:rPr>
              <a:t>Isotonicity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7601040" y="4285800"/>
            <a:ext cx="15429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PHT 43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c. gm/100 ml of adjusting subst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.p.d of 1% of unadjusted substance(table) X percentage strength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f.p.d of 1% of adjusting substance (table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6"/>
              <p:cNvSpPr txBox="1"/>
              <p:nvPr/>
            </p:nvSpPr>
            <p:spPr>
              <a:xfrm>
                <a:off x="2952720" y="2143080"/>
                <a:ext cx="323856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8"/>
              <p:cNvSpPr txBox="1"/>
              <p:nvPr/>
            </p:nvSpPr>
            <p:spPr>
              <a:xfrm>
                <a:off x="285840" y="3714840"/>
                <a:ext cx="12351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428760" y="4857840"/>
                <a:ext cx="858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0"/>
              <p:cNvSpPr txBox="1"/>
              <p:nvPr/>
            </p:nvSpPr>
            <p:spPr>
              <a:xfrm>
                <a:off x="500040" y="6000840"/>
                <a:ext cx="7142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1" descr=""/>
          <p:cNvPicPr/>
          <p:nvPr/>
        </p:nvPicPr>
        <p:blipFill>
          <a:blip r:embed="rId1"/>
          <a:stretch/>
        </p:blipFill>
        <p:spPr>
          <a:xfrm>
            <a:off x="2500200" y="5857920"/>
            <a:ext cx="3181320" cy="10000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uch NaCl is required to render 100 ml of a 1% soln. of apomorphin HCL isotonic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.p.d of 1%NaCl=0.58º, F.p.d of 1%drug=0.08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% drug                   0.08º   (0.52º- 0.08º=0.44º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% NaCl                  0.58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% NaCl                 0.44º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770040" y="3500280"/>
                <a:ext cx="23889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º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6573960" y="3770280"/>
                <a:ext cx="2070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5"/>
              <p:cNvSpPr txBox="1"/>
              <p:nvPr/>
            </p:nvSpPr>
            <p:spPr>
              <a:xfrm>
                <a:off x="3270240" y="3500280"/>
                <a:ext cx="29624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º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º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º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Right Arrow 7"/>
          <p:cNvSpPr/>
          <p:nvPr/>
        </p:nvSpPr>
        <p:spPr>
          <a:xfrm>
            <a:off x="2428920" y="4714920"/>
            <a:ext cx="100008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ight Arrow 8"/>
          <p:cNvSpPr/>
          <p:nvPr/>
        </p:nvSpPr>
        <p:spPr>
          <a:xfrm>
            <a:off x="2428920" y="5143680"/>
            <a:ext cx="1000080" cy="28548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ight Arrow 9"/>
          <p:cNvSpPr/>
          <p:nvPr/>
        </p:nvSpPr>
        <p:spPr>
          <a:xfrm rot="10800000">
            <a:off x="2500200" y="5572080"/>
            <a:ext cx="100008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6"/>
              <p:cNvSpPr txBox="1"/>
              <p:nvPr/>
            </p:nvSpPr>
            <p:spPr>
              <a:xfrm>
                <a:off x="6500880" y="5214960"/>
                <a:ext cx="2070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0" name="Picture 8" descr=""/>
          <p:cNvPicPr/>
          <p:nvPr/>
        </p:nvPicPr>
        <p:blipFill>
          <a:blip r:embed="rId2"/>
          <a:stretch/>
        </p:blipFill>
        <p:spPr>
          <a:xfrm>
            <a:off x="5643720" y="5143680"/>
            <a:ext cx="761760" cy="1571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3"/>
          <a:stretch/>
        </p:blipFill>
        <p:spPr>
          <a:xfrm>
            <a:off x="6415200" y="5715000"/>
            <a:ext cx="1657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63" name="Content Placeholder 2"/>
          <p:cNvGrpSpPr/>
          <p:nvPr/>
        </p:nvGrpSpPr>
        <p:grpSpPr>
          <a:xfrm>
            <a:off x="444600" y="2236680"/>
            <a:ext cx="8254800" cy="4353120"/>
            <a:chOff x="444600" y="2236680"/>
            <a:chExt cx="8254800" cy="4353120"/>
          </a:xfrm>
        </p:grpSpPr>
        <p:pic>
          <p:nvPicPr>
            <p:cNvPr id="264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44600" y="2236680"/>
              <a:ext cx="825480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57200" y="2249640"/>
              <a:ext cx="8229600" cy="432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adjust isotonicity of procaine HCl 3% using NaCl ? Fpd of 1%NaCl=0.57º, f.p.d of 1% drug=0.112º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2952720" y="3432240"/>
                <a:ext cx="254808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"/>
              <p:cNvSpPr txBox="1"/>
              <p:nvPr/>
            </p:nvSpPr>
            <p:spPr>
              <a:xfrm>
                <a:off x="3000240" y="4689360"/>
                <a:ext cx="228600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2</m:t>
                    </m:r>
                    <m:r>
                      <m:t xml:space="preserve">∗</m:t>
                    </m:r>
                    <m:r>
                      <m:t xml:space="preserve">3</m:t>
                    </m:r>
                    <m:r>
                      <m:t xml:space="preserve">)</m:t>
                    </m:r>
                    <m:eqArr>
                      <m:e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6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4"/>
              <p:cNvSpPr txBox="1"/>
              <p:nvPr/>
            </p:nvSpPr>
            <p:spPr>
              <a:xfrm>
                <a:off x="1285920" y="5857920"/>
                <a:ext cx="58579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l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rPr>
                        <m:lit/>
                        <m:nor/>
                      </m:rPr>
                      <m:t xml:space="preserve">NaC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2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-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aCl equivalent metho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Cl equivalent “E”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mount of NaCl that is equivalent to(i.e., has the same osmotic effect (same f.p.d) as ) 1 gm of drug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st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alculate  E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dd NaCl to reach 0.9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 E</a:t>
            </a:r>
            <a:r>
              <a:rPr b="0" lang="en-US" sz="4000" spc="-1" strike="noStrike" baseline="-25000">
                <a:solidFill>
                  <a:srgbClr val="424456"/>
                </a:solidFill>
                <a:latin typeface="Trebuchet MS"/>
              </a:rPr>
              <a:t>NaCl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214200" y="2714760"/>
                <a:ext cx="39150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u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4789440" y="2714760"/>
                <a:ext cx="387972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so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4"/>
              <p:cNvSpPr txBox="1"/>
              <p:nvPr/>
            </p:nvSpPr>
            <p:spPr>
              <a:xfrm>
                <a:off x="4857840" y="3857760"/>
                <a:ext cx="37908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aCl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l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l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5"/>
              <p:cNvSpPr txBox="1"/>
              <p:nvPr/>
            </p:nvSpPr>
            <p:spPr>
              <a:xfrm>
                <a:off x="6788160" y="4799160"/>
                <a:ext cx="1998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t 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TextBox 11"/>
          <p:cNvSpPr/>
          <p:nvPr/>
        </p:nvSpPr>
        <p:spPr>
          <a:xfrm>
            <a:off x="4286160" y="385776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6"/>
              <p:cNvSpPr txBox="1"/>
              <p:nvPr/>
            </p:nvSpPr>
            <p:spPr>
              <a:xfrm>
                <a:off x="3146400" y="5821200"/>
                <a:ext cx="22986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so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rug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8"/>
              <p:cNvSpPr txBox="1"/>
              <p:nvPr/>
            </p:nvSpPr>
            <p:spPr>
              <a:xfrm>
                <a:off x="3929040" y="2286000"/>
                <a:ext cx="12873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f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10"/>
              <p:cNvSpPr txBox="1"/>
              <p:nvPr/>
            </p:nvSpPr>
            <p:spPr>
              <a:xfrm>
                <a:off x="1171440" y="4786200"/>
                <a:ext cx="17575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t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u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11"/>
              <p:cNvSpPr txBox="1"/>
              <p:nvPr/>
            </p:nvSpPr>
            <p:spPr>
              <a:xfrm>
                <a:off x="4856040" y="4786200"/>
                <a:ext cx="16448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t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12"/>
              <p:cNvSpPr txBox="1"/>
              <p:nvPr/>
            </p:nvSpPr>
            <p:spPr>
              <a:xfrm>
                <a:off x="6786720" y="5357880"/>
                <a:ext cx="1923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13"/>
              <p:cNvSpPr txBox="1"/>
              <p:nvPr/>
            </p:nvSpPr>
            <p:spPr>
              <a:xfrm>
                <a:off x="368280" y="3825720"/>
                <a:ext cx="36259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rug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 amount of NaCl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500040" y="3071880"/>
                <a:ext cx="8228160" cy="22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weight of NaCl in gm per 100 m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o make solution isotoni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rug%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weight of drug in gm per 100 ml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aCl equivalent weight to 1gm of drug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isotonic solution of NaC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1808280" y="2571840"/>
                <a:ext cx="4309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 drug%</m:t>
                    </m:r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00040" y="18572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lculate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of drug (M.wt=187,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iso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3.4)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uch NaCl needed to make 2% of this drug isotonic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5072040" y="2928960"/>
                <a:ext cx="19209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2071800" y="2643120"/>
                <a:ext cx="22986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so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rug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857160" y="4714920"/>
                <a:ext cx="3489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ru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5"/>
              <p:cNvSpPr txBox="1"/>
              <p:nvPr/>
            </p:nvSpPr>
            <p:spPr>
              <a:xfrm>
                <a:off x="857160" y="5572080"/>
                <a:ext cx="3362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Right Arrow 7"/>
          <p:cNvSpPr/>
          <p:nvPr/>
        </p:nvSpPr>
        <p:spPr>
          <a:xfrm>
            <a:off x="4500720" y="478620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6"/>
              <p:cNvSpPr txBox="1"/>
              <p:nvPr/>
            </p:nvSpPr>
            <p:spPr>
              <a:xfrm>
                <a:off x="5033880" y="4714920"/>
                <a:ext cx="35654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ru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5" name="Picture 8" descr=""/>
          <p:cNvPicPr/>
          <p:nvPr/>
        </p:nvPicPr>
        <p:blipFill>
          <a:blip r:embed="rId1"/>
          <a:stretch/>
        </p:blipFill>
        <p:spPr>
          <a:xfrm>
            <a:off x="7643880" y="5214960"/>
            <a:ext cx="761760" cy="15717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"/>
          <p:cNvPicPr/>
          <p:nvPr/>
        </p:nvPicPr>
        <p:blipFill>
          <a:blip r:embed="rId2"/>
          <a:stretch/>
        </p:blipFill>
        <p:spPr>
          <a:xfrm>
            <a:off x="4643280" y="5357880"/>
            <a:ext cx="2886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lculate amount of NaCl needed to adjust 1.5% Atropine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0.12gm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0.9 –(W x 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0.9 –(1.5x 0.12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0.72 gm of NaCl should be add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9" name="Picture 8" descr=""/>
          <p:cNvPicPr/>
          <p:nvPr/>
        </p:nvPicPr>
        <p:blipFill>
          <a:blip r:embed="rId1"/>
          <a:stretch/>
        </p:blipFill>
        <p:spPr>
          <a:xfrm>
            <a:off x="5572080" y="4857840"/>
            <a:ext cx="762120" cy="1571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"/>
          <p:cNvPicPr/>
          <p:nvPr/>
        </p:nvPicPr>
        <p:blipFill>
          <a:blip r:embed="rId2"/>
          <a:stretch/>
        </p:blipFill>
        <p:spPr>
          <a:xfrm>
            <a:off x="2071800" y="4929120"/>
            <a:ext cx="3341520" cy="15001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"/>
          <p:cNvPicPr/>
          <p:nvPr/>
        </p:nvPicPr>
        <p:blipFill>
          <a:blip r:embed="rId3"/>
          <a:stretch/>
        </p:blipFill>
        <p:spPr>
          <a:xfrm>
            <a:off x="6343560" y="4929120"/>
            <a:ext cx="1657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3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-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ite – Vincent metho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inciple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st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Addition of H2O to drug to make it isotonic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2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nd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addition of isotonic vehicle to bring solution to final volume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 amount of H</a:t>
            </a:r>
            <a:r>
              <a:rPr b="0" lang="en-US" sz="4000" spc="-1" strike="noStrike" baseline="-25000">
                <a:solidFill>
                  <a:srgbClr val="424456"/>
                </a:solidFill>
                <a:latin typeface="Trebuchet MS"/>
              </a:rPr>
              <a:t>2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ppose preparing 30ml of 1% drug isotonic with body fluid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0.16gm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gm                       100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                            30ml        =0.3g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mount of NaCl eq. to 0.3 dru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0.3 x 0.16 =0.048g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0.9 gm                         100 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0.048 gm                      ? ml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5.3 ml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8072280" y="4734000"/>
            <a:ext cx="928800" cy="2124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"/>
          <p:cNvPicPr/>
          <p:nvPr/>
        </p:nvPicPr>
        <p:blipFill>
          <a:blip r:embed="rId2"/>
          <a:stretch/>
        </p:blipFill>
        <p:spPr>
          <a:xfrm>
            <a:off x="7639200" y="3643200"/>
            <a:ext cx="1504800" cy="1152720"/>
          </a:xfrm>
          <a:prstGeom prst="rect">
            <a:avLst/>
          </a:prstGeom>
          <a:ln w="0">
            <a:noFill/>
          </a:ln>
        </p:spPr>
      </p:pic>
      <p:sp>
        <p:nvSpPr>
          <p:cNvPr id="308" name="Right Arrow 6"/>
          <p:cNvSpPr/>
          <p:nvPr/>
        </p:nvSpPr>
        <p:spPr>
          <a:xfrm>
            <a:off x="2071800" y="335772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ight Arrow 7"/>
          <p:cNvSpPr/>
          <p:nvPr/>
        </p:nvSpPr>
        <p:spPr>
          <a:xfrm rot="10800000">
            <a:off x="1999800" y="3786120"/>
            <a:ext cx="1357560" cy="21456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ight Arrow 8"/>
          <p:cNvSpPr/>
          <p:nvPr/>
        </p:nvSpPr>
        <p:spPr>
          <a:xfrm>
            <a:off x="2428920" y="521496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ight Arrow 9"/>
          <p:cNvSpPr/>
          <p:nvPr/>
        </p:nvSpPr>
        <p:spPr>
          <a:xfrm>
            <a:off x="2571840" y="564372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5357880" y="3643200"/>
            <a:ext cx="1285920" cy="500040"/>
          </a:xfrm>
          <a:prstGeom prst="rect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928800" y="6000840"/>
            <a:ext cx="1285920" cy="500040"/>
          </a:xfrm>
          <a:prstGeom prst="rect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" descr=""/>
          <p:cNvPicPr/>
          <p:nvPr/>
        </p:nvPicPr>
        <p:blipFill>
          <a:blip r:embed="rId3"/>
          <a:stretch/>
        </p:blipFill>
        <p:spPr>
          <a:xfrm>
            <a:off x="5286240" y="5219640"/>
            <a:ext cx="26481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smosi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Osmosis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is the diffusion of solvent through a semi-permeable membran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Water always flows from lower solute concentration [dilute solution] to higher solute concentration until a balance is produced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Osmotic pressure</a:t>
            </a:r>
            <a:r>
              <a:rPr b="1" lang="en-US" sz="26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s the force that cause this diffusion 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Tonicity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is a measure of the                                     osmotic pressure of two solutions                       separated by a semi-permeable                                 membran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5924520" y="4316400"/>
            <a:ext cx="306720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ne step equa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                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V :      volume of H</a:t>
            </a:r>
            <a:r>
              <a:rPr b="0" lang="en-US" sz="2400" spc="-1" strike="noStrike" baseline="-25000">
                <a:solidFill>
                  <a:srgbClr val="53548a"/>
                </a:solidFill>
                <a:latin typeface="Georgia"/>
              </a:rPr>
              <a:t>2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O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                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W:      weight of drug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                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111.1= 100/0.9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st examp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2357280" y="2428920"/>
                <a:ext cx="3308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2214720" y="5429160"/>
                <a:ext cx="33764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3143160" y="6143760"/>
                <a:ext cx="16210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424456"/>
                </a:solidFill>
                <a:latin typeface="Trebuchet MS"/>
                <a:ea typeface="Tahoma"/>
              </a:rPr>
              <a:t>    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I</a:t>
            </a:r>
            <a:r>
              <a:rPr b="0" lang="ar-SA" sz="4000" spc="-1" strike="noStrike">
                <a:solidFill>
                  <a:srgbClr val="424456"/>
                </a:solidFill>
                <a:latin typeface="Trebuchet MS"/>
                <a:ea typeface="Tahoma"/>
              </a:rPr>
              <a:t>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28760" y="1214280"/>
            <a:ext cx="8143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d volume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 and then complete with isotonic solu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henacaine HCl                   0.06 gm  (E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NaCl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=0.16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oric acid                              0.3 gm     (E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NaCl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=0.5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erile distilled H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2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O up to    100 ml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 = 111.1 x(weight x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 =111.1 x [(0.06x0.16)+(0.3x0.5)] = 17.7 ml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785880" y="1714680"/>
            <a:ext cx="7429320" cy="2143080"/>
          </a:xfrm>
          <a:prstGeom prst="rect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8" descr=""/>
          <p:cNvPicPr/>
          <p:nvPr/>
        </p:nvPicPr>
        <p:blipFill>
          <a:blip r:embed="rId1"/>
          <a:stretch/>
        </p:blipFill>
        <p:spPr>
          <a:xfrm>
            <a:off x="6858000" y="5143680"/>
            <a:ext cx="762120" cy="1571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"/>
          <p:cNvPicPr/>
          <p:nvPr/>
        </p:nvPicPr>
        <p:blipFill>
          <a:blip r:embed="rId2"/>
          <a:stretch/>
        </p:blipFill>
        <p:spPr>
          <a:xfrm>
            <a:off x="785880" y="5072040"/>
            <a:ext cx="6143400" cy="15001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3"/>
          <a:stretch/>
        </p:blipFill>
        <p:spPr>
          <a:xfrm>
            <a:off x="7486560" y="4786200"/>
            <a:ext cx="1657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822960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Types of Tonicity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4705200" y="4370400"/>
            <a:ext cx="3732480" cy="249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357200" y="1785960"/>
          <a:ext cx="6786720" cy="2620800"/>
        </p:xfrm>
        <a:graphic>
          <a:graphicData uri="http://schemas.openxmlformats.org/drawingml/2006/table">
            <a:tbl>
              <a:tblPr/>
              <a:tblGrid>
                <a:gridCol w="2262240"/>
                <a:gridCol w="2262240"/>
                <a:gridCol w="2262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Hypot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isot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Hypert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aCl 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aCl 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aCl 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6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6000" spc="-1" strike="noStrike" baseline="-15000">
                          <a:solidFill>
                            <a:srgbClr val="000000"/>
                          </a:solidFill>
                          <a:latin typeface="Georgia"/>
                        </a:rPr>
                        <a:t>›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side     out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6000" spc="-1" strike="noStrike" baseline="-15000">
                          <a:solidFill>
                            <a:srgbClr val="000000"/>
                          </a:solidFill>
                          <a:latin typeface="Georgia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side     out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6000" spc="-1" strike="noStrike" baseline="-15000">
                          <a:solidFill>
                            <a:srgbClr val="000000"/>
                          </a:solidFill>
                          <a:latin typeface="Georgia"/>
                        </a:rPr>
                        <a:t>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side     out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wel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quilibr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hrin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353880" y="4280040"/>
            <a:ext cx="38642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y using isotonic solutions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1" name="Picture 5" descr="SDXTMPPPT01.emf"/>
          <p:cNvPicPr/>
          <p:nvPr/>
        </p:nvPicPr>
        <p:blipFill>
          <a:blip r:embed="rId1"/>
          <a:stretch/>
        </p:blipFill>
        <p:spPr>
          <a:xfrm>
            <a:off x="457200" y="2286000"/>
            <a:ext cx="83296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320" y="609120"/>
            <a:ext cx="814356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sotonicity &amp; route of administration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bcu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taneou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jectio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not necessarily “small dose” but isotonicity reduce pain.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Hypodermoclysi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hould be isotonic “Large volume”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Intramuscular injec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hould be isotonic or slightly hypertonic  to increase  penetration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Intravenous injec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hould be isotonic “Large volume ”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Hypotonic cause haemolysis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Hypertonic solution may be administered slowly into a vein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Hypertonic large volume administered through a cannula into large vessels.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5840" y="609120"/>
            <a:ext cx="85010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sotonicity &amp; route of administration </a:t>
            </a: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cont</a:t>
            </a: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rathecal injes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Should be isotonic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ye dro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Rapid diluted by tear, but most of it is isotonic to decrease irritation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ye lo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Preferably isotonic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sal dro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Isotonic, but not essentially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7120" y="609120"/>
            <a:ext cx="80726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lasses of adjustment of isotonicity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Class 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dding substace to lower f.p of solution to -0.52º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reezing point depression (FPD) “cryoscopic method”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aCL equivalent method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Class I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dding H2O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White –Vincent metho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Freezing point depression (f.p.d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eezing Poin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Freezing Poin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solven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- Δ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Δ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L c       L : constant ,   c : conc.(molarity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is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olligative property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Depend on concetra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same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.p.d             same conc.             same tonicit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0.9% NaCl is isotonic i.e.  F.p.d = 0.52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Right Arrow 3"/>
          <p:cNvSpPr/>
          <p:nvPr/>
        </p:nvSpPr>
        <p:spPr>
          <a:xfrm>
            <a:off x="2928960" y="4286160"/>
            <a:ext cx="857160" cy="1429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ight Arrow 4"/>
          <p:cNvSpPr/>
          <p:nvPr/>
        </p:nvSpPr>
        <p:spPr>
          <a:xfrm>
            <a:off x="5572080" y="428616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-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Freezing point depression (FPD) “cryoscopic method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”.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0040" y="1857240"/>
            <a:ext cx="81439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.P. of blood &amp; tears = - 0.52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y solution have F.P. = - 0.52º is isotonic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y solution have F.P. 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›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- 0.52º is hypoton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0.4º hypoton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0.6º  hyperton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d solute to hypotonic solution to reach f.p.d of blood (- 0.52º 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20:04:28Z</dcterms:created>
  <dc:creator>M.Tayel</dc:creator>
  <dc:description/>
  <dc:language>en-US</dc:language>
  <cp:lastModifiedBy>FeRaS</cp:lastModifiedBy>
  <dcterms:modified xsi:type="dcterms:W3CDTF">2010-03-21T22:08:41Z</dcterms:modified>
  <cp:revision>80</cp:revision>
  <dc:subject/>
  <dc:title>Isotonicity</dc:title>
</cp:coreProperties>
</file>