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189-FAB6-436C-8C49-3F242A9194B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EB9-773A-46E0-A651-A0DEF24EC6D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552-3A9C-4B93-BDB2-DB095458FB2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96E-21CD-4FEE-A20B-8F2183FE734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053-524C-45A9-8249-A777C1F3B5C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810D-A744-4246-A620-CB2651FA166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C99-48B5-43F6-938D-7314FE8AFA4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4924-23BF-443C-A4D8-9195E582D47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4A5-6C1A-4407-A916-EF2DFDB650B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A239-B7A7-45E4-8B6D-28C0C4B0C76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56E2-3AC5-4D83-AED2-0FA60EF1F7B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C6AE-3E26-4C1D-A35A-DD63FC8C85A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456-7770-46A8-BE03-8988A788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840-E1AF-48F5-9B42-73A74282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20E-644B-4360-BF6F-3999BBE9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952-D958-4BD1-B2F4-C1E664F4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DC6-D5AC-4233-9C45-F458170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12F-4DD1-4012-A0B7-DFAA9B93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706-01F4-4A6E-8D4D-889A671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C49-F296-46FD-985E-97A796B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E01-B363-45F6-A842-3378FB48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D57-D45C-4642-91C1-5FCE180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454-5531-41E9-8BD0-E9616E7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782-B561-44CC-9DD9-0BD0B0C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25B-46D6-46B2-9FBE-B055C79ABC6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spec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rived from the job descri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dentifies the experience, qualifications, skills, abilities, knowledge and personal characteristics needed for the j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Policies and proced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assure staff of fair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elp managers make quick and consistent deci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ive managers the confidence to resolve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35280" y="1341000"/>
            <a:ext cx="4897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7034400" cy="4243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ruitment proces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se 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rite sponsorship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dentify potential sources of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econ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tilise programs for the unemploy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ain assistance of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Register with volunte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election polic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How will the suitability of candidates be measur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How will the people be sourc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o will be the decision mak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election techniques will be us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Organisational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Equal employment polic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Recruitment, selection and in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nduc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Basic information about the ev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ours of venues and relevant lo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Introductions to other staff and volunte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Introduction to the organisational culture, history and working arran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Overview of training p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Training and professional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Training provides specific job skills/knowledge to perform a job or impr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ofessional development is the acquisition of new skills, knowledge and attitudes for future job responsibil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 training needs assessment determines the gap between current performance of staff and their desired perform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3889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pervision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6397560" cy="388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30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Termination, outplacement and re-enlis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egal issues surround termin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 Work 2009 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Various state 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utplacement is the process of assisting terminated employees (or those who choose to leave) to find other employ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-enlisting by staff for recurring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0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oncerned with identifying people’s needs and relative strengths, and the goals they pursue in order to satisfy these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ertzberg’s two-factor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     Management 4e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uman Resource Management an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0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6056280" cy="2325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3803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352728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594400" cy="490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3803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0920" y="1268280"/>
            <a:ext cx="3384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tent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359760" cy="3692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Motivating staff and volunte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Process the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qu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Based on the premise that all employees/volunteers expect to be treated fair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xpectancy the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Based on the belief that by acting in a particular way a particular outcome will resul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Building effective staff and volunteers te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8000" y="159984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cDuff’s formula for effective team building and mainten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are a manageabl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eople are appropriately selec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leaders are trai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are trained to execute their tas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Volunteers and staff are suppor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eams have obj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Volunteers and staff trust and support one an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456840"/>
            <a:ext cx="73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Building effective staff and volunteers team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83920"/>
            <a:ext cx="72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McDuff’s formula for effective team building and mainten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unication is vertical and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ganisational structure promotes communication between volunteers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have re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have f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gnition is given for contribution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nteers and staff celebrate thei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rganisation promotes and encourages the wellbeing of volunteer team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533160"/>
            <a:ext cx="712944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gal obliga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ccupational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mployee dismis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alaries/w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uperannu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orkers compen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6699"/>
                </a:solidFill>
                <a:latin typeface="Arial"/>
              </a:rPr>
              <a:t>Background Thin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ve a look at the Comedy Festival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level of staff would b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number of volunteers would be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o people volunteer to assist on Ev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can you maximise the volunteers goals while achieving your own event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62625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scribe the human resource management challenges posed by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ist and describe the key steps in the human resource planning process for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iscuss approaches that can be employed to motivate event staff and volunte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scribe techniques that can be used for event staff and volunteer team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State general legal considerations associated with human resource management in an event con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Considerations associated with human resource planning</a:t>
            </a:r>
            <a:br>
              <a:rPr sz="3600"/>
            </a:b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ulsating’ organisational structur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ort-term nature of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ort timelines for hiring/selecting/train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ed to shed staff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se of volunt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and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6283440" cy="484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st con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mproved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mproved organisational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nhanced performance (social and leg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How many staff and volunt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kills/qualification m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stage are they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asks should be grouped to form a j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hould be looked for in applic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should the organisational structure 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asks should form a performance apprais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What training and development is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human resource planning process fo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Human resource strategy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Job title and commitment requi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alary/rewards/incen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Job summ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uties and responsi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Know-how/skills/knowledge et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23:56Z</dcterms:created>
  <dc:creator>John Wiley &amp; Sons Australia</dc:creator>
  <dc:description/>
  <dc:language>en-US</dc:language>
  <cp:lastModifiedBy>Admin</cp:lastModifiedBy>
  <cp:lastPrinted>2005-01-05T01:26:06Z</cp:lastPrinted>
  <dcterms:modified xsi:type="dcterms:W3CDTF">2011-03-28T02:06:03Z</dcterms:modified>
  <cp:revision>22</cp:revision>
  <dc:subject/>
  <dc:title>Festival &amp; Special Event Management 2e</dc:title>
</cp:coreProperties>
</file>