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D06-5163-434B-83CC-59F4DDFABCC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BD1-EACF-41A6-8F84-AFA1047EE22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FE40-7834-4BFD-B65F-EBCD7EF5BB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BD0-6422-48A3-8752-15FA279FA27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A71-3944-4F9B-A570-635DBB05E7A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926-4839-4138-B9DC-2D3307B7BEF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6D0C-2884-41A3-AB61-16572A38937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223E-D812-46AB-9EA1-08C1BB3054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0C1-E58D-4029-BC6F-5BC2A8A421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D0D-B1AB-4ECF-946B-97F113D2301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673F-20CB-4BD2-B56E-4ADE65AEE09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EDF-CB96-46B5-98FD-9FB38CD100F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467-190A-4C21-A504-2D136FA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F40-8DD6-4776-AFD4-F05D9D9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9DC-6DCB-4EBC-88CF-FDCC9C9F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984-796C-4510-9C85-5D3E5C69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61D-086C-4015-BA6C-5FD61CD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688-DEEA-485F-AE6B-E7D7F03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2BA-E7A2-4533-A403-54714D7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D19-D7F5-432A-90C7-F97BF86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06F-E004-458A-9C24-502D5F6B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21C-DE10-4557-9CED-3E95F08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FF2-7BDE-49AF-B8F2-563F986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786-4E4D-4D63-956C-D08D924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F5D-1B51-46D7-A6BA-60ED24362A5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spec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rived from the job de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dentifies the experience, qualifications, skills, abilities, knowledge and personal characteristics needed for the j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Policies and proced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assure staff of fair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elp managers make quick and consistent deci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ive managers the confidence to resolve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35280" y="134100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7034400" cy="4243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ruitment proces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se 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rite sponsorship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dentify potential sources of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con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tilise programs for the unem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ain assistance of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Register with volunte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election polic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How will the suitability of candidates be measur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How will the people be sourc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o will be the decision mak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election techniques will be us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Organisational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Equal employment polic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nduc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Basic information about the ev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ours of venues and relevant lo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Introductions to other staff and volunte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Introduction to the organisational culture, history and working arran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Overview of training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Training and professional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Training provides specific job skills/knowledge to perform a job or impr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ofessional development is the acquisition of new skills, knowledge and attitudes for future job responsibil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 training needs assessment determines the gap between current performance of staff and their desired perform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3889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pervision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397560" cy="388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Termination, outplacement and re-enlis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egal issues surround termin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 Work 2009 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Various state 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utplacement is the process of assisting terminated employees (or those who choose to leave) to find other employ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-enlisting by staff for recurring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0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oncerned with identifying people’s needs and relative strengths, and the goals they pursue in order to satisfy thes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ertzberg’s two-factor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     Management 4e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uman Resource Management an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0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6056280" cy="2325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3803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352728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594400" cy="490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3803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0920" y="1268280"/>
            <a:ext cx="3384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359760" cy="3692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Process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qu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Based on the premise that all employees/volunteers expect to be treated fair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xpectancy the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Based on the belief that by acting in a particular way a particular outcome will resul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Building effective staff and volunteers te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cDuff’s formula for effective team building and mainten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are a manageabl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eople are appropriately selec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leaders are trai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are trained to execute their tas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Volunteers and staff are suppor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have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Volunteers and staff trust and support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Building effective staff and volunteers te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8392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cDuff’s formula for effective team building and mainten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unication is vertical and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ganisational structure promotes communication between volunteer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have re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have f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gnition is given for contribution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celebrate thei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ganisation promotes and encourages the wellbeing of volunteer team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533160"/>
            <a:ext cx="712944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gal obliga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mployee dismis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alaries/w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uperannu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orkers compen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6699"/>
                </a:solidFill>
                <a:latin typeface="Arial"/>
              </a:rPr>
              <a:t>Background Thin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ve a look at the Comedy Festival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level of staff would b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number of volunteers would be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o people volunteer to assist on Ev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can you maximise the volunteers goals while achieving your own event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62625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scribe the human resource management challenges posed by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ist and describe the key steps in the human resource planning process for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iscuss approaches that can be employed to motivate event staff and volunte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scribe techniques that can be used for event staff and volunteer team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State general legal considerations associated with human resource management in an event con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Considerations associated with human resource planning</a:t>
            </a:r>
            <a:br>
              <a:rPr sz="3600"/>
            </a:b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ulsating’ organisational structur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ort-term nature of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ort timelines for hiring/selecting/train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ed to shed staff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se of volunt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and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6283440" cy="484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st con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mproved organisational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nhanced performance (social and leg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How many staff and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kills/qualification m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stage are they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asks should be grouped to form a j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hould be looked for in applic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hould the organisational structure 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asks should form a performance apprais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raining and development is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Job title and commitment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alary/rewards/incen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Job summ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uties and responsi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Know-how/skills/knowledge et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23:56Z</dcterms:created>
  <dc:creator>John Wiley &amp; Sons Australia</dc:creator>
  <dc:description/>
  <dc:language>en-US</dc:language>
  <cp:lastModifiedBy>Admin</cp:lastModifiedBy>
  <cp:lastPrinted>2005-01-05T01:26:06Z</cp:lastPrinted>
  <dcterms:modified xsi:type="dcterms:W3CDTF">2011-03-28T02:06:03Z</dcterms:modified>
  <cp:revision>22</cp:revision>
  <dc:subject/>
  <dc:title>Festival &amp; Special Event Management 2e</dc:title>
</cp:coreProperties>
</file>