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81C7-4907-4BFE-BDD0-9FEB1DB46FE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0859-5709-4AD5-905E-660A5BD8C50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rier and less stern than the Olympic Games – commonwealth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ouch the soul of the nation and inspire the world by creating and delivering an extraordinary Olympic and Paralympic experience with lasting legacies. – Vancouver Olympics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B539-06D5-43A3-B98B-07E65BA1356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C9B-4652-4A94-9F84-F9FB43FF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F08-C311-448B-B6B3-2CE1CE0B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8232-3317-4E05-A502-1A2F5962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4B5-0A9B-423F-A964-DB60946D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24A-5C06-4079-BDA9-B9CAD2E7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A0B-53D8-497C-9B47-26AA3D02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76C-B91D-4773-9814-2CEA43CE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F4F-0DB9-42DF-A5F2-4978BA24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D078-DE01-484D-80E1-E2DAC63B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50B-E525-49CA-9833-623D75B4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28D-CAF8-4485-9802-2D20C493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8BD-B5E6-4B47-AF3D-E3EA7836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E5CF-2E67-47BB-9962-1D7CF903CCD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Arial"/>
              </a:rPr>
              <a:t>Two Other Ev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ay Mardi G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ttp://www.mardigras.org.au/partners/index.c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lbourne Naked Bike R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32000" y="476280"/>
            <a:ext cx="763272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The first Naked Bike Ride was held in Zaragoza, Spain, in 2001.</a:t>
            </a:r>
            <a:r>
              <a:rPr b="0" lang="en-AU" sz="2000" spc="-1" strike="noStrike" baseline="30000">
                <a:solidFill>
                  <a:srgbClr val="005798"/>
                </a:solidFill>
                <a:latin typeface="Arial"/>
              </a:rPr>
              <a:t>[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In 2003 Conrad Schmidt conceived the World Naked Bike 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Artists for Peace/Artists Against War (AFP/AAW)</a:t>
            </a:r>
            <a:r>
              <a:rPr b="0" lang="en-AU" sz="2000" spc="-1" strike="noStrike" baseline="30000">
                <a:solidFill>
                  <a:srgbClr val="005798"/>
                </a:solidFill>
                <a:latin typeface="Arial"/>
              </a:rPr>
              <a:t>[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Collaborations with activist groups and individuals around the world. The first WNBR event in 2004 was a collaboration between the WNBR &amp; </a:t>
            </a:r>
            <a:r>
              <a:rPr b="0" i="1" lang="en-AU" sz="2000" spc="-1" strike="noStrike">
                <a:solidFill>
                  <a:srgbClr val="005798"/>
                </a:solidFill>
                <a:latin typeface="Arial"/>
              </a:rPr>
              <a:t>Manifestación Ciclonudista</a:t>
            </a: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 in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57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5798"/>
                </a:solidFill>
                <a:latin typeface="Arial"/>
              </a:rPr>
              <a:t>Other organisations had similar events protesting oil depend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INITIAL MESS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57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5798"/>
                </a:solidFill>
                <a:latin typeface="Arial"/>
              </a:rPr>
              <a:t>Protesting against oil dependency and celebrating the power and individuality of the human bod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57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5798"/>
                </a:solidFill>
                <a:latin typeface="Arial"/>
              </a:rPr>
              <a:t>2006, the message focused on cycling advoca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The 2004 WNBR saw events in 28 cities, in ten countries on four continents.</a:t>
            </a:r>
            <a:r>
              <a:rPr b="0" lang="en-AU" sz="2000" spc="-1" strike="noStrike" baseline="30000">
                <a:solidFill>
                  <a:srgbClr val="005798"/>
                </a:solidFill>
                <a:latin typeface="Arial"/>
              </a:rPr>
              <a:t>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By 2010, the WNBR had expanded to stage rides in 74 cities, in 17 countries, from the United States to United Kingdom and Hungary to Paraguay</a:t>
            </a:r>
            <a:br>
              <a:rPr sz="2000"/>
            </a:b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5798"/>
                </a:solidFill>
                <a:latin typeface="Arial"/>
              </a:rPr>
              <a:t>Current 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deliver a vision of a cleaner, safer, body-positiv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57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57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5798"/>
                </a:solidFill>
                <a:latin typeface="Arial"/>
              </a:rPr>
              <a:t>Dress Code:  Bare as you D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Arial"/>
              </a:rPr>
              <a:t>Sydney Gay Mardi Gra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4 June, 1978, 10pm – 1</a:t>
            </a:r>
            <a:r>
              <a:rPr b="0" lang="en-AU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GMG Pa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t of a Range of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tribution to International Gay Solidarity Celebrations (from Stonewall Ri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testing Attempts to stop gay rights supporters teaching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veral Hundred G&amp;L’s and Supporters marched (small pa on a tru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lice Harrassment – confiscated the truck – arrested the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stirred up a crowd (1500) who joined the pro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lice violently arrested 53 men and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ny beaten in th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llowed by more arrests over the next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aws were chan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ee to protest without a permit (civil righ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79 – 3000 people – no inci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80 – post parade par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81 – change to March for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84 – 50 000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6 000 at the after par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erating Pro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86 - Positive media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89 – 200 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93 – 500 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terstate and O/S visi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$38 M for the econo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994 – Mainstream event (ABC TV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002 – Financial Problems (receiv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Current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w Mardi Gras (post 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00 DIFFERENT ARTS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70 000 person daytime pic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st Parade Par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veloped reputation for running great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se skills being one outcome of the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Cri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best gay event in the world (Planet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p 10 costume parades itw (Conde N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????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elebrating Gay P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reating The 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This Lecture 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74E4-05F2-4329-AF9B-24F41A3E4EE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The Event Vi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y change in laying the groundwork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ce firmed up, plays part in moving towards 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eds to be expressed simply and widely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st form of control – shared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licies and procedures – support, but don’t replace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k questions to test feasibility of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Needs Assessment (The 5 W’s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920" y="1523520"/>
            <a:ext cx="758016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WHY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hat is the reason for this ev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hy must the event be hel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WHO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ho will benefit from this even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ho do you want to atten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WHE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hen will the event be hel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s the date and time changeab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WHER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hat is the best location / venu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WHA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hat resources are required to satisfy the needs identifi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bov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Event on A Mission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Are We Doing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Relating The 5 “W’s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HY is the event being organised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provide an opportunity for the community to discover, develop and display their ideas, talents and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raise funds for charity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provide profits for the organi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educate the community or an industr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develop the community’s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 a celebration – e.g. Australia Day, ANZAC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Relating The 5 “W’s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WHO is the event being organised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Georgia"/>
              </a:rPr>
              <a:t>It is critical to identify the community (Consumers and Other stakeholders)  that you are developing the event for and dealing with, therefore you must identify such things a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ty of interest – business, sporting or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ty of belief – political, relig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pecific ethnic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pecific gender or ag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ographic community – urban, rural, industrial or a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o will be involv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Relating The 5 “W’s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HEN will the event be h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search weather patterns (especially for outside ev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tablish “seasonality” of the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te SMG and NBR are at the end of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search the timing of other events and activities in the area, will they clash, coincide or provide a “piggybac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termine the duration of the event and the hours of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Relating The 5 “W’s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WHERE will the event be hel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ultiple or Single 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doors or Outd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outdoors, is there a need to provide shelter from the elements, will you need to provide power, light and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streets and public spaces are to be used can permission be obtained and what is your role in developing alternative routes and controlling access etc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amenities are available at each potential venue, how do they help or hinder your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sability ac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Relating The 5 “W’s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HAT will be included in the ev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s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form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orting fix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ateur groups and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ributions from local clubs, schools, hospita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Relating The 5 “W’s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OW will the Event be Fun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cal, State or Federal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siness 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x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www.mardigras.org.au/partners/index.c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Relating The 5 “W’s”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OW will the event be Coordin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fessional Event Manager / Managemen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munity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bination of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Strategic Event Plann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Depends on the type of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s purpose, size, intended impact, 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it a Hallmark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Profit / Not For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ty / Trade / Tourism / Cultural / Sport / Interest Group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le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0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ne Off / Annual /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search is paramo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Understand the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5798"/>
                </a:solidFill>
                <a:latin typeface="Georgia"/>
              </a:rPr>
              <a:t>Key Features of Thorough Event Plann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as potential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imise negative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ximise economic and social returns to 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t also is the vehicle for Generating Enthusiasm about the Ev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d Channeling that Enthusiasm into Concrete Plans and 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Events as Problem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itiating an Event is a proces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reating a long list of problems and then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oing about the business of Solving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rategic Planning Recognises the inevitiability of these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d sets about identifying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inking about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d creating frameworks to solve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969696"/>
                </a:solidFill>
                <a:latin typeface="Arial Unicode MS"/>
              </a:rPr>
              <a:t>LECTURE 2</a:t>
            </a:r>
            <a:r>
              <a:rPr b="0" lang="en-US" sz="2200" spc="-1" strike="noStrike">
                <a:solidFill>
                  <a:srgbClr val="969696"/>
                </a:solidFill>
                <a:latin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More Hist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Conceptualising the Ev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Arial Unicode MS"/>
              </a:rPr>
              <a:t>Special Event </a:t>
            </a:r>
            <a:br>
              <a:rPr sz="4400"/>
            </a:br>
            <a:r>
              <a:rPr b="1" lang="en-US" sz="4400" spc="-1" strike="noStrike">
                <a:solidFill>
                  <a:srgbClr val="969696"/>
                </a:solidFill>
                <a:latin typeface="Arial Unicode MS"/>
              </a:rPr>
              <a:t>M</a:t>
            </a:r>
            <a:r>
              <a:rPr b="1" lang="en-AU" sz="4400" spc="-1" strike="noStrike">
                <a:solidFill>
                  <a:srgbClr val="969696"/>
                </a:solidFill>
                <a:latin typeface="Arial Unicode MS"/>
              </a:rPr>
              <a:t>anagement</a:t>
            </a:r>
            <a:br>
              <a:rPr sz="4400"/>
            </a:br>
            <a:r>
              <a:rPr b="1" lang="en-AU" sz="4400" spc="-1" strike="noStrike">
                <a:solidFill>
                  <a:srgbClr val="969696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969696"/>
                </a:solidFill>
                <a:latin typeface="Arial Unicode MS"/>
              </a:rPr>
              <a:t>BMO5401</a:t>
            </a:r>
            <a:r>
              <a:rPr b="0" lang="en-AU" sz="4000" spc="-1" strike="noStrike">
                <a:solidFill>
                  <a:srgbClr val="969696"/>
                </a:solidFill>
                <a:latin typeface="Arial Unicode MS"/>
              </a:rPr>
              <a:t>	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723D-68C7-4A20-98D0-915D0A7D559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5798"/>
                </a:solidFill>
                <a:latin typeface="Georgia"/>
              </a:rPr>
              <a:t>Key Features of Thorough Event Plann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ust be Hol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lude any tourism requirements and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volve representation-all stakehold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eeds to carefully consider committee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rge planning committees are unwiel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mall planning committees may be un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ery function must be clearly vested in some specific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ress the macro environment issues as well as the micro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Goldblatt’s 5 Critical Stages in</a:t>
            </a:r>
            <a:br>
              <a:rPr sz="4400"/>
            </a:br>
            <a:r>
              <a:rPr b="0" lang="en-US" sz="4400" spc="-1" strike="noStrike">
                <a:solidFill>
                  <a:srgbClr val="005798"/>
                </a:solidFill>
                <a:latin typeface="Georgia"/>
              </a:rPr>
              <a:t>Managing Ev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6360" y="1981080"/>
            <a:ext cx="69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eorgia"/>
              </a:rPr>
              <a:t>Goldblatt, J.J., (1997)  </a:t>
            </a:r>
            <a:r>
              <a:rPr b="0" i="1" lang="en-AU" sz="2800" spc="-1" strike="noStrike">
                <a:solidFill>
                  <a:srgbClr val="000000"/>
                </a:solidFill>
                <a:latin typeface="Georgia"/>
              </a:rPr>
              <a:t>Special Events: Best Practices in Modern Event Management,</a:t>
            </a:r>
            <a:r>
              <a:rPr b="0" lang="en-AU" sz="2800" spc="-1" strike="noStrike">
                <a:solidFill>
                  <a:srgbClr val="000000"/>
                </a:solidFill>
                <a:latin typeface="Georgia"/>
              </a:rPr>
              <a:t> 2nd ed. Van Nostrand Reinhold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Assess the Idea</a:t>
            </a:r>
            <a:br>
              <a:rPr sz="4400"/>
            </a:b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Is it Feasible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are the number of events held annually in the re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are the type of events held annually in the re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 the proposed event duplicating an existing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are the peak and low points of the region’s annual event calend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human resources will be available at the time the event is plan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 THERE A CLEARLY DEFINED OPPORTUNITY TO STAGE THE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What are the Key Objective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termine the key objectives of the ev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ai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vide enter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rt a new annual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 local or regional tou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elebrate an important community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pose product or services to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Establish the Event Dat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eck event calendars to ensure no cl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eck location/venu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milar events in other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vailability of local market – no clash with another major event or time e.g. school holi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obable weather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taging a tourism event in off-peak or peak tourism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798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Establishing Lead Tim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dentify the required time to undertake the plann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all local events – 4 to 6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dium scale events – 6 to 12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rge events – 12 to 18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ailure to allow adequate lead time is a common tr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n lead to things being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1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sufficient time to develop and implement marketing, develop sponsorship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Establishing lead time cont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ork backwards from the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ke realistic estimates for time needed to complet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im to have all tasks completed at least 2 weeks prior to the event starting – allows a buffer for the things that WILL go pear sha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nitor constant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5798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5798"/>
                </a:solidFill>
                <a:latin typeface="Georgia"/>
              </a:rPr>
              <a:t>Pre-event Research and Develop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dentify aud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dentifying goals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dentifying Strengths &amp; Weakn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dentifying Opportunities &amp; Thr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Designing the ev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798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Identifying Audi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re you finding an audience for an event you have in mi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signing an event for a particular aud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Identifying Goals &amp; Objectiv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y is the event being h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en will the event be h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ere will the event be h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is the event to achie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236232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vents as Conne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To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To Story, Myth, Reli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To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vents as Celebr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Id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if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rom Last Week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BB6B-44E3-47E4-8A70-63E47B0F1B5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The Vision and Mis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Vision sets out the long term goal of the event (if it is an annual, or ongoing ev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Mission sets out the specific task that the event will complete or ach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Evaluating the Concep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ree Scre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Marketing Scr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Operations Scr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inancial Scr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Marketing Screen asks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w will the target audience respond to the conce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Operations Screen asks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at are the Skills and Resources needed to stage the Ev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o we have access to th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Financial Screen asks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o we have enough money to run the e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798"/>
                </a:solidFill>
                <a:latin typeface="Georgia"/>
              </a:rPr>
              <a:t>Finally …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are you holding the e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is your a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will be the impact of your event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Clear compelling a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ften difficult to discover (or devel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798"/>
                </a:solidFill>
                <a:latin typeface="Georgia"/>
              </a:rPr>
              <a:t>Tutorial Ques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Discuss the value of setting a mission stat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Consider the four mission statements in the handout and discuss how they dif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Georgia"/>
              </a:rPr>
              <a:t>Tutorial ques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iscuss the differences between a functional organisational structure, a network structure and a matrix structure. Suggest different types of events which might use each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hoose a well-known event and conduct a SWOT analysis considering strengths, weaknesses, opportunities and threats that you consider are appropriate to that ev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1B60-68FB-4948-B7C0-6A72FB23AAD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ubtitle 1"/>
          <p:cNvSpPr/>
          <p:nvPr/>
        </p:nvSpPr>
        <p:spPr>
          <a:xfrm>
            <a:off x="609480" y="2362320"/>
            <a:ext cx="7162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Events as Strategy f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Commercial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Community Intere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State / National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vents as a Mean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Envisioning the Fu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Shaping the Fu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4379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Performers &amp;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Develop Performance Ski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Build Socia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Pl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This is Who We Are 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‘</a:t>
            </a:r>
            <a:r>
              <a:rPr b="0" lang="en-AU" sz="3200" spc="-1" strike="noStrike">
                <a:solidFill>
                  <a:srgbClr val="005798"/>
                </a:solidFill>
                <a:latin typeface="Arial"/>
              </a:rPr>
              <a:t>This is What We Want to be Known Fo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vents as Vehicles for Express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BFF1-C0E2-4F8F-A4A4-FBDA947B2A5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This Week’s Festival </a:t>
            </a:r>
            <a:br>
              <a:rPr sz="4400"/>
            </a:b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Moama Echuca Celtic Festiv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9378-2C66-427D-92A9-30BD5D4D536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eltic-festival-header.jpg"/>
          <p:cNvPicPr/>
          <p:nvPr/>
        </p:nvPicPr>
        <p:blipFill>
          <a:blip r:embed="rId1"/>
          <a:stretch/>
        </p:blipFill>
        <p:spPr>
          <a:xfrm>
            <a:off x="0" y="2994120"/>
            <a:ext cx="9144000" cy="86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eltic-festival-bar2.jpg"/>
          <p:cNvPicPr/>
          <p:nvPr/>
        </p:nvPicPr>
        <p:blipFill>
          <a:blip r:embed="rId2"/>
          <a:stretch/>
        </p:blipFill>
        <p:spPr>
          <a:xfrm>
            <a:off x="0" y="3809880"/>
            <a:ext cx="91440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819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5798"/>
                </a:solidFill>
                <a:latin typeface="Arial"/>
              </a:rPr>
              <a:t>Setting is a great 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5798"/>
                </a:solidFill>
                <a:latin typeface="Arial"/>
              </a:rPr>
              <a:t>Historical Riverboat T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5798"/>
                </a:solidFill>
                <a:latin typeface="Arial"/>
              </a:rPr>
              <a:t>Tourist Facilities in close proxim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5798"/>
                </a:solidFill>
                <a:latin typeface="Arial"/>
              </a:rPr>
              <a:t>Not too far from Melbour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5798"/>
                </a:solidFill>
                <a:latin typeface="Arial"/>
              </a:rPr>
              <a:t>Plenty of Accomo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5798"/>
                </a:solidFill>
                <a:latin typeface="Arial"/>
              </a:rPr>
              <a:t>Good Weath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57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The Place – Echuca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CA18-ED4D-43EC-9CEF-7642E6C1644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ttp://www.celticfestival.com.au/about-celtic-festival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chuca Rotary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ie into Echuca Steam Festi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cked the Skills to draw the resources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iverboat owners cam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ggressive marketing of the region as a tourist 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ave the management skills to make i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unted down players / perfo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de it happen in 2009 (2011 is year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798"/>
                </a:solidFill>
                <a:latin typeface="Arial"/>
              </a:rPr>
              <a:t>History of the Ev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A8A2-9482-497C-9839-177FA512958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05:01:10Z</dcterms:created>
  <dc:creator>John Wiley &amp; Sons Australia</dc:creator>
  <dc:description/>
  <dc:language>en-US</dc:language>
  <cp:lastModifiedBy>Admin</cp:lastModifiedBy>
  <cp:lastPrinted>2005-01-05T01:21:43Z</cp:lastPrinted>
  <dcterms:modified xsi:type="dcterms:W3CDTF">2011-03-07T02:44:50Z</dcterms:modified>
  <cp:revision>49</cp:revision>
  <dc:subject/>
  <dc:title>Festival &amp; Special Event Management 2e</dc:title>
</cp:coreProperties>
</file>