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BF61-7BC2-44D7-9A43-E77C544DB78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9541-252D-4112-9D9E-7F038F20AD5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B091-7661-4B8A-BD3A-7CA1547F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B18-FD64-4DB7-8F91-0D95841E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6EE7-3CC5-42F4-B807-0614852C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0623-E576-465D-9863-EC9F85EB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A37D-D6E4-4CB7-9282-7D07674C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1BFF-0E4F-4E44-BD23-CBBBB556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E391-E3A8-423F-8CA8-EA95B6B4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8454-FCB6-4010-B09E-6DAFACBF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A643-2197-468D-8436-8AF0D74B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1D5E-9729-4333-90F6-0E26E1C5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81DA-52A2-42DF-9C9C-A264EF78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1B1D-0ED5-4E5F-B936-8E528333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0C36-CF65-40EC-B147-56D6BD7A7F10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strategic planning process and event organis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8000" y="1699920"/>
            <a:ext cx="723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Formation of a bidding body and bid prepar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Developing a timeline for the bid docu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Responding to each of the bid criter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Identifying key elements of past successful bi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Preparing the bid docu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Presenting the bi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Lobbying in support of the bi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Evaluating reasons for a bid fail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strategic planning process and event organis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8000" y="1773360"/>
            <a:ext cx="705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Establishment of an organisational stru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Functional structu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Program-based matrix structu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Multi-organisational or network structu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strategic planning process and event organis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5185080" cy="3284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strategic planning process and event organis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 rot="5400000">
            <a:off x="3098520" y="502920"/>
            <a:ext cx="4313520" cy="640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strategic planning process and event organis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2124000" y="1987560"/>
            <a:ext cx="6359760" cy="3537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strategic planning process and event organis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835280" y="2244600"/>
            <a:ext cx="6798960" cy="2995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strategic planning process and event organis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8000" y="1773360"/>
            <a:ext cx="705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Strategic pla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Purpose, vision and mission state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533600" y="3552840"/>
            <a:ext cx="7497720" cy="1784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strategic planning process and event organis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08000" y="1773360"/>
            <a:ext cx="705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Strategic pla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Goals and objectiv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Attendance/particip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Awareness/knowledge/attitud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st</a:t>
            </a:r>
            <a:r>
              <a:rPr b="1" lang="en-AU" sz="3600" spc="-1" strike="noStrike">
                <a:solidFill>
                  <a:srgbClr val="005798"/>
                </a:solidFill>
                <a:latin typeface="Arial"/>
              </a:rPr>
              <a:t>rateg</a:t>
            </a: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ic planning process and event organis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527120" y="3030480"/>
            <a:ext cx="7535880" cy="1328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5798"/>
                </a:solidFill>
                <a:latin typeface="Arial"/>
              </a:rPr>
              <a:t>See Criteria for </a:t>
            </a:r>
            <a:br>
              <a:rPr sz="4400"/>
            </a:br>
            <a:r>
              <a:rPr b="0" lang="en-AU" sz="4400" spc="-1" strike="noStrike">
                <a:solidFill>
                  <a:srgbClr val="005798"/>
                </a:solidFill>
                <a:latin typeface="Arial"/>
              </a:rPr>
              <a:t>ACT/NSW bids and Fund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lear Description of the Ev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ype of Festival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flects Canberra’s Community / Ident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dentifies Community Participation /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monstrates Innovation and Quality in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emonstrates Clear, Achievabl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5798"/>
                </a:solidFill>
                <a:latin typeface="Arial"/>
              </a:rPr>
              <a:t>Elvis, Parkes </a:t>
            </a:r>
            <a:br>
              <a:rPr sz="4400"/>
            </a:br>
            <a:r>
              <a:rPr b="0" lang="en-AU" sz="4400" spc="-1" strike="noStrike">
                <a:solidFill>
                  <a:srgbClr val="005798"/>
                </a:solidFill>
                <a:latin typeface="Arial"/>
              </a:rPr>
              <a:t>&amp; Festivals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 Whole Lotta L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Elvis.jpg"/>
          <p:cNvPicPr/>
          <p:nvPr/>
        </p:nvPicPr>
        <p:blipFill>
          <a:blip r:embed="rId1"/>
          <a:stretch/>
        </p:blipFill>
        <p:spPr>
          <a:xfrm>
            <a:off x="3600360" y="2286000"/>
            <a:ext cx="19432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5798"/>
                </a:solidFill>
                <a:latin typeface="Arial"/>
              </a:rPr>
              <a:t>See Criteria for </a:t>
            </a:r>
            <a:br>
              <a:rPr sz="4400"/>
            </a:br>
            <a:r>
              <a:rPr b="0" lang="en-AU" sz="4400" spc="-1" strike="noStrike">
                <a:solidFill>
                  <a:srgbClr val="005798"/>
                </a:solidFill>
                <a:latin typeface="Arial"/>
              </a:rPr>
              <a:t>ACT/NSW bids and Fund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bility of the People to Deliver Stated Outc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Key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Key Ski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ast Exper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Viability of the Orga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emonstrated Need for the 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allback Options if Funding is not Granted  see p 94/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strategic planning process and event organis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8000" y="1773360"/>
            <a:ext cx="705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Strategic pla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Situation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Identification of strategy op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Strategy evaluation and sele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Operational plann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strategic planning process and event organis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8000" y="1773360"/>
            <a:ext cx="705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Legac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Legacy outcomes can include infrastructure improvements, increases in tourism, enhanced workforce skills et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Strategic planning for </a:t>
            </a:r>
            <a:br>
              <a:rPr sz="3600"/>
            </a:b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existing ev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8000" y="1773360"/>
            <a:ext cx="691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For recurring events (e.g. annual concerts), organiser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conduct an appraisal of current situation faced by the ev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review the organisational structure and previous strategic plan and make minor or major changes where need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Exampl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08000" y="1773360"/>
            <a:ext cx="691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Sydney Theatre Company Foundation Fundraising Part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Read the Cas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What type of Organisational Design would you develop for this event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Sketch a Budget that you would be able to work with on the Part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1100 tickets @ ??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Key Cost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Sponsorship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With Profit of $200 000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5798"/>
                </a:solidFill>
                <a:latin typeface="Arial"/>
              </a:rPr>
              <a:t>Elvis, Parkes </a:t>
            </a:r>
            <a:br>
              <a:rPr sz="4400"/>
            </a:br>
            <a:r>
              <a:rPr b="0" lang="en-AU" sz="4400" spc="-1" strike="noStrike">
                <a:solidFill>
                  <a:srgbClr val="005798"/>
                </a:solidFill>
                <a:latin typeface="Arial"/>
              </a:rPr>
              <a:t>&amp; Festivals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is the Vi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Model for a Successful Event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lanning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would be the goals for the ev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Value Cre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or the Town? For the Commu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5798"/>
                </a:solidFill>
                <a:latin typeface="Arial"/>
              </a:rPr>
              <a:t>Who is the Community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ow are they identified as a gr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eograp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e p318 for Case Stu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ow transferrable would this be for another t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 Austral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 another country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en-AU" sz="3800" spc="-1" strike="noStrike">
                <a:solidFill>
                  <a:srgbClr val="336699"/>
                </a:solidFill>
                <a:latin typeface="Arial"/>
              </a:rPr>
              <a:t>Festival and Special Event      Management 4e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Strategic Planning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63280" y="1916280"/>
            <a:ext cx="73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Discuss the nature of the strategic planning proc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Identify an appropriate organisational structure through which to conduct a </a:t>
            </a:r>
            <a:br>
              <a:rPr sz="2700"/>
            </a:b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given ev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Describe the various stages in the event strategic planning proc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What is strategic planning?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8000" y="1773360"/>
            <a:ext cx="705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A process that involves determining where an organisation is at present, deciding where it should be positioned to progress its mission, and the strategies and tactics needed to achieve that posi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6699"/>
                </a:solidFill>
                <a:latin typeface="Arial"/>
              </a:rPr>
              <a:t>The strategic planning process and event organis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092400" y="1341360"/>
            <a:ext cx="4281480" cy="4546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6699"/>
                </a:solidFill>
                <a:latin typeface="Arial"/>
              </a:rPr>
              <a:t>The strategic planning process and event organis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8000" y="1773360"/>
            <a:ext cx="705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Concept or intent to bi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Preliminary st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Feasibility stud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Formal analysis of the event’s potenti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Crucial for public funding (grant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Decision to proceed or cea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Directly determined by feasibility stud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8T05:01:10Z</dcterms:created>
  <dc:creator>John Wiley &amp; Sons Australia</dc:creator>
  <dc:description/>
  <dc:language>en-US</dc:language>
  <cp:lastModifiedBy>Admin</cp:lastModifiedBy>
  <cp:lastPrinted>2005-01-05T01:21:43Z</cp:lastPrinted>
  <dcterms:modified xsi:type="dcterms:W3CDTF">2011-03-15T03:51:26Z</dcterms:modified>
  <cp:revision>32</cp:revision>
  <dc:subject/>
  <dc:title>Festival &amp; Special Event Management 2e</dc:title>
</cp:coreProperties>
</file>