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jpeg" ContentType="image/jpeg"/>
  <Override PartName="/ppt/media/image6.wmf" ContentType="image/x-wmf"/>
  <Override PartName="/ppt/media/image7.wmf" ContentType="image/x-wmf"/>
  <Override PartName="/ppt/media/image8.png" ContentType="image/png"/>
  <Override PartName="/ppt/media/image9.wmf" ContentType="image/x-wmf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6328A-A87A-4AAA-AE87-7D99D08F99EA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7DE52-D11E-4151-922D-7DCBFF209FFB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5C9F-85C1-476C-9396-0867745CD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6644-8CBD-488C-BBBE-484816E28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5DDA-8B6D-486D-8F6E-7C86B0B71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91CE-5DD8-4D5F-B4DC-85585B5C0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DA47-2D7D-48A0-A0CD-3929A61FB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09CF-2213-43F5-A934-3176F3568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C0AA-E315-4BB3-98BE-D46C31920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9B8C-3AD7-4AE6-A150-017161A35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E832-9F97-4A2E-B51A-C5547C4DD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BE89-FC5A-4AC1-A05A-ABBF9E3E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B2B0-C319-4E71-A403-FA7AF54C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0F8D-E0D0-490A-9008-8A19A320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3F8B0-2D48-49DC-BDFC-3808BDDC1889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6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336699"/>
                </a:solidFill>
                <a:latin typeface="Arial"/>
              </a:rPr>
              <a:t>The strategic planning process and event organisatio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908000" y="1699920"/>
            <a:ext cx="7236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700" spc="-1" strike="noStrike">
                <a:solidFill>
                  <a:srgbClr val="000000"/>
                </a:solidFill>
                <a:latin typeface="Arial"/>
              </a:rPr>
              <a:t>Formation of a bidding body and bid prepar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Developing a timeline for the bid docu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Responding to each of the bid criteri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Identifying key elements of past successful bid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Preparing the bid docu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Presenting the bid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Lobbying in support of the bi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Evaluating reasons for a bid failur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336699"/>
                </a:solidFill>
                <a:latin typeface="Arial"/>
              </a:rPr>
              <a:t>The strategic planning process and event organisatio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08000" y="1773360"/>
            <a:ext cx="705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700" spc="-1" strike="noStrike">
                <a:solidFill>
                  <a:srgbClr val="000000"/>
                </a:solidFill>
                <a:latin typeface="Arial"/>
              </a:rPr>
              <a:t>Establishment of an organisational structur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Functional structur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Program-based matrix structur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Multi-organisational or network structur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6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336699"/>
                </a:solidFill>
                <a:latin typeface="Arial"/>
              </a:rPr>
              <a:t>The strategic planning process and event organisatio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2771640" y="2060640"/>
            <a:ext cx="5185080" cy="3284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6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336699"/>
                </a:solidFill>
                <a:latin typeface="Arial"/>
              </a:rPr>
              <a:t>The strategic planning process and event organisatio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 rot="5400000">
            <a:off x="3098520" y="502920"/>
            <a:ext cx="4313520" cy="64087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336699"/>
                </a:solidFill>
                <a:latin typeface="Arial"/>
              </a:rPr>
              <a:t>The strategic planning process and event organisatio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2124000" y="1987560"/>
            <a:ext cx="6359760" cy="3537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336699"/>
                </a:solidFill>
                <a:latin typeface="Arial"/>
              </a:rPr>
              <a:t>The strategic planning process and event organisatio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1835280" y="2244600"/>
            <a:ext cx="6798960" cy="29955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6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336699"/>
                </a:solidFill>
                <a:latin typeface="Arial"/>
              </a:rPr>
              <a:t>The strategic planning process and event organisatio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908000" y="1773360"/>
            <a:ext cx="705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700" spc="-1" strike="noStrike">
                <a:solidFill>
                  <a:srgbClr val="000000"/>
                </a:solidFill>
                <a:latin typeface="Arial"/>
              </a:rPr>
              <a:t>Strategic pla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Purpose, vision and mission statemen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1533600" y="3552840"/>
            <a:ext cx="7497720" cy="17841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336699"/>
                </a:solidFill>
                <a:latin typeface="Arial"/>
              </a:rPr>
              <a:t>The strategic planning process and event organisatio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908000" y="1773360"/>
            <a:ext cx="705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700" spc="-1" strike="noStrike">
                <a:solidFill>
                  <a:srgbClr val="000000"/>
                </a:solidFill>
                <a:latin typeface="Arial"/>
              </a:rPr>
              <a:t>Strategic pla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Goals and objectiv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Economic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Attendance/particip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Awareness/knowledge/attitud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Human resourc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6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336699"/>
                </a:solidFill>
                <a:latin typeface="Arial"/>
              </a:rPr>
              <a:t>The st</a:t>
            </a:r>
            <a:r>
              <a:rPr b="1" lang="en-AU" sz="3600" spc="-1" strike="noStrike">
                <a:solidFill>
                  <a:srgbClr val="005798"/>
                </a:solidFill>
                <a:latin typeface="Arial"/>
              </a:rPr>
              <a:t>rateg</a:t>
            </a:r>
            <a:r>
              <a:rPr b="1" lang="en-AU" sz="3600" spc="-1" strike="noStrike">
                <a:solidFill>
                  <a:srgbClr val="336699"/>
                </a:solidFill>
                <a:latin typeface="Arial"/>
              </a:rPr>
              <a:t>ic planning process and event organisatio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1527120" y="3030480"/>
            <a:ext cx="7535880" cy="13287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5798"/>
                </a:solidFill>
                <a:latin typeface="Arial"/>
              </a:rPr>
              <a:t>See Criteria for </a:t>
            </a:r>
            <a:br>
              <a:rPr sz="4400"/>
            </a:br>
            <a:r>
              <a:rPr b="0" lang="en-AU" sz="4400" spc="-1" strike="noStrike">
                <a:solidFill>
                  <a:srgbClr val="005798"/>
                </a:solidFill>
                <a:latin typeface="Arial"/>
              </a:rPr>
              <a:t>ACT/NSW bids and Fundin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lear Description of the Ev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ype of Festival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Reflects Canberra’s Community / Identif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dentifies Community Participation / Eng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Demonstrates Innovation and Quality in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Demonstrates Clear, Achievabl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5798"/>
                </a:solidFill>
                <a:latin typeface="Arial"/>
              </a:rPr>
              <a:t>Elvis, Parkes </a:t>
            </a:r>
            <a:br>
              <a:rPr sz="4400"/>
            </a:br>
            <a:r>
              <a:rPr b="0" lang="en-AU" sz="4400" spc="-1" strike="noStrike">
                <a:solidFill>
                  <a:srgbClr val="005798"/>
                </a:solidFill>
                <a:latin typeface="Arial"/>
              </a:rPr>
              <a:t>&amp; Festivals?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A Whole Lotta Lo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Elvis.jpg"/>
          <p:cNvPicPr/>
          <p:nvPr/>
        </p:nvPicPr>
        <p:blipFill>
          <a:blip r:embed="rId1"/>
          <a:stretch/>
        </p:blipFill>
        <p:spPr>
          <a:xfrm>
            <a:off x="3600360" y="2286000"/>
            <a:ext cx="194328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5798"/>
                </a:solidFill>
                <a:latin typeface="Arial"/>
              </a:rPr>
              <a:t>See Criteria for </a:t>
            </a:r>
            <a:br>
              <a:rPr sz="4400"/>
            </a:br>
            <a:r>
              <a:rPr b="0" lang="en-AU" sz="4400" spc="-1" strike="noStrike">
                <a:solidFill>
                  <a:srgbClr val="005798"/>
                </a:solidFill>
                <a:latin typeface="Arial"/>
              </a:rPr>
              <a:t>ACT/NSW bids and Fundin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Ability of the People to Deliver Stated Outcom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Key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Key Skil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Past Experie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Viability of the Organ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Demonstrated Need for the Fu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Fallback Options if Funding is not Granted  see p 94/9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336699"/>
                </a:solidFill>
                <a:latin typeface="Arial"/>
              </a:rPr>
              <a:t>The strategic planning process and event organisatio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908000" y="1773360"/>
            <a:ext cx="705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700" spc="-1" strike="noStrike">
                <a:solidFill>
                  <a:srgbClr val="000000"/>
                </a:solidFill>
                <a:latin typeface="Arial"/>
              </a:rPr>
              <a:t>Strategic pla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Situation analys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Identification of strategy opt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Strategy evaluation and selec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Operational plann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6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336699"/>
                </a:solidFill>
                <a:latin typeface="Arial"/>
              </a:rPr>
              <a:t>The strategic planning process and event organisatio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908000" y="1773360"/>
            <a:ext cx="705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700" spc="-1" strike="noStrike">
                <a:solidFill>
                  <a:srgbClr val="000000"/>
                </a:solidFill>
                <a:latin typeface="Arial"/>
              </a:rPr>
              <a:t>Legac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Legacy outcomes can include infrastructure improvements, increases in tourism, enhanced workforce skills etc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336699"/>
                </a:solidFill>
                <a:latin typeface="Arial"/>
              </a:rPr>
              <a:t>Strategic planning for </a:t>
            </a:r>
            <a:br>
              <a:rPr sz="3600"/>
            </a:br>
            <a:r>
              <a:rPr b="1" lang="en-AU" sz="3600" spc="-1" strike="noStrike">
                <a:solidFill>
                  <a:srgbClr val="336699"/>
                </a:solidFill>
                <a:latin typeface="Arial"/>
              </a:rPr>
              <a:t>existing event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908000" y="1773360"/>
            <a:ext cx="691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For recurring events (e.g. annual concerts), organisers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conduct an appraisal of current situation faced by the ev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review the organisational structure and previous strategic plan and make minor or major changes where need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336699"/>
                </a:solidFill>
                <a:latin typeface="Arial"/>
              </a:rPr>
              <a:t>Example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908000" y="1773360"/>
            <a:ext cx="691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Sydney Theatre Company Foundation Fundraising Party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Arial"/>
              </a:rPr>
              <a:t>Read the Cas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Arial"/>
              </a:rPr>
              <a:t>What type of Organisational Design would you develop for this event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Arial"/>
              </a:rPr>
              <a:t>Sketch a Budget that you would be able to work with on the Party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Arial"/>
              </a:rPr>
              <a:t>1100 tickets @ ??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Arial"/>
              </a:rPr>
              <a:t>Key Cost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Arial"/>
              </a:rPr>
              <a:t>Sponsorship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Arial"/>
              </a:rPr>
              <a:t>With Profit of $200 000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5798"/>
                </a:solidFill>
                <a:latin typeface="Arial"/>
              </a:rPr>
              <a:t>Elvis, Parkes </a:t>
            </a:r>
            <a:br>
              <a:rPr sz="4400"/>
            </a:br>
            <a:r>
              <a:rPr b="0" lang="en-AU" sz="4400" spc="-1" strike="noStrike">
                <a:solidFill>
                  <a:srgbClr val="005798"/>
                </a:solidFill>
                <a:latin typeface="Arial"/>
              </a:rPr>
              <a:t>&amp; Festivals?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What Happen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What is the Vis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Activi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Model for a Successful Event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Planning Proc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What would be the goals for the ev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Value Cre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For the Town? For the Commun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5798"/>
                </a:solidFill>
                <a:latin typeface="Arial"/>
              </a:rPr>
              <a:t>Who is the Community?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How are they identified as a grou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Geograph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nter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e p318 for Case Stud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How transferrable would this be for another tow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n Australi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n another country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800" spc="-1" strike="noStrike">
                <a:solidFill>
                  <a:srgbClr val="669900"/>
                </a:solidFill>
                <a:latin typeface="Arial"/>
              </a:rPr>
              <a:t> </a:t>
            </a:r>
            <a:r>
              <a:rPr b="1" lang="en-AU" sz="3800" spc="-1" strike="noStrike">
                <a:solidFill>
                  <a:srgbClr val="336699"/>
                </a:solidFill>
                <a:latin typeface="Arial"/>
              </a:rPr>
              <a:t>Festival and Special Event      Management 4e</a:t>
            </a:r>
            <a:endParaRPr b="0" lang="en-US" sz="3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he Strategic Planning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60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336699"/>
                </a:solidFill>
                <a:latin typeface="Arial"/>
              </a:rPr>
              <a:t>Learning Objective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63280" y="1916280"/>
            <a:ext cx="738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Discuss the nature of the strategic planning proces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Identify an appropriate organisational structure through which to conduct a </a:t>
            </a:r>
            <a:br>
              <a:rPr sz="2700"/>
            </a:b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given ev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Describe the various stages in the event strategic planning proces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6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336699"/>
                </a:solidFill>
                <a:latin typeface="Arial"/>
              </a:rPr>
              <a:t>What is strategic planning?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08000" y="1773360"/>
            <a:ext cx="705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A process that involves determining where an organisation is at present, deciding where it should be positioned to progress its mission, and the strategies and tactics needed to achieve that posi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6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36699"/>
                </a:solidFill>
                <a:latin typeface="Arial"/>
              </a:rPr>
              <a:t>The strategic planning process and event organisa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3092400" y="1341360"/>
            <a:ext cx="4281480" cy="45468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6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336699"/>
                </a:solidFill>
                <a:latin typeface="Arial"/>
              </a:rPr>
              <a:t>The strategic planning process and event organisatio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08000" y="1773360"/>
            <a:ext cx="705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700" spc="-1" strike="noStrike">
                <a:solidFill>
                  <a:srgbClr val="000000"/>
                </a:solidFill>
                <a:latin typeface="Arial"/>
              </a:rPr>
              <a:t>Concept or intent to bi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Preliminary stag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700" spc="-1" strike="noStrike">
                <a:solidFill>
                  <a:srgbClr val="000000"/>
                </a:solidFill>
                <a:latin typeface="Arial"/>
              </a:rPr>
              <a:t>Feasibility stud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Formal analysis of the event’s potentia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Crucial for public funding (grants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700" spc="-1" strike="noStrike">
                <a:solidFill>
                  <a:srgbClr val="000000"/>
                </a:solidFill>
                <a:latin typeface="Arial"/>
              </a:rPr>
              <a:t>Decision to proceed or ceas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Directly determined by feasibility stud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8T05:01:10Z</dcterms:created>
  <dc:creator>John Wiley &amp; Sons Australia</dc:creator>
  <dc:description/>
  <dc:language>en-US</dc:language>
  <cp:lastModifiedBy>Admin</cp:lastModifiedBy>
  <cp:lastPrinted>2005-01-05T01:21:43Z</cp:lastPrinted>
  <dcterms:modified xsi:type="dcterms:W3CDTF">2011-03-15T03:51:26Z</dcterms:modified>
  <cp:revision>32</cp:revision>
  <dc:subject/>
  <dc:title>Festival &amp; Special Event Management 2e</dc:title>
</cp:coreProperties>
</file>