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211F-2C99-4D63-84F7-C398DF166D8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4E30-0D74-4B60-86F7-F0423A7D736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E2D9-1D9B-4CFC-9B53-FD1A564BE1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7E8C-D6CA-4A42-830A-FFCB39F1A07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7C01-3950-4BAA-9C0D-47F97E59F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998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B65C-07A8-45D5-BD3A-04DBD09E4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998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704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DBE0-433D-4E39-BD8C-B7E414CBD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2156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3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998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2156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3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E362-A9BB-417F-97A1-7ED9EE2F6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713C-5037-4CAE-A6BC-A3538A60D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BA02-B569-4211-9922-24E6F255B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842C-9408-4BC6-A7BB-77A6F155E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8BF7-3DFF-492B-869F-8D309355B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0005-5DAE-49D2-8CF8-21D8D549D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998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FF89-FA96-4CDF-B870-0637DF622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704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4A1F-661A-4439-BAEE-25BF0A032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98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A54C-DEAC-4321-96B7-D02FCFC77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520" y="624852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96080" y="62514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8FD-4C6C-46F7-B40D-E54BE1C3B6B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urther risk management method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ciple of safe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son with cont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 lifecyc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atic risk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fe design knowledge and capa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rans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zard analysis and critical control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15520" y="221904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risk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41702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pecific event ri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owd man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cohol and dru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aluation the successes and failures of the risk control strategy is essential for future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669900"/>
                </a:solidFill>
                <a:latin typeface="Arial"/>
              </a:rPr>
              <a:t>Risk Management Processes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nton Ellis Risk Management Booklet in Lecture N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HS and event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s between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vent team must consult with the event stakeholders on event health and safe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mandatory for the event team to understand their state’s legis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Summary 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Legal Aspects involved in presenting Live Performa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little of the Excitement associated with putting on the Ev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Address these Matters can be a dis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nd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bout and Address the Legal Side of th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Festival and Special Event Management 4e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risk and its relationship to the management of festivals and specia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context of ris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tools of risk identification and identify the risks specific to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latest methodologies of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core concepts of occupational health and safe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part of event management has potential ri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and public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and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wd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4325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derstanding con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ype of ev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ral risk enviro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alysis and evaluation of the ris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imensions of ris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ikelihood of them occ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or L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sequences if they do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or L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risk evaluation, the event management team needs to create mechanisms to control potential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ecisions inclu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ing the likelihood that a problem will occ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ing the consequence if the problem does occ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pting the ris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ferring the risk to another pa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tigating a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attended pack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o will respon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dogs available who are trained to identify explosiv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ll the area be evacuat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commun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derstanding the terminology of ris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n communication chann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l methods of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18:26Z</dcterms:created>
  <dc:creator>ngaudens</dc:creator>
  <dc:description/>
  <dc:language>en-US</dc:language>
  <cp:lastModifiedBy>Admin</cp:lastModifiedBy>
  <dcterms:modified xsi:type="dcterms:W3CDTF">2011-04-11T03:24:01Z</dcterms:modified>
  <cp:revision>23</cp:revision>
  <dc:subject/>
  <dc:title>PowerPoint Presentation</dc:title>
</cp:coreProperties>
</file>