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4DB5-09D8-470E-8ECE-36DF1012522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1C3-1C0C-444A-8791-D8ED88B5DED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7DC-28F1-489A-95E8-E5E0A9BBAD4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1AE1-51B6-4999-948B-05BFA79A06C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D592-A501-4ACA-93CE-0449E1CB9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9984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EBEF-5296-42BF-BF65-C43DF2C80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998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7040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8ED7-6D1D-4115-A8A5-6EC663DFF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2156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3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998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2156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3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224F-6B66-4FBB-B10A-6BC6CA9EB4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71F1-9CB6-48F8-AE44-D46D82927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AB91E-A306-457F-8FEB-5386001C2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7E3B-9FBF-4A9B-BDA5-A0FCE93A8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691D-BBAE-4E6D-BCA3-B0FCD4172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EC3E-8852-412E-B419-098C01E11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998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7755-76B8-4C94-A954-51313C3C7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7040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C041-27E6-4E6F-8A0F-65EAF5CBE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04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984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E6E4-1AB8-40EF-9E09-82CD9C4FC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76520" y="624852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96080" y="625140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1A22-D639-4762-BC77-0CEC3359ED8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urther risk management methodolo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nciple of safe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son with cont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duct lifecyc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stematic risk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fe design knowledge and capab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rans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zard analysis and critical control poi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15520" y="221904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risk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41702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pecific event ri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owd man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cohol and dru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aluation the successes and failures of the risk control strategy is essential for future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669900"/>
                </a:solidFill>
                <a:latin typeface="Arial"/>
              </a:rPr>
              <a:t>Risk Management Processes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nton Ellis Risk Management Booklet in Lecture N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HS and event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s between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event team must consult with the event stakeholders on event health and safe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mandatory for the event team to understand their state’s legis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Summary 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998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Legal Aspects involved in presenting Live Performa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little of the Excitement associated with putting on the Ev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Address these Matters can be a dis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nd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bout and Address the Legal Side of the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Festival and Special Event Management 4e</a:t>
            </a:r>
            <a:endParaRPr b="1" lang="en-US" sz="3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risk and its relationship to the management of festivals and special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stand the context of ris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the tools of risk identification and identify the risks specific to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stand the latest methodologies of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stand the core concepts of occupational health and safe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part of event management has potential risk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and public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and saf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wd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4325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derstanding con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ype of ev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ment stru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ral risk enviro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nalysis and evaluation of the ris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dimensions of ris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ikelihood of them occu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or Lo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sequences if they do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or Lo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ter risk evaluation, the event management team needs to create mechanisms to control potential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decisions inclu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ing the likelihood that a problem will occ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ing the consequence if the problem does occ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epting the ris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nsferring the risk to another pa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Risk management process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tigating a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attended pack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o will respon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dogs available who are trained to identify explosiv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ll the area be evacuat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isk commun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derstanding the terminology of ris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en communication channe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l methods of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02:18:26Z</dcterms:created>
  <dc:creator>ngaudens</dc:creator>
  <dc:description/>
  <dc:language>en-US</dc:language>
  <cp:lastModifiedBy>Admin</cp:lastModifiedBy>
  <dcterms:modified xsi:type="dcterms:W3CDTF">2011-04-11T03:24:01Z</dcterms:modified>
  <cp:revision>23</cp:revision>
  <dc:subject/>
  <dc:title>PowerPoint Presentation</dc:title>
</cp:coreProperties>
</file>