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49BD-41D9-4415-9971-34BC0D43480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300" spc="-1" strike="noStrike">
                <a:solidFill>
                  <a:srgbClr val="333399"/>
                </a:solidFill>
                <a:latin typeface="Calibri"/>
              </a:rPr>
              <a:t>Joint commission:</a:t>
            </a:r>
            <a:r>
              <a:rPr b="0" lang="ar-SA" sz="1300" spc="-1" strike="noStrike">
                <a:solidFill>
                  <a:srgbClr val="333399"/>
                </a:solidFill>
                <a:latin typeface="Calibri"/>
              </a:rPr>
              <a:t>اللجنة المشتركة</a:t>
            </a:r>
            <a:r>
              <a:rPr b="0" lang="ar-SA" sz="1300" spc="-1" strike="noStrike">
                <a:solidFill>
                  <a:srgbClr val="333399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FCAD-7C13-43E2-A0FE-B76380A20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8EEC-A3FA-414B-AD93-631DE557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1F00-8465-4FDA-88EC-6A12E6054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A2B2-0CCF-4333-A047-60610F596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CDF7-65DA-45E5-B06A-BF5AD2BFE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9CB6-9FAB-4C11-ACE2-B55187EA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5D363-7C22-4310-B1AA-ECE7311F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4E17F-038F-4969-8621-C7BCB99B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BE08-F31A-40EE-8B4B-B4474595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EEA3-AC2F-4BC2-9A2F-8E6F2EA2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FEB68-B314-4C7F-AC78-8934F234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4467-B008-4EA2-88EA-FA9EA63C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C4D1-D078-4BFA-B1A9-6A315488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BB686-6651-4967-BD84-5694A6A9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D603-1E7A-4AAE-9AD9-AEEFB41E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6AED-5AB6-46BF-BA17-20DDD5258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4BDAD-6260-4F07-A8EA-C32309A07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A1311-F0B4-4D17-A7C8-6A15519EF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24A3B-040B-4F0E-9243-BBCF8E24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4B5D9-7593-41EB-B81A-78B6F20D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11680-8855-4EFC-82AB-355F53EE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2E31A-5EEE-4D92-AD0D-233DE703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3348-011D-49A1-B373-B317AE56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495AD-E8EA-4A68-B4E7-074370A4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7F4A0-568C-4FF3-B7CB-A595F129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D9F25-56BF-494F-8BA3-82E01CB0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B5C82-D36C-43D9-B4F6-904FF494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8E2E9-CF76-4708-8E85-E05D43B1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F4FC7-6CAB-4868-B259-3E3A599CD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195CF-7014-48DF-B945-DA69F2AFF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17FB6-F834-42DB-AF6C-931ADD70C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F870A-252C-4723-807C-4B0EA3D3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F199D-4D6C-48AE-BD64-F69C3645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6BD5-30C2-42E6-ACFF-1BF99C1C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5C9C6-A9E4-4E63-8C29-06B2BB33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86A9F-77E2-4769-B3D9-EC03B729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42475-F8F8-48A1-A802-25AE18F3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13FBB-520B-4760-83BC-7B8DB95C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45782-3205-40E9-9219-3C23608B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9D86C-7B37-46B4-B8EC-0BE81B45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8B837-A537-4CB8-853F-19FAC68D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AEE86-475E-4B21-B49F-9F5B0773C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C02DA-4D1C-41C4-ABEA-E96386A5F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9FD2-379C-455D-94F7-F2D1D05A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8516-CBE7-4D39-805D-545EBCD7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F35D-8A78-4A8D-8E43-673239E1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0E98-17A5-48E7-9EAA-44884434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3FA7-BD6F-4BC7-8F08-6C165B2F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2F6F-144E-4FA6-84D7-BDA1AD5559AE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CA46-5169-47E4-86EA-25D0C1133B23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6476-DEF8-425D-A973-904C050A16D5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F3B4-F7F8-4F27-8D09-98528259B8DF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2"/>
          <a:stretch/>
        </p:blipFill>
        <p:spPr>
          <a:xfrm>
            <a:off x="530280" y="701640"/>
            <a:ext cx="8400960" cy="25592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Let 4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onstantia"/>
              </a:rPr>
              <a:t>Sem 1 , 1434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9280" y="704880"/>
            <a:ext cx="896472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4617b"/>
                </a:solidFill>
                <a:latin typeface="Calibri"/>
              </a:rPr>
              <a:t>Educational Materials/writing the message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4000" y="1773000"/>
            <a:ext cx="8820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nstantia"/>
              </a:rPr>
              <a:t>Define audienc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nstantia"/>
              </a:rPr>
              <a:t>Plan information/objectiv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nstantia"/>
              </a:rPr>
              <a:t>Format (font, colour, shape, layout</a:t>
            </a:r>
            <a:r>
              <a:rPr b="0" lang="ar-SA" sz="3200" spc="-1" strike="noStrike">
                <a:solidFill>
                  <a:srgbClr val="000000"/>
                </a:solidFill>
                <a:latin typeface="Constantia"/>
                <a:cs typeface="Arial"/>
              </a:rPr>
              <a:t>تخطيط</a:t>
            </a:r>
            <a:r>
              <a:rPr b="0" lang="ar-SA" sz="32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  <a:ea typeface="Arial"/>
              </a:rPr>
              <a:t>Problems with message desig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nstantia"/>
              </a:rPr>
              <a:t>Mismatch </a:t>
            </a:r>
            <a:r>
              <a:rPr b="0" lang="ar-SA" sz="32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nstantia"/>
                <a:cs typeface="Arial"/>
              </a:rPr>
              <a:t>لخبطة</a:t>
            </a:r>
            <a:r>
              <a:rPr b="0" lang="en-AU" sz="3200" spc="-1" strike="noStrike">
                <a:solidFill>
                  <a:srgbClr val="000000"/>
                </a:solidFill>
                <a:latin typeface="Constantia"/>
              </a:rPr>
              <a:t>between instructions and patient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nstantia"/>
              </a:rPr>
              <a:t>Too much information included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nstantia"/>
              </a:rPr>
              <a:t>Difficult informatio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280" y="704880"/>
            <a:ext cx="896472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4617b"/>
                </a:solidFill>
                <a:latin typeface="Calibri"/>
              </a:rPr>
              <a:t>Educational Materials/writing the message/2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8218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Choose simple common words/directed to grade 5-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Prioritize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cs typeface="Arial"/>
              </a:rPr>
              <a:t>فضل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Capitalize titl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Emphasize messag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Use active voic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Pictures appropriat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Give exampl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Short sentenc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Include interac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77868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4617b"/>
                </a:solidFill>
                <a:latin typeface="Calibri"/>
              </a:rPr>
              <a:t>Group Process skill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557360"/>
            <a:ext cx="8424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nstantia"/>
              </a:rPr>
              <a:t>Set your </a:t>
            </a: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objectives/plan your process/ plan your session by time and by content/set your media/audiovisuals/CBE/set time/place/know your audienc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Introduce groups, yourself/ Pre-test/ icebreaker/ warm-up exercis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4617b"/>
                </a:solidFill>
                <a:latin typeface="Calibri"/>
              </a:rPr>
              <a:t>Group Process skills/2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Brainstorming/ pyramiding/questioning/role-play/rehearsal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cs typeface="Arial"/>
              </a:rPr>
              <a:t>تدريب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/self-monitoring techniques/activities/games/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Summarize after each point/at the en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Questions at the end / Post tes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Use humour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cs typeface="Arial"/>
              </a:rPr>
              <a:t>مرح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/stories/examples/experienc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57120" y="691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4617b"/>
                </a:solidFill>
                <a:latin typeface="Calibri"/>
              </a:rPr>
              <a:t>Making Good use of Audiovisual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8000" y="1773000"/>
            <a:ext cx="82090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Preview 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cs typeface="Arial"/>
              </a:rPr>
              <a:t>استعرض</a:t>
            </a: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the material beforehand and make sure you use only materials related to your objectives and the needs of your patien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Restate the objective and the particular points to  look for before showing the medi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4617b"/>
                </a:solidFill>
                <a:latin typeface="Calibri"/>
              </a:rPr>
              <a:t>Making Good use of Audiovisuals/2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If the entire program is not appropriate use only what meets your need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Point out any terms or steps that are different from the ones you have been us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Explain how they relate to your term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4617b"/>
                </a:solidFill>
                <a:latin typeface="Calibri"/>
              </a:rPr>
              <a:t>Making Good use of Audiovisuals/3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At the start of the presentation check if the viewer can see and hear adequatel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At the conclusion  summarize key points or ask some questions covering your poin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4617b"/>
                </a:solidFill>
                <a:latin typeface="Calibri"/>
              </a:rPr>
              <a:t>Making Good use of Audiovisuals/4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If the presentation teaches skills have them try to perform i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Offer patients opportunity to review materials before practic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If  materials, or equipment needed to perform objectives have them read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000" spc="-1" strike="noStrike">
                <a:solidFill>
                  <a:srgbClr val="04617b"/>
                </a:solidFill>
                <a:latin typeface="Calibri"/>
              </a:rPr>
              <a:t>JCAH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79280" y="1699920"/>
            <a:ext cx="878544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9dd9"/>
                </a:solidFill>
                <a:latin typeface="Constantia"/>
              </a:rPr>
              <a:t>Joint commission on  the Accreditation of Health Care Organization:</a:t>
            </a: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  1990, to achieve accreditation all patients should receive teaching and all health care providers must demonstrate  patient learn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It requires individualised  teaching, organization wide patient and family education, and evidence of direct impact of education on patien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It requires an interdisciplinary approach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r>
              <a:rPr b="1" lang="en-US" sz="4500" spc="-1" strike="noStrike" u="sng">
                <a:solidFill>
                  <a:srgbClr val="04617b"/>
                </a:solidFill>
                <a:uFillTx/>
                <a:latin typeface="Calibri"/>
              </a:rPr>
              <a:t>STANDARD</a:t>
            </a:r>
            <a:r>
              <a:rPr b="1" lang="ar-SA" sz="4500" spc="-1" strike="noStrike" u="sng">
                <a:solidFill>
                  <a:srgbClr val="04617b"/>
                </a:solidFill>
                <a:uFillTx/>
                <a:latin typeface="Calibri"/>
                <a:cs typeface="Arial"/>
              </a:rPr>
              <a:t>المعيار</a:t>
            </a:r>
            <a:r>
              <a:rPr b="1" lang="ar-SA" sz="4500" spc="-1" strike="noStrike" u="sng">
                <a:solidFill>
                  <a:srgbClr val="04617b"/>
                </a:solidFill>
                <a:uFillTx/>
                <a:latin typeface="Calibri"/>
                <a:ea typeface="Arial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50920" y="1699920"/>
            <a:ext cx="864216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Education supports patient and family participation in care decision and care process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dd9"/>
                </a:solidFill>
                <a:uFillTx/>
                <a:latin typeface="Constantia"/>
              </a:rPr>
              <a:t>Measurable Element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organization plans education consistent with its mission, services and patient populatio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re is an appropriate structure or mechanism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cs typeface="Arial"/>
              </a:rPr>
              <a:t>آلية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or education throughout the organizatio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ducation resources are organized in an efficient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cs typeface="Arial"/>
              </a:rPr>
              <a:t>كفؤ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nd effective manner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cs typeface="Arial"/>
              </a:rPr>
              <a:t>بأسلوب فعال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 u="sng">
                <a:solidFill>
                  <a:srgbClr val="04617b"/>
                </a:solidFill>
                <a:uFillTx/>
                <a:latin typeface="Calibri"/>
              </a:rPr>
              <a:t>STANDARD</a:t>
            </a:r>
            <a:r>
              <a:rPr b="1" lang="ar-SA" sz="4900" spc="-1" strike="noStrike" u="sng">
                <a:solidFill>
                  <a:srgbClr val="04617b"/>
                </a:solidFill>
                <a:uFillTx/>
                <a:latin typeface="Calibri"/>
                <a:cs typeface="Arial"/>
              </a:rPr>
              <a:t>المعيار</a:t>
            </a:r>
            <a:r>
              <a:rPr b="1" lang="ar-SA" sz="4900" spc="-1" strike="noStrike" u="sng">
                <a:solidFill>
                  <a:srgbClr val="04617b"/>
                </a:solidFill>
                <a:uFillTx/>
                <a:latin typeface="Calibri"/>
                <a:ea typeface="Arial"/>
              </a:rPr>
              <a:t> 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95280" y="1699920"/>
            <a:ext cx="842472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ach patient’s educational needs are assessed and recorded in his or her recor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dd9"/>
                </a:solidFill>
                <a:uFillTx/>
                <a:latin typeface="Constantia"/>
              </a:rPr>
              <a:t>Measurable Element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patient’s and family’s education needs are asses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patient’s and family’s ability to learn and readiness to learn are assess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ssessment findings are recorded in the patient’s recor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re is a uniform process for recording patient education inform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Polic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nstantia"/>
              </a:rPr>
              <a:t>Hospitals have policies  written in a special folders available by the Organization  department to all hospital departments and employees that state the policies in regard of certain issues, procedures</a:t>
            </a:r>
            <a:r>
              <a:rPr b="0" lang="ar-SA" sz="3200" spc="-1" strike="noStrike">
                <a:solidFill>
                  <a:srgbClr val="000000"/>
                </a:solidFill>
                <a:latin typeface="Constantia"/>
                <a:cs typeface="Arial"/>
              </a:rPr>
              <a:t>إجراءات</a:t>
            </a:r>
            <a:r>
              <a:rPr b="0" lang="ar-SA" sz="32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Constantia"/>
              </a:rPr>
              <a:t>, care, ......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Abbreviation Lis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Available by JCAH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Patients Bills </a:t>
            </a:r>
            <a:r>
              <a:rPr b="0" lang="ar-SA" sz="5000" spc="-1" strike="noStrike">
                <a:solidFill>
                  <a:srgbClr val="04617b"/>
                </a:solidFill>
                <a:latin typeface="Calibri"/>
                <a:ea typeface="Arial"/>
              </a:rPr>
              <a:t> </a:t>
            </a:r>
            <a:r>
              <a:rPr b="0" lang="ar-SA" sz="5000" spc="-1" strike="noStrike">
                <a:solidFill>
                  <a:srgbClr val="04617b"/>
                </a:solidFill>
                <a:latin typeface="Calibri"/>
                <a:cs typeface="Arial"/>
              </a:rPr>
              <a:t>مواثيق</a:t>
            </a:r>
            <a:r>
              <a:rPr b="0" lang="en-AU" sz="5000" spc="-1" strike="noStrike">
                <a:solidFill>
                  <a:srgbClr val="04617b"/>
                </a:solidFill>
                <a:latin typeface="Calibri"/>
              </a:rPr>
              <a:t>of Righ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88640"/>
            <a:ext cx="822960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Right for care/respect/ equal treatment/privacy/ right to know about his medication, disease, treatment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cs typeface="Arial"/>
              </a:rPr>
              <a:t>معالجة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,...........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Consent forms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cs typeface="Arial"/>
              </a:rPr>
              <a:t>أشكال موافقة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820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4617b"/>
                </a:solidFill>
                <a:latin typeface="Calibri"/>
              </a:rPr>
              <a:t>Competencies and staff development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78920" y="1699920"/>
            <a:ext cx="87138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lnSpc>
                <a:spcPct val="11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9dd9"/>
                </a:solidFill>
                <a:latin typeface="Constantia"/>
              </a:rPr>
              <a:t>Competency </a:t>
            </a:r>
            <a:r>
              <a:rPr b="0" lang="ar-SA" sz="2800" spc="-1" strike="noStrike">
                <a:solidFill>
                  <a:srgbClr val="009dd9"/>
                </a:solidFill>
                <a:latin typeface="Constantia"/>
                <a:ea typeface="Arial"/>
              </a:rPr>
              <a:t> </a:t>
            </a:r>
            <a:r>
              <a:rPr b="0" lang="ar-SA" sz="2800" spc="-1" strike="noStrike">
                <a:solidFill>
                  <a:srgbClr val="009dd9"/>
                </a:solidFill>
                <a:latin typeface="Constantia"/>
                <a:cs typeface="Arial"/>
              </a:rPr>
              <a:t>الكفاءة</a:t>
            </a:r>
            <a:r>
              <a:rPr b="0" lang="en-AU" sz="2800" spc="-1" strike="noStrike">
                <a:solidFill>
                  <a:srgbClr val="009dd9"/>
                </a:solidFill>
                <a:latin typeface="Constantia"/>
              </a:rPr>
              <a:t>Based practice (CBP):</a:t>
            </a: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 Is a patient care delivery system which emphasizes professional ability to demonstrate  competence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cs typeface="Arial"/>
              </a:rPr>
              <a:t>قدرة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in high risk , high volume problem prone aspects of care within a specific role and clinical practi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1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9dd9"/>
                </a:solidFill>
                <a:latin typeface="Constantia"/>
              </a:rPr>
              <a:t>Knowledge</a:t>
            </a: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 is integral to competent performance so CBP emphasizes doing than know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lnSpc>
                <a:spcPct val="11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9dd9"/>
                </a:solidFill>
                <a:latin typeface="Constantia"/>
              </a:rPr>
              <a:t>The expected performance outcomes</a:t>
            </a: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 are expressed as </a:t>
            </a:r>
            <a:r>
              <a:rPr b="0" lang="en-AU" sz="2600" spc="-1" strike="noStrike">
                <a:solidFill>
                  <a:srgbClr val="0f6fc6"/>
                </a:solidFill>
                <a:latin typeface="Constantia"/>
              </a:rPr>
              <a:t>measurable</a:t>
            </a: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, observable, behaviours called competent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cs typeface="Arial"/>
              </a:rPr>
              <a:t>مؤهلة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AU" sz="2600" spc="-1" strike="noStrike">
                <a:solidFill>
                  <a:srgbClr val="000000"/>
                </a:solidFill>
                <a:latin typeface="Constantia"/>
              </a:rPr>
              <a:t>statements and performance criter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1360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600" spc="-1" strike="noStrike">
                <a:solidFill>
                  <a:srgbClr val="009dd9"/>
                </a:solidFill>
                <a:latin typeface="Calibri"/>
              </a:rPr>
              <a:t>Performance Criteria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78920" y="1628640"/>
            <a:ext cx="87138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Are essential cognitive, psychomotor and or affective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cs typeface="Arial"/>
              </a:rPr>
              <a:t>عاطفي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behaviours required to achieve competenc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Are integrated into the competency assessment instrument used to assess and evaluate acquisition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cs typeface="Arial"/>
              </a:rPr>
              <a:t>استملاك</a:t>
            </a:r>
            <a:r>
              <a:rPr b="0" lang="ar-SA" sz="2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Constantia"/>
              </a:rPr>
              <a:t>of and ability to demonstrate new and previously acquired knowledge as  well as  technical critical thinking and interpersonal communication skill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4T18:58:10Z</dcterms:created>
  <dc:creator>Iffat</dc:creator>
  <dc:description/>
  <dc:language>en-US</dc:language>
  <cp:lastModifiedBy>Mastour</cp:lastModifiedBy>
  <dcterms:modified xsi:type="dcterms:W3CDTF">2012-09-30T14:59:29Z</dcterms:modified>
  <cp:revision>92</cp:revision>
  <dc:subject/>
  <dc:title>CHS 487 Heath Education In Health services</dc:title>
</cp:coreProperties>
</file>