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2779-205D-4123-B05F-4FB2D8D157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333399"/>
                </a:solidFill>
                <a:latin typeface="Calibri"/>
              </a:rPr>
              <a:t>Joint commission:</a:t>
            </a:r>
            <a:r>
              <a:rPr b="0" lang="ar-SA" sz="1300" spc="-1" strike="noStrike">
                <a:solidFill>
                  <a:srgbClr val="333399"/>
                </a:solidFill>
                <a:latin typeface="Calibri"/>
              </a:rPr>
              <a:t>اللجنة المشتركة</a:t>
            </a:r>
            <a:r>
              <a:rPr b="0" lang="ar-SA" sz="13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FEB-9D80-4200-BC02-4F2B9570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4C7-97A9-4973-9D77-AB1B9113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ADA-9E85-4941-9DAB-7D4BA91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6CA-A987-4FBE-A276-24FF0B54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04A-772A-4D10-A1F0-1DCF9C9C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60E6-516C-477C-9EF1-20EF248A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F50-8B04-4462-A5CE-EFB8B07C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5E2D-AA9F-46AA-A290-D5167898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20B3-7A41-4A6F-8857-C796A67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549-C42B-47B4-9BB5-9500DC5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7FCF-047A-4513-82C2-F9EA720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33B-BD27-4A1E-9EA1-69B85C2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58D7-57A8-4D07-B186-094AD77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2D1-BEE9-4BBE-B0CC-7B84F51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CC66-F55D-49BC-AD3D-397A418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575A-8555-4434-AE9D-E9AEF3B1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ED60-D136-4C6E-94CA-691A4E6F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AD25-FCBA-4246-82A2-F0A9B153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408A-8FFF-46D0-9AEA-67BBC87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696C-74B2-4CE6-AE5D-D635091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02EB-8242-413E-96C2-45F02C7F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0E3E-C9C6-40F4-B739-8437E267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332-CE3E-4E8B-B9E2-F4AAA5A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5E7E-268C-453C-A9C6-93EE274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B03E-44D2-434D-8DBA-D999AB9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01EA-46A0-4A38-BB12-72EE6B2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B54A-D0A6-4562-8D1D-73EEC9DF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AA08-0ED8-4628-A0C0-96E0B70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54D8-4583-474B-AB3A-84FC98D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AC6E-33B0-4A14-BEA8-04629634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5E82-A278-482A-845B-B8473301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B928-F997-4C94-8B55-5B3FF78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C0D7-B887-43AA-BC59-4D7FA5D7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04E-936A-4DFF-BC8A-94F9EB9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DFAF-18CF-4BEB-B212-A9311AE0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E510-55DD-430E-B7DE-7382AED3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1812-1925-4E55-9C91-D0EB11A9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0A5C-2DC2-4832-B686-777036E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5312-5C1C-4D01-810B-D1020BA6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F057-D41E-4B7E-AE44-0746634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5DB8-7CAC-4913-A3B8-07FC0642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379E-DFED-435F-BAD4-E908284C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F765-019B-492B-BD31-8C30A21A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3F3-1DF1-4C8A-9B7A-E062EABA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A22-BDC6-41D5-9235-8050FC3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93F-0C90-44DF-8117-E7EA9628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CF9-C68F-4604-A4A8-30E7A42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813-A9E3-4D23-9271-E5B3C83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17CD-814B-465F-AA20-1D76BE7B003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D2D-83BF-44A3-8C4D-ECAEE3E19E3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D52-D3E9-40A9-93EE-89B3EC802AC0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B93-717E-4C72-9347-7CE9D5CC57F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840096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Let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em 1 , 143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Educational Materials/writing th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7300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Define audie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Plan information/objectiv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Format (font, colour, shape, layout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تخطيط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Arial"/>
              </a:rPr>
              <a:t>Problems with message desig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Mismatch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لخبطة</a:t>
            </a: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between instructions and pati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Too much information includ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Difficult inform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Educational Materials/writing the message/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hoose simple common words/directed to grade 5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ioritiz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فضل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pitalize tit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Emphasize mess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Use active vo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ictures appropr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Give examp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Short sent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nclude inter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Group Process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et your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bjectives/plan your process/ plan your session by time and by content/set your media/audiovisuals/CBE/set time/place/know your audi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ntroduce groups, yourself/ Pre-test/ icebreaker/ warm-up exerci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4617b"/>
                </a:solidFill>
                <a:latin typeface="Calibri"/>
              </a:rPr>
              <a:t>Group Process skills/2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rainstorming/ pyramiding/questioning/role-play/rehearsal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تدريب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/self-monitoring techniques/activities/games/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Summarize after each point/at the e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Questions at the end / Post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Use humour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مرح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/stories/examples/experi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eview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ستعرض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he material beforehand and make sure you use only materials related to your objectives and the needs of your pati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estate the objective and the particular points to  look for before showing the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2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the entire program is not appropriate use only what meets your nee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oint out any terms or steps that are different from the ones you have been u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Explain how they relate to your te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t the start of the presentation check if the viewer can see and hear adequate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t the conclusion  summarize key points or ask some questions covering your poi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4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the presentation teaches skills have them try to perform 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ffer patients opportunity to review materials before pract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 materials, or equipment needed to perform objectives have them rea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JCAH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Joint commission on  the Accreditation of Health Care Organization: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 1990, to achieve accreditation all patients should receive teaching and all health care providers must demonstrate  patient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t requires individualised  teaching, organization wide patient and family education, and evidence of direct impact of education on pat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t requires an interdisciplinary approa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STANDARD</a:t>
            </a:r>
            <a:r>
              <a:rPr b="1" lang="ar-SA" sz="4500" spc="-1" strike="noStrike" u="sng">
                <a:solidFill>
                  <a:srgbClr val="04617b"/>
                </a:solidFill>
                <a:uFillTx/>
                <a:latin typeface="Calibri"/>
                <a:cs typeface="Arial"/>
              </a:rPr>
              <a:t>المعيار</a:t>
            </a:r>
            <a:r>
              <a:rPr b="1" lang="ar-SA" sz="4500" spc="-1" strike="noStrike" u="sng">
                <a:solidFill>
                  <a:srgbClr val="04617b"/>
                </a:solidFill>
                <a:uFillTx/>
                <a:latin typeface="Calibri"/>
                <a:ea typeface="Arial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ducation supports patient and family participation in care decision and care proce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onstantia"/>
              </a:rPr>
              <a:t>Measurable Ele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organization plans education consistent with its mission, services and patient popul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n appropriate structure or mechanism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آل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education throughout the organiz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ion resources are organized in an efficient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كفؤ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effective manner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بأسلوب فعال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04617b"/>
                </a:solidFill>
                <a:uFillTx/>
                <a:latin typeface="Calibri"/>
              </a:rPr>
              <a:t>STANDARD</a:t>
            </a:r>
            <a:r>
              <a:rPr b="1" lang="ar-SA" sz="4900" spc="-1" strike="noStrike" u="sng">
                <a:solidFill>
                  <a:srgbClr val="04617b"/>
                </a:solidFill>
                <a:uFillTx/>
                <a:latin typeface="Calibri"/>
                <a:cs typeface="Arial"/>
              </a:rPr>
              <a:t>المعيار</a:t>
            </a:r>
            <a:r>
              <a:rPr b="1" lang="ar-SA" sz="4900" spc="-1" strike="noStrike" u="sng">
                <a:solidFill>
                  <a:srgbClr val="04617b"/>
                </a:solidFill>
                <a:uFillTx/>
                <a:latin typeface="Calibri"/>
                <a:ea typeface="Arial"/>
              </a:rPr>
              <a:t>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ch patient’s educational needs are assessed and recorded in his or her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onstantia"/>
              </a:rPr>
              <a:t>Measurable Ele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atient’s and family’s education needs are asses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atient’s and family’s ability to learn and readiness to learn are asses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findings are recorded in the patient’s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uniform process for recording patient education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oli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Hospitals have policies  written in a special folders available by the Organization  department to all hospital departments and employees that state the policies in regard of certain issues, procedures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إجراءات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, care, ....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bbreviation Li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vailable by JCA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atients Bills 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cs typeface="Arial"/>
              </a:rPr>
              <a:t>مواثيق</a:t>
            </a: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f Righ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ight for care/respect/ equal treatment/privacy/ right to know about his medication, disease, treatment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معالج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,........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onsent form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أشكال موافق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820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Competencies and staff developmen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Competency </a:t>
            </a:r>
            <a:r>
              <a:rPr b="0" lang="ar-SA" sz="2800" spc="-1" strike="noStrike">
                <a:solidFill>
                  <a:srgbClr val="009dd9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9dd9"/>
                </a:solidFill>
                <a:latin typeface="Constantia"/>
                <a:cs typeface="Arial"/>
              </a:rPr>
              <a:t>الكفاءة</a:t>
            </a: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Based practice (CBP):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Is a patient care delivery system which emphasizes professional ability to demonstrate  competence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Arial"/>
              </a:rPr>
              <a:t>قدر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 high risk , high volume problem prone aspects of care within a specific role and clinical pract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9dd9"/>
                </a:solidFill>
                <a:latin typeface="Constantia"/>
              </a:rPr>
              <a:t>Knowledg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is integral to competent performance so CBP emphasizes doing than kn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9dd9"/>
                </a:solidFill>
                <a:latin typeface="Constantia"/>
              </a:rPr>
              <a:t>The expected performance outcomes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are expressed as </a:t>
            </a:r>
            <a:r>
              <a:rPr b="0" lang="en-AU" sz="2600" spc="-1" strike="noStrike">
                <a:solidFill>
                  <a:srgbClr val="0f6fc6"/>
                </a:solidFill>
                <a:latin typeface="Constantia"/>
              </a:rPr>
              <a:t>measurabl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, observable, behaviours called competent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Arial"/>
              </a:rPr>
              <a:t>مؤهل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atements and performance cri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9dd9"/>
                </a:solidFill>
                <a:latin typeface="Calibri"/>
              </a:rPr>
              <a:t>Performance Criter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920" y="1628640"/>
            <a:ext cx="871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re essential cognitive, psychomotor and or affectiv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عاطفي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haviours required to achieve compet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re integrated into the competency assessment instrument used to assess and evaluate acquisition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ستملاك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f and ability to demonstrate new and previously acquired knowledge as  well as  technical critical thinking and interpersonal communication skill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8:58:10Z</dcterms:created>
  <dc:creator>Iffat</dc:creator>
  <dc:description/>
  <dc:language>en-US</dc:language>
  <cp:lastModifiedBy>Mastour</cp:lastModifiedBy>
  <dcterms:modified xsi:type="dcterms:W3CDTF">2012-09-30T14:59:29Z</dcterms:modified>
  <cp:revision>92</cp:revision>
  <dc:subject/>
  <dc:title>CHS 487 Heath Education In Health services</dc:title>
</cp:coreProperties>
</file>