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A1B0-C78A-443F-A8FA-4E067BA26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4CCC-0F5D-4807-BE15-B33D6B6C3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F55B-CF42-4ED6-81CD-39C7E4BF4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5B62-8D4B-44F9-8748-61018C06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ADF5-8FB1-4583-84A5-98425F0E8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6CC2-B701-4FC4-989A-8C987D535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0E6F-88EC-4150-9949-71265BC26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9E6A-C040-4C76-ACF1-A98E7E22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B92F-455F-4830-88AA-202F6048F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5344-D9D4-4EB3-9E14-AC608AB5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B726-584E-4744-A831-F103719F0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E831-0804-48EB-8EB8-559EE721C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9C14-9E2F-47C5-9B6D-FE6EE19F3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F21-D88C-4850-9C81-F37419EF6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5B6F-A521-4EE5-AAA8-F8AB8E0F5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0CD9-FBDA-4634-8C4B-73360E05F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47D1-B1C0-4EBD-B96D-99397E3F5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9397-9392-4335-87BC-FD8CC7AB3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4D9A-7E61-4DF5-BF98-2254885AD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A857-400C-4C7F-9AF2-93C662CD9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40AC-6DC8-4DEF-8532-DA9246DA7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F16E-BF5F-44F5-8ECB-CA276FA76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597-CB83-4CAE-B60A-ECA67D8B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5887-9342-4F8D-A9F6-E3D1BB213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0803-422D-45E9-8DA5-907C6F95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D52E-213F-41A4-9ACB-5CFDBFFE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B13F-E1D3-4A56-BB40-947F056FC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A8C-0806-4EB9-A215-C9B08D178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C10C-9711-43F2-B3D7-3036E76E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7654-D8CB-4E8E-9D18-8DC0ED4E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FBB8-30DD-4FD6-90E2-A4485365B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89D0-0F19-4E17-8840-5E33F5151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9F8A-018B-414D-919D-828013FE7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F47-43EA-4842-8E2A-6E9B1147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A4E-DDBB-422B-9C6A-6491E57D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CD3-7184-4503-8061-FFD34DDE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EFB5-FB5B-41E7-882F-F414814A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B13-8970-4E6F-AB04-FFED1AC6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12F-E9D7-45F8-9606-07B985FF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82E-6C6D-493F-8DFB-DE0F94ED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9F4-EE34-40CB-8C6B-79414C3C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404-A32E-4167-85A5-AF64BCD6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9AC-B8AF-4FAC-8FF1-4EF4AE3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4FF-5EE8-4B6F-A124-127E2EB6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55F3-25BA-4FA5-9444-450E27F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5D6B-85ED-4D5E-A230-65387C082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Lecture Outlines</a:t>
            </a:r>
            <a:br>
              <a:rPr sz="4800"/>
            </a:b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Natural Disasters, 7</a:t>
            </a:r>
            <a:r>
              <a:rPr b="1" lang="en-US" sz="48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 e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52280" y="1219320"/>
            <a:ext cx="8839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turally occurring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up more than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8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up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9.23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xy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li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y far most ab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join up a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tetrahed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at ties up with positively charge atoms to form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93432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abb50342_0807"/>
          <p:cNvPicPr/>
          <p:nvPr/>
        </p:nvPicPr>
        <p:blipFill>
          <a:blip r:embed="rId1"/>
          <a:stretch/>
        </p:blipFill>
        <p:spPr>
          <a:xfrm>
            <a:off x="1905120" y="3917880"/>
            <a:ext cx="51051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2280" y="144792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 formation in magma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rystal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Order of crystal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ifferent minerals in magma can be determ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 and magnesium link with aluminum and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livine, pyroxene, amphibo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biot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combines with aluminum and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calcium replaced by sodium,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lagioclase feldsp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y; calcium and sodium are later replaced by potassium,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otassium feldspa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muscov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ies; finally only Si and O remain, forming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qua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abb50342_0808"/>
          <p:cNvPicPr/>
          <p:nvPr/>
        </p:nvPicPr>
        <p:blipFill>
          <a:blip r:embed="rId1"/>
          <a:stretch/>
        </p:blipFill>
        <p:spPr>
          <a:xfrm>
            <a:off x="914400" y="1327320"/>
            <a:ext cx="7391520" cy="5348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20" y="63244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2280" y="1295280"/>
            <a:ext cx="88394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e to form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s combine to form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mpo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agma result in differen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gne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gm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ols slow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olidifi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beneath su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luto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gm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rupts and cools quick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surfa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olca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2280" y="1371600"/>
            <a:ext cx="8839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iscosity: internal resistance to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cos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re fl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, melted ice-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cos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ey, tooth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osity determ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ilicon and oxy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trahedr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inera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ma contains dissolved gases: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ola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bility increases as pressure increases and temperatur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52280" y="1371600"/>
            <a:ext cx="88394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ree types of magma: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ndesi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hyoli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temper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luid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temper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oes not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up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agma that reaches Earth’s surface, a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ecause it forms fro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elting of man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elted mantle at subduction z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ises through continental crust before reaching the surface,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corporating continental high Si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it rises, to becom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ndesi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hyoli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omposition before it e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abb76698_t08_05"/>
          <p:cNvPicPr/>
          <p:nvPr/>
        </p:nvPicPr>
        <p:blipFill>
          <a:blip r:embed="rId1"/>
          <a:stretch/>
        </p:blipFill>
        <p:spPr>
          <a:xfrm>
            <a:off x="735120" y="1415880"/>
            <a:ext cx="76737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abb50342_0809"/>
          <p:cNvPicPr/>
          <p:nvPr/>
        </p:nvPicPr>
        <p:blipFill>
          <a:blip r:embed="rId1"/>
          <a:stretch/>
        </p:blipFill>
        <p:spPr>
          <a:xfrm>
            <a:off x="990720" y="4267080"/>
            <a:ext cx="3504960" cy="2462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mexico_c_ph_755"/>
          <p:cNvPicPr/>
          <p:nvPr/>
        </p:nvPicPr>
        <p:blipFill>
          <a:blip r:embed="rId2"/>
          <a:stretch/>
        </p:blipFill>
        <p:spPr>
          <a:xfrm>
            <a:off x="4952880" y="4191120"/>
            <a:ext cx="3279960" cy="2509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696800" y="4191120"/>
            <a:ext cx="123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3000" y="4267080"/>
            <a:ext cx="112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52280" y="1295280"/>
            <a:ext cx="88394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ost abundant dissolved gas in ma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magma rises, pressure decreases, water becom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team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er cont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eaceful, safe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er content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y steam bubbles form and can not escape through thick magma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xpl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iolent, dangerous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280" y="144792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bundant volc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 above hot asthen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henosphere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s pull apart so asthenosphere rises and melts under low pressure, changing to high-temperature, l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ow volatile, low viscosity basaltic magma that allow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asy escape of g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aceful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Plate-Tectonic Setting of Volcanoes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28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ubduction z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iolent eru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ma is generated by partial melting of the subducting plate with water 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s overlying crust to produc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gmas of variabl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ma temp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while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onte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sity increa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Plate-Tectonic Setting of Volcanoes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abb50342_0811L"/>
          <p:cNvPicPr/>
          <p:nvPr/>
        </p:nvPicPr>
        <p:blipFill>
          <a:blip r:embed="rId1"/>
          <a:stretch/>
        </p:blipFill>
        <p:spPr>
          <a:xfrm>
            <a:off x="3733920" y="3124080"/>
            <a:ext cx="4876560" cy="363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51532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Volcanic Eruptions: Plate Tectonics and Magma 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s with heat at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that is superheated (heated to above its melting temperature) will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rises, it is under less and less pressure so some of it melts (becomes mag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xpansion leads eventually to e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hings will cause rock to me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wering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aising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creasing water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ing pressure is most common way to melt roc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compression me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52280" y="91440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ma at depth is under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oo much 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gas bubbles to form (gases stay dissolved in mag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724280" y="1905120"/>
            <a:ext cx="4267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magma rises toward surface, pressure decreases and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as bubbles form and exp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pelling the magma farthe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gas bubble volume may overwhelm magma, fragmenting it into pieces tha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xpl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 as a gas 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abb50342_0812L"/>
          <p:cNvPicPr/>
          <p:nvPr/>
        </p:nvPicPr>
        <p:blipFill>
          <a:blip r:embed="rId1"/>
          <a:stretch/>
        </p:blipFill>
        <p:spPr>
          <a:xfrm>
            <a:off x="685800" y="1981080"/>
            <a:ext cx="3622680" cy="4724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05280" y="4114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52280" y="914400"/>
            <a:ext cx="56390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ruption Styles and the Role of Water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 of water in magma largely determines peaceful or explosive e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can erupt violently with enough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magma usually erupts violently because of high water content, high viscosity (secondary r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s of volcanic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nexplosive Icelandic and Hawai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omewhat explosive Strombo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plosive Vulcanian and Pli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82240" y="4495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abb76698_08_14"/>
          <p:cNvPicPr/>
          <p:nvPr/>
        </p:nvPicPr>
        <p:blipFill>
          <a:blip r:embed="rId1"/>
          <a:stretch/>
        </p:blipFill>
        <p:spPr>
          <a:xfrm>
            <a:off x="6006960" y="971640"/>
            <a:ext cx="27590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52280" y="838080"/>
            <a:ext cx="4038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ome Volcanic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water content, low-viscosity mag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va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water content, high-viscosity mag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yroclastic deb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abb76698_t08_06"/>
          <p:cNvPicPr/>
          <p:nvPr/>
        </p:nvPicPr>
        <p:blipFill>
          <a:blip r:embed="rId1"/>
          <a:stretch/>
        </p:blipFill>
        <p:spPr>
          <a:xfrm>
            <a:off x="4495680" y="914400"/>
            <a:ext cx="4019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52280" y="8380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on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mooth ropy rock from highly liquid 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ough blocky rock from more viscous 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bb50342_0816"/>
          <p:cNvPicPr/>
          <p:nvPr/>
        </p:nvPicPr>
        <p:blipFill>
          <a:blip r:embed="rId1"/>
          <a:stretch/>
        </p:blipFill>
        <p:spPr>
          <a:xfrm>
            <a:off x="4800600" y="2895480"/>
            <a:ext cx="4105440" cy="3237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753200" y="6095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248880" y="61722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abb50342_0815"/>
          <p:cNvPicPr/>
          <p:nvPr/>
        </p:nvPicPr>
        <p:blipFill>
          <a:blip r:embed="rId2"/>
          <a:stretch/>
        </p:blipFill>
        <p:spPr>
          <a:xfrm>
            <a:off x="152280" y="3124080"/>
            <a:ext cx="4419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83808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yroclastic deb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roken up fragments of magma and rock from violent gaseous explosions, classified b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deposited 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ir-fall lay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ettled from ash clo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speed, gas-charge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yroclastic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abb50342_0817a"/>
          <p:cNvPicPr/>
          <p:nvPr/>
        </p:nvPicPr>
        <p:blipFill>
          <a:blip r:embed="rId1"/>
          <a:stretch/>
        </p:blipFill>
        <p:spPr>
          <a:xfrm>
            <a:off x="380880" y="3733920"/>
            <a:ext cx="4343400" cy="2981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60" y="3809880"/>
            <a:ext cx="133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7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620480" y="35053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abb50342_0818"/>
          <p:cNvPicPr/>
          <p:nvPr/>
        </p:nvPicPr>
        <p:blipFill>
          <a:blip r:embed="rId2"/>
          <a:stretch/>
        </p:blipFill>
        <p:spPr>
          <a:xfrm>
            <a:off x="4876920" y="3809880"/>
            <a:ext cx="41148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52280" y="1523880"/>
            <a:ext cx="41148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quick coo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si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volcanic glass forms when magma cools ver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rous rock from cooled froth of magma and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112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abb50342_0819"/>
          <p:cNvPicPr/>
          <p:nvPr/>
        </p:nvPicPr>
        <p:blipFill>
          <a:blip r:embed="rId1"/>
          <a:stretch/>
        </p:blipFill>
        <p:spPr>
          <a:xfrm>
            <a:off x="4648320" y="914400"/>
            <a:ext cx="4060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2280" y="838080"/>
            <a:ext cx="8839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ey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ruption of water superheated b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exist in areas of high heat flow under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oils (becomes gas) at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nless it is under pressure – no room for expansion to ga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an be heated to higher than boiling tempera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uper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Side Note: How a Geyser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280" y="3581280"/>
            <a:ext cx="3200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uperheated water reaches point of lower pressure, it flashes to steam violently, and erupts out of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36268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abb50342_0820"/>
          <p:cNvPicPr/>
          <p:nvPr/>
        </p:nvPicPr>
        <p:blipFill>
          <a:blip r:embed="rId1"/>
          <a:stretch/>
        </p:blipFill>
        <p:spPr>
          <a:xfrm>
            <a:off x="3505320" y="3352680"/>
            <a:ext cx="5486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09480" y="14479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low or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ntrols whether magma flows easily or pile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ola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undance may be low, medium or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ay ooze out harmlessly or expl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olu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small, medium or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eater volume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more intens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52280" y="144792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ixing different values for the three V’s, can forecast different eruptive styles for volcan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abb76698_t08_07"/>
          <p:cNvPicPr/>
          <p:nvPr/>
        </p:nvPicPr>
        <p:blipFill>
          <a:blip r:embed="rId1"/>
          <a:stretch/>
        </p:blipFill>
        <p:spPr>
          <a:xfrm>
            <a:off x="2031840" y="2546280"/>
            <a:ext cx="508032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Vesuvius, 79 C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2280" y="8380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ies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ompeii and Herculane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ried by massive eruption which blew out about half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t. Vesuv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1991 eruption of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t. Pinatu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uds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ot g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8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,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veloped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ried to escape near sea, but were buried b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yroclast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bb50342_0801"/>
          <p:cNvPicPr/>
          <p:nvPr/>
        </p:nvPicPr>
        <p:blipFill>
          <a:blip r:embed="rId1"/>
          <a:stretch/>
        </p:blipFill>
        <p:spPr>
          <a:xfrm>
            <a:off x="380880" y="3265560"/>
            <a:ext cx="4724640" cy="3378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20" y="64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abb50342_0803"/>
          <p:cNvPicPr/>
          <p:nvPr/>
        </p:nvPicPr>
        <p:blipFill>
          <a:blip r:embed="rId2"/>
          <a:stretch/>
        </p:blipFill>
        <p:spPr>
          <a:xfrm>
            <a:off x="5410080" y="3124080"/>
            <a:ext cx="2878200" cy="3487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020800" y="64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52280" y="144792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ixing different values for the three V’s, can define different volcanic land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abb76698_t08_08"/>
          <p:cNvPicPr/>
          <p:nvPr/>
        </p:nvPicPr>
        <p:blipFill>
          <a:blip r:embed="rId1"/>
          <a:stretch/>
        </p:blipFill>
        <p:spPr>
          <a:xfrm>
            <a:off x="130320" y="2868480"/>
            <a:ext cx="88833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52280" y="1371600"/>
            <a:ext cx="8839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hield Volcanoes: Low Viscosity, Low Volatiles, Larg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va with low viscosity and low volatiles flows to form gently dipping, thin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of layers on top of each other form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ery broad, gently sloping volca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ke Mauna Loa in 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Great width compared to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468200" y="64911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abb50342_0822"/>
          <p:cNvPicPr/>
          <p:nvPr/>
        </p:nvPicPr>
        <p:blipFill>
          <a:blip r:embed="rId1"/>
          <a:stretch/>
        </p:blipFill>
        <p:spPr>
          <a:xfrm>
            <a:off x="152280" y="4419720"/>
            <a:ext cx="8839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52280" y="12952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Hawaiian-typ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urtain of fi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: lines of lava fountains up to 300 m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cone with high fountains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lava spill out and flow in rivers down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uptions las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ays or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not life-threatening but destroy buildings and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77080" y="62485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national_park_c_ph_755"/>
          <p:cNvPicPr/>
          <p:nvPr/>
        </p:nvPicPr>
        <p:blipFill>
          <a:blip r:embed="rId1"/>
          <a:stretch/>
        </p:blipFill>
        <p:spPr>
          <a:xfrm>
            <a:off x="4572000" y="3581280"/>
            <a:ext cx="40384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Vesuvius, 79 C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838080"/>
            <a:ext cx="8839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uvius wa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nactive for 700 ye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79 C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lost fear and moved in closer to 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79 CE, eruptions in 203, 472, 512, 685, 993, 1036, 1049, 1138-11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years of quiet, the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631 eru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illed 4,0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cycles of activity between 1631 and 1944, nothing since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 million peo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ve within danger of Vesuvius today; 1 million people on slopes of 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The Hazards of Studying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1295280"/>
            <a:ext cx="8839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uptive phases are often separated by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enturies of in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uring people to live in vicinity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ich volcanic so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,000 people live on flanks of Galeras Volcano in 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eople killed each year by volcanoes, sometimes including volcanolo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oes may be active over millions of years, with centuries of in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236232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volcanoes in context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late tect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magma’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hemical composition, ability to flow, gas content and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s whether eruptions ar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eaceful or explo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286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How We Understand Volcanic Eru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1430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9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volcanism is associated with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lat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ubductio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volcanism occurs abov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ot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abb50342_0805"/>
          <p:cNvPicPr/>
          <p:nvPr/>
        </p:nvPicPr>
        <p:blipFill>
          <a:blip r:embed="rId1"/>
          <a:stretch/>
        </p:blipFill>
        <p:spPr>
          <a:xfrm>
            <a:off x="4876920" y="914400"/>
            <a:ext cx="3927240" cy="5761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11552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280" y="9144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ubduction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s oceanic plate (with water-rich sediments) into hotter mantle, where water lowers melting temperature of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magma melts continental crust it passes through,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hanging composition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abb50342_0806"/>
          <p:cNvPicPr/>
          <p:nvPr/>
        </p:nvPicPr>
        <p:blipFill>
          <a:blip r:embed="rId1"/>
          <a:stretch/>
        </p:blipFill>
        <p:spPr>
          <a:xfrm>
            <a:off x="380880" y="2589120"/>
            <a:ext cx="8458200" cy="4103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62084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52280" y="914400"/>
            <a:ext cx="88394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o volcanism associated with transform faults or continent-continent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ceanic volcanoes are peac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ubduction-zone volcanoes are explosive and 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duction zones last tens of millions of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canoes may be active any time, with centuries of qu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abb50342_0806"/>
          <p:cNvPicPr/>
          <p:nvPr/>
        </p:nvPicPr>
        <p:blipFill>
          <a:blip r:embed="rId1"/>
          <a:stretch/>
        </p:blipFill>
        <p:spPr>
          <a:xfrm>
            <a:off x="1143000" y="3365640"/>
            <a:ext cx="6858000" cy="3327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62084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9:56:40Z</dcterms:created>
  <dc:creator>Dell</dc:creator>
  <dc:description/>
  <dc:language>en-US</dc:language>
  <cp:lastModifiedBy>ksu</cp:lastModifiedBy>
  <dcterms:modified xsi:type="dcterms:W3CDTF">2011-11-01T11:06:47Z</dcterms:modified>
  <cp:revision>13</cp:revision>
  <dc:subject/>
  <dc:title>Lecture Outlines Natural Disasters, 6th edition</dc:title>
</cp:coreProperties>
</file>