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00A1-7468-491D-8D94-0DCBF3A1B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A856-B186-45BC-9681-FC18D67B0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4604-B62A-4D9F-8CFD-02DDD7401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1037-1307-4CED-A3BA-A086DD453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E54D-A1FE-4F54-A6EE-BB3C5069D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2484-337D-46D8-901F-F43A6F8D4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1424-D83F-4CEF-B1DA-349A0CFE2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1535-CE50-4384-A95E-9C8BC737F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349B-CA6C-44F5-8F79-403A65346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FECA-D143-49EF-AD2E-A37B371F4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43FE-DCD4-4D8E-8E24-963D1E498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B405-E0B8-41C6-913F-341583ACB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A0F8-D620-4E9B-B66C-0E7EE1024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8F96-6EB6-4565-A899-4CCDC29F5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CA49-00BE-4D0F-83AF-6938043F2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638F-939D-49A2-8F16-F7F44530A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A68D-D323-4825-A18E-0EB0B7DB0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C146-C31D-434C-AED9-8C9A025BA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2E6D-37C2-40CE-90AE-DE731F4BA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3F97-D05F-455A-BAAD-58569A028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F464-8712-434E-9F44-F642FAE50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9AAE-5245-4B22-B830-AC0BC205B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2F34-E3E1-4A53-9D61-E66AB1225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D343-0A37-4191-A536-171F2409D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0D3D-0D13-4981-8156-6406C173E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7A6A-CB79-4B8B-ABE6-82774F42F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B382-C469-4AA1-B898-84750BC90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54BB-DCCC-4215-9F50-BC898B3C2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A4BC-D200-4AC6-A7A9-4003C63C1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59F2-ACF4-4B96-A8A3-414A27AE7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C196-32AA-4893-9BAC-ECC67C85F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E294-1238-48B3-AF02-209DBC473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A7BB-6CFB-4EFC-A8A6-6FA11B4D5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804-1B62-41A0-8F18-AEF1DA22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258-5F19-4BBD-8A75-7A53F283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916F-71B1-40C0-BAF2-90F8E220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2A5-5BC9-4873-81BA-8659B8BF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AA3-74CB-4D5F-822D-B56F7ED1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552-3E19-4F19-B847-56A386E0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88C3-B0AC-4799-AC14-A15F6AFC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D80-9B79-41D6-9740-90687243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908-920E-4F8F-8CA3-1897B3C7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6FAA-5973-4303-8DB8-397353CC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8006-D7A4-4173-837D-956F1937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F15-99E9-4AFF-8422-6E548D88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274E-D0E0-443C-A50E-10DA4DFA8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Lecture Outlines</a:t>
            </a:r>
            <a:br>
              <a:rPr sz="4800"/>
            </a:b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Natural Disasters, 7</a:t>
            </a:r>
            <a:r>
              <a:rPr b="1" lang="en-US" sz="48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 ed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152280" y="1219320"/>
            <a:ext cx="88394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9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turally occurring el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up more than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98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Earth’s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we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up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99.23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Earth’s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xyg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ilic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by far most ab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join up as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iO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tetrahedr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at ties up with positively charge atoms to form min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Chemical Composition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6934320" y="6324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abb50342_0807"/>
          <p:cNvPicPr/>
          <p:nvPr/>
        </p:nvPicPr>
        <p:blipFill>
          <a:blip r:embed="rId1"/>
          <a:stretch/>
        </p:blipFill>
        <p:spPr>
          <a:xfrm>
            <a:off x="1905120" y="3917880"/>
            <a:ext cx="510516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52280" y="1447920"/>
            <a:ext cx="8839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eral formation in magma: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rystal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Order of crystalliz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different minerals in magma can be determ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 and magnesium link with aluminum and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form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livine, pyroxene, amphibol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biot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combines with aluminum and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til calcium replaced by sodium, to form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lagioclase feldsp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mily; calcium and sodium are later replaced by potassium, to form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otassium feldspar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muscov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milies; finally only Si and O remain, forming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quar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Chemical Composition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Chemical Composition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abb50342_0808"/>
          <p:cNvPicPr/>
          <p:nvPr/>
        </p:nvPicPr>
        <p:blipFill>
          <a:blip r:embed="rId1"/>
          <a:stretch/>
        </p:blipFill>
        <p:spPr>
          <a:xfrm>
            <a:off x="914400" y="1327320"/>
            <a:ext cx="7391520" cy="53481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720" y="63244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52280" y="1295280"/>
            <a:ext cx="88394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bine to form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in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erals combine to form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ompos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magma result in different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igne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agma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ools slow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solidifie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beneath su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luton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agma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erupts and cools quick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surfac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volcan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Chemical Composition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52280" y="1371600"/>
            <a:ext cx="8839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Viscosity: internal resistance to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scosi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ore flu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er, melted ice-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ig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scosi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ney, toothp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cosity determin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emper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wer visc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ilicon and oxyg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trahedr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gher visc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mineral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rys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gher visc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ma contains dissolved gases: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volat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bility increases as pressure increases and temperature de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52280" y="15228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Temperature and Water Content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52280" y="1371600"/>
            <a:ext cx="88394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ree types of magma: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basal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ndesi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hyoli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altic magma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ighest tempera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owest Si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con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owest visco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luid fl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yolitic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owest tempera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ighest Si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con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ighest visco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oes not fl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asal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s up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8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magma that reaches Earth’s surface, at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preading cen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ecause it forms from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elting of man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elted mantle at subduction zo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ises through continental crust before reaching the surface,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corporating continental high SiO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r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it rises, to become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ndesi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rhyoli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composition before it e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52280" y="15228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Temperature and Water Content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52280" y="15228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Temperature and Water Content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abb76698_t08_05"/>
          <p:cNvPicPr/>
          <p:nvPr/>
        </p:nvPicPr>
        <p:blipFill>
          <a:blip r:embed="rId1"/>
          <a:stretch/>
        </p:blipFill>
        <p:spPr>
          <a:xfrm>
            <a:off x="735120" y="1415880"/>
            <a:ext cx="76737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52280" y="15228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Temperature and Water Content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abb50342_0809"/>
          <p:cNvPicPr/>
          <p:nvPr/>
        </p:nvPicPr>
        <p:blipFill>
          <a:blip r:embed="rId1"/>
          <a:stretch/>
        </p:blipFill>
        <p:spPr>
          <a:xfrm>
            <a:off x="990720" y="4267080"/>
            <a:ext cx="3504960" cy="2462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mexico_c_ph_755"/>
          <p:cNvPicPr/>
          <p:nvPr/>
        </p:nvPicPr>
        <p:blipFill>
          <a:blip r:embed="rId2"/>
          <a:stretch/>
        </p:blipFill>
        <p:spPr>
          <a:xfrm>
            <a:off x="4952880" y="4191120"/>
            <a:ext cx="3279960" cy="2509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7696800" y="4191120"/>
            <a:ext cx="1236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53000" y="4267080"/>
            <a:ext cx="112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52280" y="1295280"/>
            <a:ext cx="88394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a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ost abundant dissolved gas in ma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magma rises, pressure decreases, water become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team bub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altic magma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ter cont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eaceful, safe e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yolitic magma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ig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ter content and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igh visco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ny steam bubbles form and can not escape through thick magma, so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xpl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violent, dangerous e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52280" y="1447920"/>
            <a:ext cx="88394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Spreading cen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bundant volcan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c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 above hot asthen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henosphere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ow Si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es pull apart so asthenosphere rises and melts under low pressure, changing to high-temperature, low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ow volatile, low viscosity basaltic magma that allows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asy escape of g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aceful e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Plate-Tectonic Setting of Volcanoes Revis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52280" y="12193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Subduction z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violent erup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c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ma is generated by partial melting of the subducting plate with water i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s overlying crust to produc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agmas of variable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ma temper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s while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conte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osity increa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violent e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Plate-Tectonic Setting of Volcanoes Revis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abb50342_0811L"/>
          <p:cNvPicPr/>
          <p:nvPr/>
        </p:nvPicPr>
        <p:blipFill>
          <a:blip r:embed="rId1"/>
          <a:stretch/>
        </p:blipFill>
        <p:spPr>
          <a:xfrm>
            <a:off x="3733920" y="3124080"/>
            <a:ext cx="4876560" cy="3635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2515320" y="6324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228600" y="1143000"/>
            <a:ext cx="86104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Times New Roman"/>
              </a:rPr>
              <a:t>Volcanic Eruptions: Plate Tectonics and Magma 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s with heat at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 that is superheated (heated to above its melting temperature) will 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it rises, it is under less and less pressure so some of it melts (becomes mag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expansion leads eventually to eru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hings will cause rock to me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owering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Raising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creasing water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ing pressure is most common way to melt roc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ecompression mel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52280" y="914400"/>
            <a:ext cx="8839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ma at depth is under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too much pres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gas bubbles to form (gases stay dissolved in mag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724280" y="1905120"/>
            <a:ext cx="4267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magma rises toward surface, pressure decreases and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gas bubbles form and exp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pelling the magma farther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ually gas bubble volume may overwhelm magma, fragmenting it into pieces that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expl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ut as a gas 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abb50342_0812L"/>
          <p:cNvPicPr/>
          <p:nvPr/>
        </p:nvPicPr>
        <p:blipFill>
          <a:blip r:embed="rId1"/>
          <a:stretch/>
        </p:blipFill>
        <p:spPr>
          <a:xfrm>
            <a:off x="685800" y="1981080"/>
            <a:ext cx="3622680" cy="4724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305280" y="41148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52280" y="914400"/>
            <a:ext cx="56390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Eruption Styles and the Role of Water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ion of water in magma largely determines peaceful or explosive eru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altic magma can erupt violently with enough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yolitic magma usually erupts violently because of high water content, high viscosity (secondary r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es of volcanic e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Nonexplosive Icelandic and Hawai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omewhat explosive Strombol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plosive Vulcanian and Plin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782240" y="44956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abb76698_08_14"/>
          <p:cNvPicPr/>
          <p:nvPr/>
        </p:nvPicPr>
        <p:blipFill>
          <a:blip r:embed="rId1"/>
          <a:stretch/>
        </p:blipFill>
        <p:spPr>
          <a:xfrm>
            <a:off x="6006960" y="971640"/>
            <a:ext cx="27590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52280" y="838080"/>
            <a:ext cx="40388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Some Volcanic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-water content, low-viscosity magm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va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-water content, high-viscosity magm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yroclastic deb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abb76698_t08_06"/>
          <p:cNvPicPr/>
          <p:nvPr/>
        </p:nvPicPr>
        <p:blipFill>
          <a:blip r:embed="rId1"/>
          <a:stretch/>
        </p:blipFill>
        <p:spPr>
          <a:xfrm>
            <a:off x="4495680" y="914400"/>
            <a:ext cx="4019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152280" y="838080"/>
            <a:ext cx="8839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Nonexplosive eru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ahoeho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mooth ropy rock from highly liquid l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ough blocky rock from more viscous l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abb50342_0816"/>
          <p:cNvPicPr/>
          <p:nvPr/>
        </p:nvPicPr>
        <p:blipFill>
          <a:blip r:embed="rId1"/>
          <a:stretch/>
        </p:blipFill>
        <p:spPr>
          <a:xfrm>
            <a:off x="4800600" y="2895480"/>
            <a:ext cx="4105440" cy="32371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1753200" y="60958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248880" y="61722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7" descr="abb50342_0815"/>
          <p:cNvPicPr/>
          <p:nvPr/>
        </p:nvPicPr>
        <p:blipFill>
          <a:blip r:embed="rId2"/>
          <a:stretch/>
        </p:blipFill>
        <p:spPr>
          <a:xfrm>
            <a:off x="152280" y="3124080"/>
            <a:ext cx="44197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52280" y="838080"/>
            <a:ext cx="8839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Explosive eru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yroclastic debr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broken up fragments of magma and rock from violent gaseous explosions, classified by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deposited 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ir-fall lay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ettled from ash clou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speed, gas-charged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yroclastic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abb50342_0817a"/>
          <p:cNvPicPr/>
          <p:nvPr/>
        </p:nvPicPr>
        <p:blipFill>
          <a:blip r:embed="rId1"/>
          <a:stretch/>
        </p:blipFill>
        <p:spPr>
          <a:xfrm>
            <a:off x="380880" y="3733920"/>
            <a:ext cx="4343400" cy="29811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360" y="3809880"/>
            <a:ext cx="1338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7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7620480" y="35053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7" descr="abb50342_0818"/>
          <p:cNvPicPr/>
          <p:nvPr/>
        </p:nvPicPr>
        <p:blipFill>
          <a:blip r:embed="rId2"/>
          <a:stretch/>
        </p:blipFill>
        <p:spPr>
          <a:xfrm>
            <a:off x="4876920" y="3809880"/>
            <a:ext cx="411480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52280" y="1523880"/>
            <a:ext cx="41148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Explosive eru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quick coo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bsidi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volcanic glass forms when magma cools ver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um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orous rock from cooled froth of magma and bub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01120" y="6324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abb50342_0819"/>
          <p:cNvPicPr/>
          <p:nvPr/>
        </p:nvPicPr>
        <p:blipFill>
          <a:blip r:embed="rId1"/>
          <a:stretch/>
        </p:blipFill>
        <p:spPr>
          <a:xfrm>
            <a:off x="4648320" y="914400"/>
            <a:ext cx="4060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52280" y="838080"/>
            <a:ext cx="88394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Gey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ruption of water superheated by m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nly exist in areas of high heat flow under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boils (becomes gas) at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unless it is under pressure – no room for expansion to gas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can be heated to higher than boiling tempera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uperh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Side Note: How a Geyser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52280" y="3581280"/>
            <a:ext cx="3200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uperheated water reaches point of lower pressure, it flashes to steam violently, and erupts out of the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362680" y="6324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abb50342_0820"/>
          <p:cNvPicPr/>
          <p:nvPr/>
        </p:nvPicPr>
        <p:blipFill>
          <a:blip r:embed="rId1"/>
          <a:stretch/>
        </p:blipFill>
        <p:spPr>
          <a:xfrm>
            <a:off x="3505320" y="3352680"/>
            <a:ext cx="5486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09480" y="14479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Viscos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low or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ontrols whether magma flows easily or piles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Volat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bundance may be low, medium or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May ooze out harmlessly or expl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Volu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small, medium or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Greater volume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more intense e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Three V’s of Volcanology: </a:t>
            </a:r>
            <a:br>
              <a:rPr sz="3600"/>
            </a:b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Volatiles,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52280" y="1447920"/>
            <a:ext cx="8839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mixing different values for the three V’s, can forecast different eruptive styles for volcan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Three V’s of Volcanology: </a:t>
            </a:r>
            <a:br>
              <a:rPr sz="3600"/>
            </a:b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Volatiles,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" descr="abb76698_t08_07"/>
          <p:cNvPicPr/>
          <p:nvPr/>
        </p:nvPicPr>
        <p:blipFill>
          <a:blip r:embed="rId1"/>
          <a:stretch/>
        </p:blipFill>
        <p:spPr>
          <a:xfrm>
            <a:off x="2031840" y="2546280"/>
            <a:ext cx="508032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Vesuvius, 79 C.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52280" y="838080"/>
            <a:ext cx="8839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ies of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ompeii and Herculane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ried by massive eruption which blew out about half of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t. Vesuv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1991 eruption of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t. Pinatu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hilipp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uds of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ot g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8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,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um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veloped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tried to escape near sea, but were buried by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yroclastic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bb50342_0801"/>
          <p:cNvPicPr/>
          <p:nvPr/>
        </p:nvPicPr>
        <p:blipFill>
          <a:blip r:embed="rId1"/>
          <a:stretch/>
        </p:blipFill>
        <p:spPr>
          <a:xfrm>
            <a:off x="380880" y="3265560"/>
            <a:ext cx="4724640" cy="3378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20" y="64911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abb50342_0803"/>
          <p:cNvPicPr/>
          <p:nvPr/>
        </p:nvPicPr>
        <p:blipFill>
          <a:blip r:embed="rId2"/>
          <a:stretch/>
        </p:blipFill>
        <p:spPr>
          <a:xfrm>
            <a:off x="5410080" y="3124080"/>
            <a:ext cx="2878200" cy="3487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8020800" y="64911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52280" y="1447920"/>
            <a:ext cx="8839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mixing different values for the three V’s, can define different volcanic land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Three V’s of Volcanology: </a:t>
            </a:r>
            <a:br>
              <a:rPr sz="3600"/>
            </a:b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Volatiles,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abb76698_t08_08"/>
          <p:cNvPicPr/>
          <p:nvPr/>
        </p:nvPicPr>
        <p:blipFill>
          <a:blip r:embed="rId1"/>
          <a:stretch/>
        </p:blipFill>
        <p:spPr>
          <a:xfrm>
            <a:off x="130320" y="2868480"/>
            <a:ext cx="888336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52280" y="1371600"/>
            <a:ext cx="88394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Shield Volcanoes: Low Viscosity, Low Volatiles, Larg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asal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va with low viscosity and low volatiles flows to form gently dipping, thin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sands of layers on top of each other form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very broad, gently sloping volca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ke Mauna Loa in Hawa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Great width compared to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Three V’s of Volcanology: </a:t>
            </a:r>
            <a:br>
              <a:rPr sz="3600"/>
            </a:b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Volatiles,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7468200" y="64911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5" descr="abb50342_0822"/>
          <p:cNvPicPr/>
          <p:nvPr/>
        </p:nvPicPr>
        <p:blipFill>
          <a:blip r:embed="rId1"/>
          <a:stretch/>
        </p:blipFill>
        <p:spPr>
          <a:xfrm>
            <a:off x="152280" y="4419720"/>
            <a:ext cx="88394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52280" y="12952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Hawaiian-type Eru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urtain of fi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: lines of lava fountains up to 300 m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cone with high fountains of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Flo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lava spill out and flow in rivers down sl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uptions last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ays or yea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not life-threatening but destroy buildings and 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Three V’s of Volcanology: </a:t>
            </a:r>
            <a:br>
              <a:rPr sz="3600"/>
            </a:b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Volatiles,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277080" y="62485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national_park_c_ph_755"/>
          <p:cNvPicPr/>
          <p:nvPr/>
        </p:nvPicPr>
        <p:blipFill>
          <a:blip r:embed="rId1"/>
          <a:stretch/>
        </p:blipFill>
        <p:spPr>
          <a:xfrm>
            <a:off x="4572000" y="3581280"/>
            <a:ext cx="403848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Vesuvius, 79 C.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52280" y="838080"/>
            <a:ext cx="8839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suvius wa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inactive for 700 yea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fore 79 CE e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lost fear and moved in closer to volc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79 CE, eruptions in 203, 472, 512, 685, 993, 1036, 1049, 1138-11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 years of quiet, then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631 eru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illed 4,0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 cycles of activity between 1631 and 1944, nothing since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3 million peo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ve within danger of Vesuvius today; 1 million people on slopes of vol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The Hazards of Studying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52280" y="1295280"/>
            <a:ext cx="88394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uptive phases are often separated by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enturies of inactiv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uring people to live in vicinity (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ich volcanic so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,000 people live on flanks of Galeras Volcano in 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eople killed each year by volcanoes, sometimes including volcanolog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canoes may be active over millions of years, with centuries of in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52280" y="2362320"/>
            <a:ext cx="88394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volcanoes in context of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late tect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s in magma’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hemical composition, ability to flow, gas content and vol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termines whether eruptions are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eaceful or explo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22860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Times New Roman"/>
              </a:rPr>
              <a:t>How We Understand Volcanic Eru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52280" y="11430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90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volcanism is associated with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plat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8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preading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ubduction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ing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0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volcanism occurs abov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hot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Plate-Tectonic Setting of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abb50342_0805"/>
          <p:cNvPicPr/>
          <p:nvPr/>
        </p:nvPicPr>
        <p:blipFill>
          <a:blip r:embed="rId1"/>
          <a:stretch/>
        </p:blipFill>
        <p:spPr>
          <a:xfrm>
            <a:off x="4876920" y="914400"/>
            <a:ext cx="3927240" cy="5761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115520" y="62485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52280" y="914400"/>
            <a:ext cx="883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ubduction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s oceanic plate (with water-rich sediments) into hotter mantle, where water lowers melting temperature of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ing magma melts continental crust it passes through,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changing composition of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Plate-Tectonic Setting of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abb50342_0806"/>
          <p:cNvPicPr/>
          <p:nvPr/>
        </p:nvPicPr>
        <p:blipFill>
          <a:blip r:embed="rId1"/>
          <a:stretch/>
        </p:blipFill>
        <p:spPr>
          <a:xfrm>
            <a:off x="380880" y="2589120"/>
            <a:ext cx="8458200" cy="4103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620840" y="62485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52280" y="914400"/>
            <a:ext cx="88394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No volcanism associated with transform faults or continent-continent coll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Oceanic volcanoes are peac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ubduction-zone volcanoes are explosive and danger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duction zones last tens of millions of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canoes may be active any time, with centuries of qui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Plate-Tectonic Setting of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abb50342_0806"/>
          <p:cNvPicPr/>
          <p:nvPr/>
        </p:nvPicPr>
        <p:blipFill>
          <a:blip r:embed="rId1"/>
          <a:stretch/>
        </p:blipFill>
        <p:spPr>
          <a:xfrm>
            <a:off x="1143000" y="3365640"/>
            <a:ext cx="6858000" cy="33271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620840" y="62485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9:56:40Z</dcterms:created>
  <dc:creator>Dell</dc:creator>
  <dc:description/>
  <dc:language>en-US</dc:language>
  <cp:lastModifiedBy>ksu</cp:lastModifiedBy>
  <dcterms:modified xsi:type="dcterms:W3CDTF">2011-11-01T11:06:47Z</dcterms:modified>
  <cp:revision>13</cp:revision>
  <dc:subject/>
  <dc:title>Lecture Outlines Natural Disasters, 6th edition</dc:title>
</cp:coreProperties>
</file>