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4E40-A947-4F08-AD71-9F4085E7C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392-0002-46AD-B6FC-B14D500F5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A868-6C3E-4BDB-A523-0356F551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4A86-E658-4932-972D-A70EAC3C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14BD-DB08-40BB-82EC-26E4EF53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0A9-5FC0-4D9C-84CD-4C467F4D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C05-9489-4442-B960-7443612D1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537-210F-4620-8A5D-B9C5C9B0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73A4-78D5-4487-94FA-3E9E4BA7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8D24-BC37-4BA3-99CB-56ECC272D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1BA3-6E73-413E-82CC-1A233F7B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3E3-7BB4-414A-8016-B19E10AED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BCA4-3B7F-47B1-8659-6D66B663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9D3-3520-45BD-80DB-60E2727DD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E2C2-3997-47C4-B31C-ADE98804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151-D2AA-4A4E-B4C4-AD832BCE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27C-974A-4DF5-8006-C7975E9DF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5B4D-6F4A-4F95-AC87-13A1F7EC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DEC-A0BD-4C7D-903E-17A99CCD2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0D6F-99E6-4B51-93A7-AD9D04DD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2ADD-65D3-4CBD-B107-10C68EF9A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20E0-E607-4E8B-8F1A-750068134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DBB-9BC9-4636-874A-2B4EB061A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B94A-B0E2-434B-AB96-0D8BF6EDD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9C37-CA57-4D79-BA54-EA66612D2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196-6187-4F1C-BB32-FBD6CAA0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057E-F588-494B-A6F1-080867A34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879C-B008-4BD9-9476-993343197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CAA8-819A-46CF-942A-46F19C82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E9BA-FE42-49D1-B37F-12E3476D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32F1-1579-4FEE-8C22-3989B54F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60D-4CC2-47A7-B108-63B5CD10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6778-267F-4C09-8729-567D20AE8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A87-AC73-48E0-BD5D-74684063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72C-2740-45A9-82C3-D83C4F3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8D1-3A7E-4B30-B2C7-3374566F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E5E-B422-48D8-AA95-365BFFDA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6CB-AE59-421F-8DEF-1D0D24ED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73A-FBAB-4A1D-AE58-5EFCA16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25F-9CE5-4871-8CF0-ADE608F6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0F6-58BF-4971-90E0-B6E6F10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4DC-F2B5-4FD8-B794-803341D8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0AB-2F03-4DFD-93FF-D9AC155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C83-C6E7-4060-9A8D-4380D8E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455-E92F-4C9F-87A4-2FED409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2F5D-ED58-42D7-BD61-B7EB435F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Lecture Outlines</a:t>
            </a:r>
            <a:br>
              <a:rPr sz="4800"/>
            </a:b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Natural Disasters, 7</a:t>
            </a:r>
            <a:r>
              <a:rPr b="1" lang="en-US" sz="48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US" sz="4800" spc="-1" strike="noStrike">
                <a:solidFill>
                  <a:srgbClr val="0066cc"/>
                </a:solidFill>
                <a:latin typeface="Times New Roman"/>
              </a:rPr>
              <a:t> e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c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280" y="1219320"/>
            <a:ext cx="8839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turally occurring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more than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we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99.23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arth’s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lic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y far most ab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join up 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tetrahed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ties up with positively charge atoms to form min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93432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bb50342_0807"/>
          <p:cNvPicPr/>
          <p:nvPr/>
        </p:nvPicPr>
        <p:blipFill>
          <a:blip r:embed="rId1"/>
          <a:stretch/>
        </p:blipFill>
        <p:spPr>
          <a:xfrm>
            <a:off x="1905120" y="3917880"/>
            <a:ext cx="5105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2280" y="1447920"/>
            <a:ext cx="8839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 formation in magma: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rystal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Order of crystall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ifferent minerals in magma can be determ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 and magnesium link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livine, pyroxene, amphibol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biot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ium combines with aluminum and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til calcium replaced by sod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lagioclase felds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y; calcium and sodium are later replaced by potassium, to for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otassium feldspa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muscov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milies; finally only Si and O remain, forming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abb50342_0808"/>
          <p:cNvPicPr/>
          <p:nvPr/>
        </p:nvPicPr>
        <p:blipFill>
          <a:blip r:embed="rId1"/>
          <a:stretch/>
        </p:blipFill>
        <p:spPr>
          <a:xfrm>
            <a:off x="914400" y="1327320"/>
            <a:ext cx="7391520" cy="5348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20" y="632448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2280" y="1295280"/>
            <a:ext cx="88394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erals combine to form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m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agma result in differen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gne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ols slow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olidifie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eneath su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uto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agm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rupts and cools quick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surfac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can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Chemical Composition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2280" y="1371600"/>
            <a:ext cx="883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scosity: internal resistance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re flu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, melted ice-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scos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h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ey, tooth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cosity determin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w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ilicon and oxy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trahedr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inera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gher visc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contains dissolved gases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olat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bility increases as pressure increases and temperatur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52280" y="1371600"/>
            <a:ext cx="8839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ree types of magma: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luid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st temper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st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oes not f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up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agma that reaches Earth’s surface, a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it forms from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ing of man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elted mantle at subduction z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ses through continental crust before reaching the surface,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orporating continental high SiO</a:t>
            </a:r>
            <a:r>
              <a:rPr b="1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r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it rises, to becom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es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hyoli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mposition before it e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abb76698_t08_05"/>
          <p:cNvPicPr/>
          <p:nvPr/>
        </p:nvPicPr>
        <p:blipFill>
          <a:blip r:embed="rId1"/>
          <a:stretch/>
        </p:blipFill>
        <p:spPr>
          <a:xfrm>
            <a:off x="735120" y="1415880"/>
            <a:ext cx="76737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52280" y="1522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Temperature and Water Content of Mag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abb50342_0809"/>
          <p:cNvPicPr/>
          <p:nvPr/>
        </p:nvPicPr>
        <p:blipFill>
          <a:blip r:embed="rId1"/>
          <a:stretch/>
        </p:blipFill>
        <p:spPr>
          <a:xfrm>
            <a:off x="990720" y="4267080"/>
            <a:ext cx="3504960" cy="2462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exico_c_ph_755"/>
          <p:cNvPicPr/>
          <p:nvPr/>
        </p:nvPicPr>
        <p:blipFill>
          <a:blip r:embed="rId2"/>
          <a:stretch/>
        </p:blipFill>
        <p:spPr>
          <a:xfrm>
            <a:off x="4952880" y="4191120"/>
            <a:ext cx="3279960" cy="2509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696800" y="4191120"/>
            <a:ext cx="123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3000" y="4267080"/>
            <a:ext cx="112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52280" y="1295280"/>
            <a:ext cx="88394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st abundant dissolved gas in ma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magma rises, pressure decreases, water become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team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eaceful, safe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er content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igh visco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y steam bubbles form and can not escape through thick magma, so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, dangerous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14479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bundant volc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 above hot asthen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henosphere ha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ow SiO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es pull apart so asthenosphere rises and melts under low pressure, changing to high-temperature, l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ow volatile, low viscosity basaltic magma that allow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asy escape of g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aceful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2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is generated by partial melting of the subducting plate with water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s overlying crust to produc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agmas of variable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ma temp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while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onte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cosity increa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iolent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Plate-Tectonic Setting of Volcanoes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abb50342_0811L"/>
          <p:cNvPicPr/>
          <p:nvPr/>
        </p:nvPicPr>
        <p:blipFill>
          <a:blip r:embed="rId1"/>
          <a:stretch/>
        </p:blipFill>
        <p:spPr>
          <a:xfrm>
            <a:off x="3733920" y="3124080"/>
            <a:ext cx="4876560" cy="3635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25153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28600" y="114300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Volcanic Eruptions: Plate Tectonics and Magma </a:t>
            </a:r>
            <a:br>
              <a:rPr sz="40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with heat at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 that is superheated (heated to above its melting temperature) will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rises, it is under less and less pressure so some of it melts (becomes mag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 expansion leads eventually to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hings will cause rock to me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Lowering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Raising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ncreasing water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ing pressure is most common way to melt roc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ecompression me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52280" y="914400"/>
            <a:ext cx="883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ma at depth is under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oo much 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gas bubbles to form (gases stay dissolved in mag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724280" y="1905120"/>
            <a:ext cx="4267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magma rises toward surface, pressure decreases and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as bubbles form and exp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pelling the magma farther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ually gas bubble volume may overwhelm magma, fragmenting it into pieces that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expl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ut as a gas j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abb50342_0812L"/>
          <p:cNvPicPr/>
          <p:nvPr/>
        </p:nvPicPr>
        <p:blipFill>
          <a:blip r:embed="rId1"/>
          <a:stretch/>
        </p:blipFill>
        <p:spPr>
          <a:xfrm>
            <a:off x="685800" y="1981080"/>
            <a:ext cx="3622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05280" y="4114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2280" y="914400"/>
            <a:ext cx="56390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ruption Styles and the Role of Water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water in magma largely determines peaceful or explosive e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ltic magma can erupt violently with enoug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olitic magma usually erupts violently because of high water content, high viscosity (secondary ro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es of volcanic e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nexplosive Icelandic and Hawai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omewhat explosive Strombo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plosive Vulcanian and Pli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782240" y="4495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abb76698_08_14"/>
          <p:cNvPicPr/>
          <p:nvPr/>
        </p:nvPicPr>
        <p:blipFill>
          <a:blip r:embed="rId1"/>
          <a:stretch/>
        </p:blipFill>
        <p:spPr>
          <a:xfrm>
            <a:off x="6006960" y="971640"/>
            <a:ext cx="27590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52280" y="838080"/>
            <a:ext cx="4038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ome Volcanic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water content, low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va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water content, high-viscosity magm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yroclastic deb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abb76698_t08_06"/>
          <p:cNvPicPr/>
          <p:nvPr/>
        </p:nvPicPr>
        <p:blipFill>
          <a:blip r:embed="rId1"/>
          <a:stretch/>
        </p:blipFill>
        <p:spPr>
          <a:xfrm>
            <a:off x="4495680" y="914400"/>
            <a:ext cx="4019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52280" y="8380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Non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mooth ropy rock from highly liquid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ough blocky rock from more viscous l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bb50342_0816"/>
          <p:cNvPicPr/>
          <p:nvPr/>
        </p:nvPicPr>
        <p:blipFill>
          <a:blip r:embed="rId1"/>
          <a:stretch/>
        </p:blipFill>
        <p:spPr>
          <a:xfrm>
            <a:off x="4800600" y="2895480"/>
            <a:ext cx="4105440" cy="323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53200" y="6095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248880" y="61722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abb50342_0815"/>
          <p:cNvPicPr/>
          <p:nvPr/>
        </p:nvPicPr>
        <p:blipFill>
          <a:blip r:embed="rId2"/>
          <a:stretch/>
        </p:blipFill>
        <p:spPr>
          <a:xfrm>
            <a:off x="152280" y="3124080"/>
            <a:ext cx="4419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52280" y="83808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yroclastic debr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roken up fragments of magma and rock from violent gaseous explosions, classified b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deposited 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ir-fall la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ettled from ash clo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speed, gas-charged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yroclastic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abb50342_0817a"/>
          <p:cNvPicPr/>
          <p:nvPr/>
        </p:nvPicPr>
        <p:blipFill>
          <a:blip r:embed="rId1"/>
          <a:stretch/>
        </p:blipFill>
        <p:spPr>
          <a:xfrm>
            <a:off x="380880" y="37339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60" y="3809880"/>
            <a:ext cx="133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7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620480" y="35053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abb50342_0818"/>
          <p:cNvPicPr/>
          <p:nvPr/>
        </p:nvPicPr>
        <p:blipFill>
          <a:blip r:embed="rId2"/>
          <a:stretch/>
        </p:blipFill>
        <p:spPr>
          <a:xfrm>
            <a:off x="4876920" y="380988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2280" y="1523880"/>
            <a:ext cx="4114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xplosiv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quick coo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bsi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volcanic glass forms when magma cools ver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orous rock from cooled froth of magma and bub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How a Volcano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112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abb50342_0819"/>
          <p:cNvPicPr/>
          <p:nvPr/>
        </p:nvPicPr>
        <p:blipFill>
          <a:blip r:embed="rId1"/>
          <a:stretch/>
        </p:blipFill>
        <p:spPr>
          <a:xfrm>
            <a:off x="4648320" y="914400"/>
            <a:ext cx="406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838080"/>
            <a:ext cx="8839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Geys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ruption of water superheated b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only exist in areas of high heat flow under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boils (becomes gas) at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nless it is under pressure – no room for expansion to ga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can be heated to higher than boiling tempera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per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Side Note: How a Geyser Eru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358128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uperheated water reaches point of lower pressure, it flashes to steam violently, and erupts out of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362680" y="6324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abb50342_0820"/>
          <p:cNvPicPr/>
          <p:nvPr/>
        </p:nvPicPr>
        <p:blipFill>
          <a:blip r:embed="rId1"/>
          <a:stretch/>
        </p:blipFill>
        <p:spPr>
          <a:xfrm>
            <a:off x="3505320" y="3352680"/>
            <a:ext cx="5486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09480" y="14479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low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ontrols whether magma flows easily or piles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a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undance may be low, medium or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May ooze out harmlessly or expl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be small, medium or l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eater volume </a:t>
            </a:r>
            <a:r>
              <a:rPr b="0" lang="en-US" sz="28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more intens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forecast different eruptive styles for volcan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abb76698_t08_07"/>
          <p:cNvPicPr/>
          <p:nvPr/>
        </p:nvPicPr>
        <p:blipFill>
          <a:blip r:embed="rId1"/>
          <a:stretch/>
        </p:blipFill>
        <p:spPr>
          <a:xfrm>
            <a:off x="2031840" y="2546280"/>
            <a:ext cx="508032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8380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ompeii and Herculane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ried by massive eruption which blew out about half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t. Vesuv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1991 eruption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t. Pinatu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uds of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ot 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8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,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um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eloped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ried to escape near sea, but were buried by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yroclast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bb50342_0801"/>
          <p:cNvPicPr/>
          <p:nvPr/>
        </p:nvPicPr>
        <p:blipFill>
          <a:blip r:embed="rId1"/>
          <a:stretch/>
        </p:blipFill>
        <p:spPr>
          <a:xfrm>
            <a:off x="380880" y="3265560"/>
            <a:ext cx="4724640" cy="3378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72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abb50342_0803"/>
          <p:cNvPicPr/>
          <p:nvPr/>
        </p:nvPicPr>
        <p:blipFill>
          <a:blip r:embed="rId2"/>
          <a:stretch/>
        </p:blipFill>
        <p:spPr>
          <a:xfrm>
            <a:off x="5410080" y="3124080"/>
            <a:ext cx="2878200" cy="3487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8020800" y="6491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447920"/>
            <a:ext cx="8839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xing different values for the three V’s, can define different volcanic land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abb76698_t08_08"/>
          <p:cNvPicPr/>
          <p:nvPr/>
        </p:nvPicPr>
        <p:blipFill>
          <a:blip r:embed="rId1"/>
          <a:stretch/>
        </p:blipFill>
        <p:spPr>
          <a:xfrm>
            <a:off x="130320" y="2868480"/>
            <a:ext cx="88833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52280" y="1371600"/>
            <a:ext cx="8839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hield Volcanoes: Low Viscosity, Low Volatiles, Larg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Basal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va with low viscosity and low volatiles flows to form gently dipping, thin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sands of layers on top of each other form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ery broad, gently sloping volca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ke Mauna Loa in 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Great width compared to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468200" y="64911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5" descr="abb50342_0822"/>
          <p:cNvPicPr/>
          <p:nvPr/>
        </p:nvPicPr>
        <p:blipFill>
          <a:blip r:embed="rId1"/>
          <a:stretch/>
        </p:blipFill>
        <p:spPr>
          <a:xfrm>
            <a:off x="152280" y="4419720"/>
            <a:ext cx="8839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52280" y="12952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Hawaiian-type Eru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urtain of fi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: lines of lava fountains up to 300 m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ne with high fountains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ava spill out and flow in rivers down s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uptions las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ays or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not life-threatening but destroy buildings and 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The Three V’s of Volcanology: 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Times New Roman"/>
              </a:rPr>
              <a:t>Viscosity, Volatiles, Vol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77080" y="62485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national_park_c_ph_755"/>
          <p:cNvPicPr/>
          <p:nvPr/>
        </p:nvPicPr>
        <p:blipFill>
          <a:blip r:embed="rId1"/>
          <a:stretch/>
        </p:blipFill>
        <p:spPr>
          <a:xfrm>
            <a:off x="4572000" y="3581280"/>
            <a:ext cx="40384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Vesuvius, 79 C.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838080"/>
            <a:ext cx="883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suvius wa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nactive for 700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79 CE e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lost fear and moved in closer to vol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79 CE, eruptions in 203, 472, 512, 685, 993, 1036, 1049, 1138-1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years of quiet, the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631 eru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illed 4,0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cycles of activity between 1631 and 1944, nothing since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 million peo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ve within danger of Vesuvius today; 1 million people on slopes of vol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The Hazards of Studying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1295280"/>
            <a:ext cx="8839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uptive phases are often separated by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enturies of in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uring people to live in vicinity (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rich volcanic so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 people live on flanks of Galeras Volcano in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eople killed each year by volcanoes, sometimes including volcanolog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oes may be active over millions of years, with centuries of in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236232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volcanoes in context of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magma’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chemical composition, ability to flow, gas content and volu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termines whether eruptions are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eaceful or explo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2860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How We Understand Volcanic Eru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1430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9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is associated with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lat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8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preading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 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volcanism occurs above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ot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abb50342_0805"/>
          <p:cNvPicPr/>
          <p:nvPr/>
        </p:nvPicPr>
        <p:blipFill>
          <a:blip r:embed="rId1"/>
          <a:stretch/>
        </p:blipFill>
        <p:spPr>
          <a:xfrm>
            <a:off x="4876920" y="914400"/>
            <a:ext cx="392724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11552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280" y="9144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ubduction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s oceanic plate (with water-rich sediments) into hotter mantle, where water lowers melting temperature of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magma melts continental crust it passes through,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changing composition of ma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abb50342_0806"/>
          <p:cNvPicPr/>
          <p:nvPr/>
        </p:nvPicPr>
        <p:blipFill>
          <a:blip r:embed="rId1"/>
          <a:stretch/>
        </p:blipFill>
        <p:spPr>
          <a:xfrm>
            <a:off x="380880" y="2589120"/>
            <a:ext cx="8458200" cy="41036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No volcanism associated with transform faults or continent-continen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Oceanic volcanoes are peac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Subduction-zone volcanoes are explosive and 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uction zones last tens of millions of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canoes may be active any time, with centuries of qu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52280" y="152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Times New Roman"/>
              </a:rPr>
              <a:t>Plate-Tectonic Setting of Volcan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abb50342_0806"/>
          <p:cNvPicPr/>
          <p:nvPr/>
        </p:nvPicPr>
        <p:blipFill>
          <a:blip r:embed="rId1"/>
          <a:stretch/>
        </p:blipFill>
        <p:spPr>
          <a:xfrm>
            <a:off x="1143000" y="3365640"/>
            <a:ext cx="6858000" cy="3327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7620840" y="62485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9:56:40Z</dcterms:created>
  <dc:creator>Dell</dc:creator>
  <dc:description/>
  <dc:language>en-US</dc:language>
  <cp:lastModifiedBy>ksu</cp:lastModifiedBy>
  <dcterms:modified xsi:type="dcterms:W3CDTF">2011-11-01T11:06:47Z</dcterms:modified>
  <cp:revision>13</cp:revision>
  <dc:subject/>
  <dc:title>Lecture Outlines Natural Disasters, 6th edition</dc:title>
</cp:coreProperties>
</file>