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24E4-3B07-4E56-B761-E0CFB2C2C3C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776F-A6BD-4AE3-95B7-D6D46FCE4D7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353-3A75-4A40-BED3-AC671B6E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F98-9EE9-475D-9110-E71BCD6E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1D8-BC1D-4C16-A208-D75E0FF7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EB6-8810-4F8A-BCCE-5E517A94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EBE-48DC-481C-9F40-553CDCC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78E-033E-41FA-AC62-292FD1B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122-6077-47BE-BF82-AF598FBE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4E7-DB0B-48AC-AE91-D9044269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59E1-8CA6-49E2-9406-41C9CD56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35D-2DC0-4AD0-89BF-335C7D3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9E6-E6A1-4156-8337-2DA87EC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F53-D616-4176-B133-40307EA7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16F3-0E80-494E-B7A2-6920CDA9634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BF9-C099-4AF5-A680-4267084EC18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BE9F-C3BC-4A91-BA72-1A4A1A2AA1E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E965-7AED-45D7-A308-F8253D51268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get started with...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Comic Sans MS"/>
              </a:rPr>
              <a:t>Logic</a:t>
            </a:r>
            <a:r>
              <a:rPr b="0" lang="en-US" sz="6600" spc="-1" strike="noStrike">
                <a:solidFill>
                  <a:srgbClr val="00ccff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6702-CDD5-4EFF-9395-1D7F1C9ED2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7FB-7B66-4FCC-AA7F-3553718B3A9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bining Propos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we have seen in the previous examples, one or more propositions can be combined to form a single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ound proposi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formalize this by denoting propositions with letters such as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, q, r, s,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introducing several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ogical operator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10A8-B49C-42A2-BA1B-56CAB5FE67D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8EFA-158E-4C02-8525-E40F74A1947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Operators (Connective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examine the following logical operator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A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clusive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X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plication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–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iconditiona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and only if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uth tables can be used to show how these operators can combine propositions to compound proposi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D0F1-5BF8-4F08-AB87-82F811DDA3D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37C-B5EE-464C-A6F4-CC8C06F1839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gation (NOT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2666880"/>
          <a:ext cx="5333760" cy="274320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5A4-1749-4CEA-ACD2-4ED657F6D60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A31-2027-4970-A268-BDDB4FFCD3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junction (AND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2438280"/>
          <a:ext cx="5334120" cy="3257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38E-6412-43CC-AEBD-F9C889F456A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083-CD67-4113-81AB-60396D240B5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junction (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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832E-13E5-42D3-B792-5441F27386A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6691-258E-49A2-8147-0E3C1FF6935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clusive Or (X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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22C9-1354-4712-9C37-205F9AA34E0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9F35-8282-4C22-BEB1-A24B8FD3268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mplication (if - then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0B7B-2C77-4161-AFE7-D26878AA3AE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74DD-6B34-486E-800A-8F5A14EE454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iconditional (if and only if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7C73-13EB-4F6E-B1D2-316AB81F7D3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031E-182F-4F37-89B5-12E84F044EC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o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438280"/>
          <a:ext cx="67150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3040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257-F822-43B9-812A-714B4C5625C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C85-7120-4881-889C-2BB23CB5B22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438280"/>
          <a:ext cx="729144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70676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AB7-61E2-43FC-BCE7-D67DCCCBF1C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3FB-CF2E-4E34-8143-D6A60F88B9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ogi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rucial for mathematical reason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ed for designing electronic circuitr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gic is a system based 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osi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proposition is a statement that is eithe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not both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th val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proposition is either true (T) or false (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s to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digital circui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FD7A-4EAD-4247-8771-14BFA69BC9B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D53-66A2-48DA-BE68-921A7FABDEA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quivalent Statemen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82072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233720"/>
                <a:gridCol w="1673280"/>
                <a:gridCol w="3039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4876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statement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nd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re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ogically equivalen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 sinc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is always tru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5F2-4445-4193-81FC-1307E7531BD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DFF8-F868-4329-AF80-9E2B60306B0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 is a statement that is alway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B659-5A29-41D6-8F93-D8467720A0D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C310-4AC1-4407-A4DA-DA22D269BA3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ntradiction is a statement that is alway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egation of any tautology is a contra-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ction, and the negation of any contradiction i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76DB-F2CB-4B6C-8119-C4F37C3E9F7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824F-32A0-4F4E-8014-D952553E4BE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positional function (open sentence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involving one or more variable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.g.: x-3 &gt; 5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all this propositional function P(x), where P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42670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32448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8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" y="5486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9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32448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32448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874A-82F9-48F6-A2E7-65F08D6A4B6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FE62-8CAB-411F-8223-9E50DFC16D2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onsider the propositional fun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(x, y, z) defined as: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 = 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Q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, y, and z are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7200" y="42670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2, 3, 5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0, 1, 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57200" y="54864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9, -9, 0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4380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754380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8238-FE7F-4CAD-8E73-DA1B791A226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9EA9-9E14-468D-B62B-E9DC3043F0C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x) be a propositional fun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nivers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all x in the universe of discourse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univers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for all x P(x)” or “for every x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not a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F96E-E766-47F9-8802-D20CC3FC5A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0BE1-672F-4D20-A872-00C397D420C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(x): x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S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is a UMBC student, then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UMBC students are geniuse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EB48-3A63-485D-B1B6-6F2ACD749CE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74A3-2C62-4E94-8715-8FE59419859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istenti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exists an x in the universe of discourse for which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existenti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There is an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    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is at least one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but no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F80A-9A08-48BB-8898-1B03B11B7EE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9177-4888-45A3-806A-A7D74CBC9A6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(x): x is a UMBC profess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 x such that x is a UMBC professor and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 least one UMBC professor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5B7-0E77-4ABA-8ABC-D3BE4FF08B2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35F2-F01F-4FEA-B63C-8A36877FE96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the universe of discourse be the real numb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y (x + y = 320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x there exists a y so that x + y = 32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0492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04920" y="51055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 for the natural numbe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781680" y="434340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781680" y="5105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2656-69CE-43FA-8889-869CBFD7D7B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E5D3-3AFF-4D1B-A80A-D217B5C5733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Elephants are bigger than mice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DC9B-3FF9-472A-8B05-4DBC1AC2E48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E35-D6C6-40CF-A11C-CAABBD569E7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proof by Counterexam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unterexample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is an object c so that P(c) is fals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s such a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(x)) can be disproved by simply providing a counterexamp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4419720"/>
            <a:ext cx="76960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tement: “All birds can fl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proved by counterexample: Pengui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2C55-B6A8-46D4-813E-37004124853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A8A4-1F4F-461E-8CE6-A2CAC8241F9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g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ee Table 3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 recommend exercises 5 and 9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6E09-F977-47B7-9059-287DC2FB5D8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831F-A869-4D3D-ACC3-6941C92D38D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ty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mination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mpotent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ouble Negation Law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mutative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  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ociative Laws: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BAB-3490-45BE-8813-47254DA7C6C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3C58-DDAD-43EF-B7A9-E9DECEC18EB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ve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eMorgan’s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bsorption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Negation Laws: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7C1F-117D-4668-B62A-E7B81980DCC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201E-36D7-4E69-9792-1F4F1255E9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d the truth table of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q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)]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n important Theorem) Show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Show the Corollary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Using the tables on page 24, verify the Absorption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8D1F-B16A-49F4-B77C-CDD71CEF3B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AF4D-27B9-42D5-91A9-88E096487AE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) For each integer, n, if 4 divides n, the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divide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]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+ 1)]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E30D-1DB9-40A9-8995-879B3596B3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9E9-7DDF-47ED-BE20-AF4DDFD9690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520 &lt; 111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AA85-85E5-4717-990C-C32B83F99F7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40C-DB00-4CAB-AAE4-928C4D3AB48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y &gt; 5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29718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15000" y="29718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3809880"/>
            <a:ext cx="8381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s truth value depends on the value of y, but this value is not specified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call this type of statement a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ropositional func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open sentenc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4D7-E912-4DD1-AC49-F915B3B1705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D0EA-1F4E-4A8D-B735-0B438547BE3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oday is January 1  and  99 &lt; 5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" y="32767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715000" y="32767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286E-CE46-499F-ABCE-372CF218CFE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B31D-2B0E-4217-A7F3-3AFE68D1BCE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lease do not fall asleep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40384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715000" y="40384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" y="48769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y statements can be proposition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57200" y="2971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’s a reques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C1E-5665-4214-8F38-7C0C530B664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D2A7-E666-44A2-AA96-4A245533ED4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If elephants were red,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hey could hide in cherry trees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27432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5000" y="27432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7200" y="35812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715000" y="35812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" y="45720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15000" y="51055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obably 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ECF-54D0-43A7-9C3B-7BDFE16FCAB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AB04-9C25-4EE3-AAB7-5D9151B047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x &lt; y if and only if y &gt; x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905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715000" y="19051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7200" y="48769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715000" y="54100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312408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cause its truth value  does not depend on specific values of x and 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2:49Z</dcterms:modified>
  <cp:revision>45</cp:revision>
  <dc:subject/>
  <dc:title>PowerPoint Presentation</dc:title>
</cp:coreProperties>
</file>