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76E5-F381-43F3-8B76-FC921E00BEB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1F73-9C9F-434F-9A2B-0E9A8D0FD99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01D-43F7-4BAC-94F3-4388DA69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654-E41A-4AF3-9728-02928646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64E-165E-4D02-81BF-8D43E653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635-BE7D-4BF6-956A-FF119B09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14E-280A-434D-A190-028E0D07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218-AD83-4EA4-8864-C14F9AD2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3E7-E516-4F2F-9E8B-25FE49EE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93A-3FD6-48FC-B7AE-2A1DEE1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594-F975-4CA1-8150-A7BDBBB2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557-7840-436B-AA29-2894FFE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48B-0AEA-42F7-8E59-84CFD2B2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F55-9957-430B-88ED-8D73351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C947-C247-4F9E-AFDF-DCD7045522E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2254-F5E1-4CF4-859A-F1A24ACFA8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9E7-2291-4F8B-8103-93074A4DEE4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E37-0B59-4904-908C-854ADB31C51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et’s get started with...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Comic Sans MS"/>
              </a:rPr>
              <a:t>Logic</a:t>
            </a:r>
            <a:r>
              <a:rPr b="0" lang="en-US" sz="6600" spc="-1" strike="noStrike">
                <a:solidFill>
                  <a:srgbClr val="00ccff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D41-8B26-43AB-BA7F-D5E0E3AC8E0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8E6-E4E9-4469-AFA4-92D62FF71CA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bining Propos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we have seen in the previous examples, one or more propositions can be combined to form a single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ound proposi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formalize this by denoting propositions with letters such as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, q, r, s,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nd introducing several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logical operator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04DB-9D8F-4FA1-BCDD-89664155D92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5B8-3767-457A-8C20-F9F907E1FA6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Operators (Connective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examine the following logical operator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A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clusive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X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plication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– the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iconditiona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and only if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uth tables can be used to show how these operators can combine propositions to compound proposi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41F4-9017-4546-B512-126D109C624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C76A-8EA1-4A67-8F58-C1483F958A4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gation (NOT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5120" y="2666880"/>
          <a:ext cx="5333760" cy="274320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A34-A652-412E-B074-5E1C752114A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A7D3-FD96-4AB1-83D5-14A417B6A8E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junction (AND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09680" y="2438280"/>
          <a:ext cx="5334120" cy="325764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F4F3-3FF6-4A15-9577-36305DF9EFB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7CF-D5C1-4988-A9A2-18878535B2D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junction (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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D8F-798B-4A08-B10A-012BC79A0CF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57D-5F69-454E-916B-80CD60928EC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xclusive Or (X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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096E-2C43-4D2D-ADBC-D56EAB64E17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ED1-43A2-46E7-8B93-E45648C7FE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mplication (if - then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43A-1355-4A5A-9683-2CA4A4725DF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B512-155F-46A0-9302-CFC8831AF5B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iconditional (if and only if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51C7-69B6-4BEC-B417-F34DDB13D14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A25D-49FB-4C82-925F-3C6206E9943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o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2438280"/>
          <a:ext cx="67150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3040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6B1-E195-4CEC-9A18-F908B1A669C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F55B-0C4F-4009-9267-0CFC68532D5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438280"/>
          <a:ext cx="729144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70676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6229-6FB7-48C0-A430-AE7DA001719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A45-8935-431F-81DF-8D99F10251D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ogi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rucial for mathematical reasoni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ed for designing electronic circuitr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gic is a system based 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posi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proposition is a statement that is eithe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not both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th val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proposition is either true (T) or false (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s to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digital circui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5172-0791-4AA4-9CE1-A87A7D446A2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E3E-0B3B-48BE-8292-72B276A0500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quivalent Statemen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82072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233720"/>
                <a:gridCol w="1673280"/>
                <a:gridCol w="3039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4876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statement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nd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re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logically equivalen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 sinc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is always tru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A38-F08A-430A-9E25-2CF17898B9E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508-C1C2-4C2A-B6A1-4151B509B9F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 is a statement that is alway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60B4-6E1F-45C2-81D8-0A196E0929F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862-E54C-43BF-A7FA-7697009185E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ntradiction is a statement that is alway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egation of any tautology is a contra-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ction, and the negation of any contradiction i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F31-D569-40E1-978C-F46AA105206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E27E-7A96-4424-AE7D-848982D06AA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positional function (open sentence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 involving one or more variable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.g.: x-3 &gt; 5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all this propositional function P(x), where P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" y="42670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32448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8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" y="5486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9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32448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32448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76C-7AE9-4A4E-9CD2-31F919BF975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9E43-005C-422A-9F6D-876999756EF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onsider the propositional functio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(x, y, z) defined as: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 = 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e, Q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, y, and z are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7200" y="42670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2, 3, 5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4380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0, 1, 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57200" y="54864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9, -9, 0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4380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754380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87F-4622-4839-9D3A-3EC0951FBDE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54E-0602-4765-800C-B7324386267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x) be a propositional fun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nivers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all x in the universe of discourse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univers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for all x P(x)” or “for every x P(x)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not a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FB3-6786-4D61-B429-6B6A7D0E12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36A-35D8-4F6A-8517-B8C6816DE4E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(x): x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S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is a UMBC student, then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UMBC students are geniuse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01B-38E7-4803-88ED-9D1C1EEF7AF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2D0F-1A62-4983-8820-9F6248ED6DF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istenti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exists an x in the universe of discourse for which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existenti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There is an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     “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is at least one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but no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4978-75A9-4A6F-9DC8-0E1C002F4AD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11FC-5796-4740-A353-98101AB3F9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(x): x is a UMBC profess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 x such that x is a UMBC professor and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 least one UMBC professor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F94A-FE12-4EDA-ABFB-C93B3DCBB4D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C598-BC31-4380-806D-60EA54085F3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the universe of discourse be the real numb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y (x + y = 320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x there exists a y so that x + y = 32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0492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04920" y="51055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 for the natural numbe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781680" y="434340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781680" y="5105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EE2-D887-42D0-9E14-7A4EE9191BB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FE08-A5EE-4DD9-95DB-4CAE794C9AF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Elephants are bigger than mice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D74-67D0-4F5E-9E41-A5B6D19B494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F7DD-05F0-4FE7-8AF8-F5BB1808038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proof by Counterexam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unterexample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is an object c so that P(c) is fals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s such a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(x)) can be disproved by simply providing a counterexamp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3520" y="4419720"/>
            <a:ext cx="76960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atement: “All birds can fl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proved by counterexample: Pengui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C34-3794-44BA-96B4-CA5C47D082B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0708-4052-4C41-8526-3FCF3B6ABCB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g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ee Table 3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I recommend exercises 5 and 9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B683-EF84-4029-82AB-412C7863A7E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29EF-F744-4CFE-8CC9-FB4A39C869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ty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mination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mpotent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ouble Negation Law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mutative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  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ociative Laws: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0916-958A-481D-8BA0-61B3FA28E41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51A-96D7-4E71-B7F7-1CBBF7F8368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ve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eMorgan’s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bsorption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Negation Laws: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35E1-11D1-4AB9-B596-3640C6EC516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6D25-4F36-47A4-8736-6DF6D2A7D67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d the truth table of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q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)]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n important Theorem) Show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Show the Corollary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Using the tables on page 24, verify the Absorption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1175-7BC4-4F99-A5EE-475A1E3AD12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979-DB09-4E50-93C7-9074C39577E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) For each integer, n, if 4 divides n, the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divide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]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+ 1)]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1570-C353-48CE-957F-99F090FBF58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E406-99B7-4DE9-92C8-8238585831A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520 &lt; 111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699-BAAC-4A96-9E67-F2D028614A8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E9DA-1AEA-4CDB-88CB-88D39290AF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y &gt; 5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29718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15000" y="29718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3809880"/>
            <a:ext cx="8381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s truth value depends on the value of y, but this value is not specified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call this type of statement a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ropositional func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open sentenc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3861-8C8B-4413-AF16-4C2D6F69944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C87A-DC2B-46FA-8DCA-639D63217AD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oday is January 1  and  99 &lt; 5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" y="32767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715000" y="32767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A5AB-62A2-4286-AF69-59BA5A3541D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21D9-453D-4D4B-9162-972293965D8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lease do not fall asleep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40384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715000" y="40384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57200" y="487692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y statements can be proposition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57200" y="29718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’s a reques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FE3-3240-4ACC-8A7E-389EB2C52ED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B79A-200C-44A6-B419-2619066947F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If elephants were red,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hey could hide in cherry trees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27432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715000" y="27432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57200" y="35812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715000" y="35812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57200" y="457200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15000" y="510552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robably 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CF4A-721C-48D0-AE2A-CFCBEDCBDBE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7590-E360-4B7D-8EDD-34433544781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x &lt; y if and only if y &gt; x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9051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715000" y="19051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57200" y="48769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715000" y="54100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" y="312408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cause its truth value  does not depend on specific values of x and y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2:49Z</dcterms:modified>
  <cp:revision>45</cp:revision>
  <dc:subject/>
  <dc:title>PowerPoint Presentation</dc:title>
</cp:coreProperties>
</file>