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C94B-CEC5-4175-B79F-5B273EB0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0C66-4A8C-4DE6-B889-AE6C6C60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5E33-8AFA-4A92-9360-FDB94655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AF71-980B-4958-86BA-F4657B6F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B9CF-D4B0-46BD-AFD2-303D9B6B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23A9-BC19-48B9-8C80-05109F6B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98D2-A65A-4D49-93F4-F73BCD7B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2A77-9090-4C0F-AD45-85C6D51D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8DEE-2813-49EA-A745-BA63AEE6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CCE7-63E6-4696-8E9B-5DA6E1B1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2F0B-AE0D-452A-A07B-9BA9A3A0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0FE8-24D1-46F7-AAFF-0EA68F7A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929B-8AFF-4CFE-B616-C266B5B0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9F43-1C83-49CF-BBCF-38A0716D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16CC-E3C6-4665-A740-6BFCB436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E77F-532B-493B-8520-26F25F72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B1B3-5995-4E9C-88CF-3906ED89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54040-58F9-47B5-8571-EE638731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E820F-BF1A-4094-A7D8-C3B634A5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DFC31-19A6-4AE3-A8F8-F27B54C9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28C2E-E798-4D83-8877-74A2DDA2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ECBF0-5816-460D-9C36-36525139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A399-CBB9-4A2F-9692-85EDDC40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C5097-0AED-4E79-8AAC-F4705069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C967F-5972-4159-BB0E-F86C2185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89102-3EB9-4445-BAB1-DA03FBF3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78C9D-3D82-4CF3-8586-2B75DC93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D831F-657B-42D3-B441-8C59C2E3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ECA39-95AA-424B-95F3-B7DC644C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5F1B5-C909-4D38-BAA2-D3C1E90D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009EB-9FD5-46A8-9139-6BD1CEE5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AA9D7-F6C7-4AEA-9F5E-40B0BB00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E6E93-787D-4B60-AD4E-18CB69E4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B8C5-DDA9-4908-B1CD-63E0040E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973C6-89EF-4EDC-BB5E-D4AFD5B0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7094A-4302-4E3E-A42A-043E5A40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8B963-8AD2-4178-A412-E4EDD7B5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71A17-2DFC-417A-8848-A8D0F809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D9C45-5571-402B-9081-8118E641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15067-C0CB-4EB8-9081-CD4DD4E1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89B6C-07D6-4A05-80BC-D10BED6D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F0EA1-9DAA-47C8-80E8-43D4C682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57EF3-7B12-427E-834C-F76A15F9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44CDE-3565-421E-BAE4-AA980E7E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FD29-EAC3-4546-B3E1-576160ED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9D05D-D58A-4B8C-9A74-D7DFFBF4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7D205-BD80-48FB-B62A-C89078C0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DC275-1A7F-4600-9938-64ADF2A8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E0070-1182-4311-AA30-A557AF57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9908A-DAC5-4655-B3C3-A230E75D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97D2E-63FA-417A-A5FD-1D4DCDDE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54D26-8F5E-41CF-B759-390CA15C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9ABD3-FAD3-4B39-B613-49E31CBE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474C0-4BED-4E05-B7EC-204F47C1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32BA6-1706-40C7-8994-4CCC5F57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C7D0-8E58-4A0A-BEFD-EE042420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E2F19-9B6B-4067-B3ED-037F6EB8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CE15-B9D1-4E65-BE89-7F833C12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E165-AF1F-4057-9895-FC250BD6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51CE-D434-4159-8609-849A0D3B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5E57-6C94-4B9D-A232-00BE9976310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C30E-74B1-445E-A172-7B124E26F3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7B6A-153D-4D9E-918A-10BF689092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AA19-EE2C-451C-B6D3-6D2B2F56FA1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5C16-EAB8-49D0-A6A2-AB1602DC0B9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2533c"/>
                </a:solidFill>
                <a:latin typeface="Arial"/>
              </a:rPr>
              <a:t>MACROMOLECULES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Video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What are Macromolecules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Rounded Rectangle 3"/>
          <p:cNvSpPr/>
          <p:nvPr/>
        </p:nvSpPr>
        <p:spPr>
          <a:xfrm>
            <a:off x="2133720" y="2819520"/>
            <a:ext cx="4419360" cy="198108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Dehydration reaction (synthesis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Rounded Rectangle 3"/>
          <p:cNvSpPr/>
          <p:nvPr/>
        </p:nvSpPr>
        <p:spPr>
          <a:xfrm>
            <a:off x="2209680" y="2895480"/>
            <a:ext cx="4953240" cy="20574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Peptide Bond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6" name="Rounded Rectangle 3"/>
          <p:cNvSpPr/>
          <p:nvPr/>
        </p:nvSpPr>
        <p:spPr>
          <a:xfrm>
            <a:off x="1981080" y="2819520"/>
            <a:ext cx="5257800" cy="20574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Lipid structure functi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Rounded Rectangle 3"/>
          <p:cNvSpPr/>
          <p:nvPr/>
        </p:nvSpPr>
        <p:spPr>
          <a:xfrm>
            <a:off x="2286000" y="2895480"/>
            <a:ext cx="4572000" cy="213372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11:58:57Z</dcterms:created>
  <dc:creator>ASUS</dc:creator>
  <dc:description/>
  <dc:language>en-US</dc:language>
  <cp:lastModifiedBy>Administrator</cp:lastModifiedBy>
  <dcterms:modified xsi:type="dcterms:W3CDTF">2012-03-12T07:14:15Z</dcterms:modified>
  <cp:revision>3</cp:revision>
  <dc:subject/>
  <dc:title>Macromolecules</dc:title>
</cp:coreProperties>
</file>