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D0A-BB44-4EA0-A701-0B9DD327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B42-9166-4537-BD99-77FE0AA7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437-5A14-442B-8529-E46E2FC2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AD1-26C1-4126-B9B2-E3F14BC4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BBD9-0274-4291-89EF-B3809527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F97D-E626-454A-93CC-AC39E0E8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23DE-ED20-4BEB-B119-9ECA9BC2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5E5E-F860-4CF8-B88C-732AD2DE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B5FE-4483-45D7-890F-27FA08D8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F9FF-2715-453E-96D5-CC4A2130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3129-E6A4-42A4-BD67-4A37ABD8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F46-A112-495F-B5F7-E5995FB6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5126-0C44-4149-B80C-30AD5A78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5835-8371-478A-B623-7B3EFAF8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556B-605B-4F51-959D-BF02B6D1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8154-C652-4D2A-98BC-71D35015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FD95-0F1C-407A-9C49-86F49522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335F4-B574-470C-9E46-4D315DBE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883DB-05F1-43BD-9BF5-DECCA84B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DE37-4BEA-4A3D-BA9B-4C4ACA3E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43BC-749B-456A-BF92-868E30F9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6943C-1C3D-42BE-96D0-ED43A286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C22-D8E4-4865-829B-8E89A2AF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E4B0-6F97-4A6A-96D5-34CF1B79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6E6F-65B8-450A-BC74-42AE0335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5A43-CFBC-4A41-A8E6-56310C80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1FB4A-DDD3-44D5-AE3D-699EAAD7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33B5-241D-4CE1-AD41-8D26530E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BA920-4890-4091-8E55-8DE74CBF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E8D9-12D5-49CC-B0AE-4D811195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98400-E5DC-456C-BE9F-B4DCF1CE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0CDE2-86A6-4393-931D-09085BA6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F8C7B-902C-4B5D-81DC-5098AA21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224-7A81-49D3-9CCF-7D122DA5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3E067-1F83-442F-A7AF-97AEA18B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C02FF-43C4-4497-B627-6146BA1C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828A-B3BE-4277-97F4-45AC6947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1C6F-889D-430E-AD04-FDCCD931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15C56-787F-4DC9-8775-F626D5D9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561F9-79A9-4B08-A667-E293F21B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A27FD-4E22-4812-80BF-49A92BAF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63A0-174B-4394-9849-4659669D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E452C-61E6-4383-8420-EE6E1C66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A62F0-9B81-491F-A01A-608E95AC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485-D5D3-4920-86BC-6C7D5D9E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8F06B-AB37-438B-B067-406DB152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5AAF7-C2B8-4A78-864A-104509EF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3D850-F423-41EE-BEBF-00C3A802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4A6E5-2437-47EE-AB26-36F9DE4C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169E6-5114-4C77-B4CC-9BA82A6D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DB072-0865-43A4-BE0D-14669DD2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FC04B-780A-47DF-AF63-9654A67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7880A-F2F8-49CD-8BFE-0B12948B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EB7DE-3F84-4C26-B7C1-002A58AC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18148-574F-400E-A2CD-3CEAF6B0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D8E-C26F-42E7-9964-3045CAAD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4E474-CA33-43F2-B86E-5057AA7F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8B2-9E43-4CB2-AACE-67E4ADD8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DF3-0BEA-4DAD-9916-CF20F0E3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8DE-65DE-4BDA-9C14-05ABA714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3E27-F88B-4841-96D4-3D51C27630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C52D-AB61-437B-8E81-532A67B0BC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2066-A0C4-4D8C-ABCB-7040B2D09F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3F90-68CB-4D7C-A3FE-0DA4D7EFDB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A792-4548-410B-80C3-CF7A9937F9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MACROMOLECULES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What are Macromolecules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Rounded Rectangle 3"/>
          <p:cNvSpPr/>
          <p:nvPr/>
        </p:nvSpPr>
        <p:spPr>
          <a:xfrm>
            <a:off x="2133720" y="2819520"/>
            <a:ext cx="4419360" cy="198108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ehydration reaction (synthesis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Rounded Rectangle 3"/>
          <p:cNvSpPr/>
          <p:nvPr/>
        </p:nvSpPr>
        <p:spPr>
          <a:xfrm>
            <a:off x="2209680" y="2895480"/>
            <a:ext cx="4953240" cy="20574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Peptide Bon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Rounded Rectangle 3"/>
          <p:cNvSpPr/>
          <p:nvPr/>
        </p:nvSpPr>
        <p:spPr>
          <a:xfrm>
            <a:off x="1981080" y="2819520"/>
            <a:ext cx="5257800" cy="205740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ipid structure function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Rounded Rectangle 3"/>
          <p:cNvSpPr/>
          <p:nvPr/>
        </p:nvSpPr>
        <p:spPr>
          <a:xfrm>
            <a:off x="2286000" y="2895480"/>
            <a:ext cx="4572000" cy="2133720"/>
          </a:xfrm>
          <a:prstGeom prst="roundRect">
            <a:avLst>
              <a:gd name="adj" fmla="val 16667"/>
            </a:avLst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1:58:57Z</dcterms:created>
  <dc:creator>ASUS</dc:creator>
  <dc:description/>
  <dc:language>en-US</dc:language>
  <cp:lastModifiedBy>Administrator</cp:lastModifiedBy>
  <dcterms:modified xsi:type="dcterms:W3CDTF">2012-03-12T07:14:15Z</dcterms:modified>
  <cp:revision>3</cp:revision>
  <dc:subject/>
  <dc:title>Macromolecules</dc:title>
</cp:coreProperties>
</file>