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59C-4A62-4258-97A6-26E38EF7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24E-E2EB-48F8-9B09-FE3F38DF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90D-8B51-4171-88AE-49E6BE1F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86B-DB69-4A39-9577-627ED91A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F2FA-EA3F-496F-8BD9-77A481A7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55B0-D4A8-4C90-8187-A7F4FC80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5A30-BCC2-4736-B930-5A504CF9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BDDC-6D0D-4192-AD2A-92A2B3E4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520D-EFC1-4777-B631-6C5CDD8D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4824-D00B-457E-A8FF-26F235A8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6FF2-F6B4-472D-B6F5-9BE1173D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4F3-BBF9-4983-8A22-CDD7E1A2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CC94-9253-4EFC-9522-9BBD08A7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D474-8CF6-4D20-BCEA-94F9BC78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ED63-C859-46BA-ACE6-4EACC93B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48A9-C025-4B2F-8854-3BDE2E9B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B1E0-EB58-463C-9317-F46463FC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E747-E2D7-4E32-B0B7-FEB3786F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879-A988-41E5-9363-2BA48E4B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4AB-C979-4DAB-8D20-844D3DFD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E87-A06D-408A-A449-D96E1159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F02-D94E-4121-8C87-3DCBF6D4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B1E-551F-41D7-98FA-D609045D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0B8-C5CB-44D1-A702-8DE9EF40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ce9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ce9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3271-23DF-46A4-9BB1-B610AE4E281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e9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17E7-DF62-4FAB-B082-9BD7543314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hapter 5: Magma And Volcano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5" name="Picture 4" descr="C:\My Documents\backup 27 may 2003\WileyWeb\skinner_photos\5.5.jpg"/>
          <p:cNvPicPr/>
          <p:nvPr/>
        </p:nvPicPr>
        <p:blipFill>
          <a:blip r:embed="rId1"/>
          <a:stretch/>
        </p:blipFill>
        <p:spPr>
          <a:xfrm>
            <a:off x="53352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6400800" y="6019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Gases Dissolved in Magma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mall amounts of gas (0.2 to 3% by weight) are dissolved in all magm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rincipal gas in water vapor, which, together with carbon dioxide, accounts for more than 98 percent of all gases emitted from volcanoe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emperature of Magmas and Lava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temperatures range from 100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to 120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temperatures can reach 140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 under some condi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iscosity of Magmas and Lava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internal property of a substance that offers resistance to flow is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viscosit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more viscous a magma, the less easily it flow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iscosity of a magma depends on temperature and composition (especially the silica and dissolved-gas contents)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iscosity of Magmas and Lava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higher the temperature, the lower the viscosity, and the more readily magma flow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smooth, ropy-surfaced lava in Hawaii, formed from a very hot, very fluid lava is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ahoeho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rough-looking lava formed from a cooler lava having a high viscosity is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a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ah ah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iscosity of Magmas and Lava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greater the silica content, the larger is the polymerized group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or this reason, rhyolitic magma (70% silica) is always more viscous than basaltic magma (50% silica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ndesitic magma has a viscosity that is intermediate between the two (60% silica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How Buoyant Magma Erupts on the Surface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is less dense than the solid rock from which it form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ressure is proportional to depth (thickness of overlying rock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refore, as magma rises upward, the pressure on it decreas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How Buoyant Magma Erupts on the Surface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essure controls the amount of gas a magma can dissolve—more at high pressure, less at low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as dissolved in an upward-moving magma comes out of solution and forms bubb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Style—Nonexplosive or Explosive?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nexplosive eruptions occur notably in Hawaii, Iceland, and the seafloo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y are relatively saf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difference between nonexplosive and explosive eruptions depends largely on magma viscosity and dissolved-gas conte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ow viscosity magmas and low dissolved gas contents  produce nonexplosive erup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Style—Nonexplosive or Explosive?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nexplosive eruptions may appear violent during their initial stag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reason is that gas bubbles in a low-viscosity basaltic magma will rise rapidly upward, like the gas bubbles in a glass of sod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f a basaltic magma rises rapidly, spectacular lava fountains will occu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Introduction: Earth’s Internal Thermal Engine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is molten rock beneath Earth’s surfa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ecause liquid magma is less dense than surrounding solid rock, and obviously more mobile, magma, once formed, rises toward the surfa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that reaches the surface does so by erupting through vents we call volcan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Style—Nonexplosive or Explosive?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ecause heat is lost quickly at the surface of the flowing lava, the surface solidifies into a crust, beneath which the liquid lava continues to flow in well-defined channels called lava tub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very fluid lava initially forms thin pahoehoe flow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ith increasing viscosity the rate of movement slows and the stickier lava may be transformed into a rough surfaced aa flow that moves very slowly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esicles and Amygdul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lava finally solidified to rock, the last-formed bubbles become trapped; these bubble preserved in the rock are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vesic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esicles filled by secondary minerals are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mygdu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xplosive Eruption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 viscous andesitic or rhyolitic magmas, gas bubbles can rise only very slowl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confining pressure drops quickly, the gas in a magma expand into a froth of innumerable glass-walled bubbles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umi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xplosive Eruption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 many instances, instead of forming pumice, small bubbles expanding within a huge mass of sufficiently gas-rich, viscous magma will shatter the magma into tiny fragments called volcanic as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olcanic ash is the most abundant product of explosive erup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Columns and Tephra Fall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largest and the most violent eruptions are associated with silica-rich magmas having a high dissolved-gas conte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is hot, turbulent mixture rises rapidly in the cooler air above the vent to form an eruption column that may tower as high as 45 km in the atmospher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Columns and Tephra Fall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 violent eruption of this kind is called a plinian eruption, named after the Roman author and statesman, Pliny, who lost his life in the A.D. 79 eruption of Mt. Vesuviu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articles of debris rain down in a tephra fall and eventually accumulate on the ground as tephra deposi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yroclastic Flow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the mixture of hot gases and pyroclasts is more dense than the atmosphere, the turbulent mixture flows down the side of the volcano rather than forming an eruption colum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 hot, highly mobile flow of tephra that rushes down the flank of a volcano during a major eruption is called a pyroclastic flow (the most devastating and lethal forms of volcanic eruption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yroclastic Flow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yroclastic flows are also known as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nu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é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 ardente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glowing cloud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istoric observations indicate that pyroclastic flows can reach velocities of more than 700 km/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 1902, a pyroclastic flow rushed down the flanks of Mont Pelee Volcano at an estimated speed of 200 KM/h, instantly killing 29,000 peopl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Lateral Blast—Mount St. Helen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 1980, Mount St. Helens, a volcano in Washington, erupted violentl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 magma rose under the volcano, the mountain’s north flank began to bulge upward and outwar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initial blast was sideways rather than upward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600 km</a:t>
            </a:r>
            <a:r>
              <a:rPr b="1" lang="en-US" sz="2400" spc="-1" strike="noStrike" baseline="30000">
                <a:solidFill>
                  <a:srgbClr val="003366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f trees in the once-dense forest were levele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:\CH05\05.10.jpg"/>
          <p:cNvPicPr/>
          <p:nvPr/>
        </p:nvPicPr>
        <p:blipFill>
          <a:blip r:embed="rId1"/>
          <a:stretch/>
        </p:blipFill>
        <p:spPr>
          <a:xfrm>
            <a:off x="2816280" y="0"/>
            <a:ext cx="351144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0" y="6324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5.1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o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term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volcan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comes from the name of the Roman god of fire, Vulca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re are different types of volcan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ruption vary from gentle flows (Hawaii and Iceland) to catastrophic explosions (Mount St. Helens, Mt. Pinatubo, Soufriere Hills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majority of eruption never make the news because they occur beneath the ocean, unobserve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oes 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re are two broad families of volcano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ose formed by eruptions from a central ven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ose that erupt through a long fissu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entral-vent eruptions build mounds of the kind most people associate with volcan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ssure eruptions build plateau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entral-vent Volcano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ased on their size and shape, there are three broad classes of central-vent volcanoes: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hield volcano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ephra co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ratovolcano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hield Volcanoe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 shield volcano produces a broad, dome-shaped mountain with an average surface slope of only a few degre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ow-viscosity basaltic lavas can flow for kilometers down gentle slop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accumulated lava from repeated eruptions of low-viscosity lava build a shield volcan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hield Volcanoe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farther lava flows down the flank, the cooler and more viscous it becomes, so the steeper the slope must be for it to flow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arge shield volcanoes rise as islands in the ocean (Hawaiian Islands, Tahiti, Samoa, the Galapagos, and many other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Picture 4" descr="C:\My Documents\backup 27 may 2003\WileyWeb\skinner_photos\5.11.jpg"/>
          <p:cNvPicPr/>
          <p:nvPr/>
        </p:nvPicPr>
        <p:blipFill>
          <a:blip r:embed="rId1"/>
          <a:stretch/>
        </p:blipFill>
        <p:spPr>
          <a:xfrm>
            <a:off x="0" y="0"/>
            <a:ext cx="9372600" cy="5702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30492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1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Picture 4" descr="C:\My Documents\backup 27 may 2003\WileyWeb\skinner_photos\5.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609480" y="60958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09480" y="6095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1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hield Volcanoe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una Loa volcano, for example, rises to a height of 4169 m above sea level, but if measured from the seafloor the height is 10,000 m, making Mauna Loa the tallest mountain on Earth.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ephra Con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ephra cone is built by shower of pyroclastic debris around a volcanic ve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slopes of tephra cones are steep, typically about 3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atovolcanoe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ome volcanoes (andesitic composition) emit both viscous lava flows and tephr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emissions tend to alternate, forming alternating strata of lava and tephra, building a stratovolcan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tratovolcano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arg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nical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eep-side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atovolcanoe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ear the summit, a stratovolcano’s slope may reach 4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ward the base, the slope flattens to about 6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 a stratovolcano develops, lava flows act as a cap to slow erosion of the loose tephra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agma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has a wide range of compositions, but silica (SiO</a:t>
            </a:r>
            <a:r>
              <a:rPr b="1" lang="en-US" sz="2800" spc="-1" strike="noStrike" baseline="-14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) always dominates the mix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has high temperatur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is fluid—it has the ability to flow. Most magma actually is a mixture of liquid (often referred to as melt) and solid mineral grai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atovolcanoe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volcano becomes much larger and steeper than a typical tephra con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unt Fuji (Japan), Mount Rainier, Mount Baker in Washington State, Mount Hood in Oregon, Mt Mayon in the Philippines are stratovolcan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her Features of Central Eruption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ater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unnel-shaped depressions with steep-sided walls that open upwar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raters form in two way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y the collapse of the steep sides of the ven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y an explosive erup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 subsequent eruptions, pressure blasts open the vent, removing both the solidified magma from the previous eruption and part of the crater wall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crater can grow slowly larger, eruption by erup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her Features of Central Eruption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ava dome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f the magma is very viscous (as in a rhyolitic or andesitic magma), it squeezes out to form a lava dom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8" name="Picture 4" descr="C:\My Documents\backup 27 may 2003\WileyWeb\skinner_photos\5.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848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286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1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her Features of Central Eruption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aldera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Caldera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s from the Spanish word for cauldr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roughly circular, steep-walled basin about a kilometer in diameter or larger.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alderas are created by collapse of the surface rock following an eruption and partial emptying of the underlying magma chambe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rater lake in Oregon occupies a circular caldera 8 km in diamete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F:\CH05\05.19.jpg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67816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0" y="6461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5.1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her Features of Central Eruptions (4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surgent dom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ften, more magma enters the chamber and lifts the collapsed caldera floor to form a resurgent dom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iatrem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olcanic pipes filled with a rubbles of broken rock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walls are vertical, or very nearly s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famous diatreme is the diamond mine in Kimberly, South Afric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ssure Eruption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ssure eruptions extrude lava along an elongate fracture in the crus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fissure eruptions occur on land, the low-viscosity basaltic lava tends to spread widely and to create flat lava plai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uch lavas are called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lateau basalt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0" name="Picture 4" descr="C:\My Documents\backup 27 may 2003\WileyWeb\skinner_photos\5.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380880" y="6172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2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ssure Eruption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Laki eruption, in Iceland in1783, occurred along a 32 km long fracture. Lava from it flowed 64 km from one side of the fracture and nearly 48 km from the other, covering 588 km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Laki eruption is the largest lava flow of any kind in historic tim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amine followed and more than 9000 died (20 percent of the Icelandic population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mposition of Magmas and Lava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composition of magmas and lavas is controlled by the most abundant elements in the Earth—Si, Al, Fe, Ca, Mg, Na, K, H, and 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ree distinct types of magma are more common than other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asaltic, containing about 50 percent SiO</a:t>
            </a:r>
            <a:r>
              <a:rPr b="1" lang="en-US" sz="2400" spc="-1" strike="noStrike" baseline="-14000">
                <a:solidFill>
                  <a:srgbClr val="003366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ndesitic, about 60 percent SiO</a:t>
            </a:r>
            <a:r>
              <a:rPr b="1" lang="en-US" sz="2400" spc="-1" strike="noStrike" baseline="-14000">
                <a:solidFill>
                  <a:srgbClr val="003366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hyolitic, about 70 percent SiO</a:t>
            </a:r>
            <a:r>
              <a:rPr b="1" lang="en-US" sz="2400" spc="-1" strike="noStrike" baseline="-14000">
                <a:solidFill>
                  <a:srgbClr val="003366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ssure Eruption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illow basalt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hen the basaltic magma erupts under the ocean, seawater cools it so rapidly that pillow-shaped masses of basalt, ranging from a few centimeters to a meter or more in greatest dimension form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ssure eruptions of andesitic or rhyolitic magma are much less common than fissure eruptions of basaltic lav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8" name="Picture 4" descr="C:\My Documents\backup 27 may 2003\WileyWeb\skinner_photos\5.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228600" y="6400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18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ssure Eruptions (4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ometimes the pyroclasts in the tephra are so hot that the fragments form welded tuf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ome 40 to 50 million years ago, huge ash-flow eruptions happened in Nevad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erupted product covered an area in excess of 200,000 km</a:t>
            </a:r>
            <a:r>
              <a:rPr b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4" name="Picture 4" descr="C:\My Documents\backup 27 may 2003\WileyWeb\skinner_photos\5.22.jpg"/>
          <p:cNvPicPr/>
          <p:nvPr/>
        </p:nvPicPr>
        <p:blipFill>
          <a:blip r:embed="rId1"/>
          <a:stretch/>
        </p:blipFill>
        <p:spPr>
          <a:xfrm>
            <a:off x="0" y="380880"/>
            <a:ext cx="9372600" cy="6127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0" y="6400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2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osteruption effect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active volcanism finally ceases, rock in and near an old magma chamber may remain hot for hundreds of thousands of yea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rmal spring at many volcanic sites (Italy, Japan, and New Zealand) have become famous health spas and sources of energy.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thermal spring that intermittently erupts water and steam is a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geyse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ost of the world’s geysers outside Iceland are in New Zealand and in Yellowstone National Park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F:\CH05\05.B03.jpg"/>
          <p:cNvPicPr/>
          <p:nvPr/>
        </p:nvPicPr>
        <p:blipFill>
          <a:blip r:embed="rId1"/>
          <a:stretch/>
        </p:blipFill>
        <p:spPr>
          <a:xfrm>
            <a:off x="609480" y="0"/>
            <a:ext cx="8534520" cy="6353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0" y="6324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B5.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F:\CH05\05.B04.jpg"/>
          <p:cNvPicPr/>
          <p:nvPr/>
        </p:nvPicPr>
        <p:blipFill>
          <a:blip r:embed="rId1"/>
          <a:stretch/>
        </p:blipFill>
        <p:spPr>
          <a:xfrm>
            <a:off x="244008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0" y="6324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B5.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ic Hazard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olcanic eruptions are not rare on land, and are essentially continuous on the seafloo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very year about 50 volcanoes erupt on the Earth’s continen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st eruptions are basalti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ephra eruptions from andesitic or rhyolitic stratovolcanoes like Mount St. Helens and Krakatau can be disastrou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ic Hazard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ruptions present five kinds of hazard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ot, rapidly moving pyroclastic flows and laterally directed blasts can overwhelm people before they can evacuat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ont Pelee in 1902 and Mount St. Helens in 1980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ephra and hot poisonous gases can bury or suffocate peopl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79 Mount Vesuvius in A.D. 79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ic Hazard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udflows, called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lahars,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can be devastating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In 1985, the Colombian volcano Nevado del Ruiz experienced a small, nonthreatening eruption. But, when glaciers at the summit melted, massive mudflows of volcanic debris moved swiftly down the mountain , killing 20,000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iolent undersea eruptions can cause powerful sea waves called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tsunami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Krakatau, in 1883, killed more than 36,000 on Java and nearby Indonesia island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tephra eruption can disrupt agriculture, creating a famin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:\CH05\05.01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143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5.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Picture 4" descr="C:\My Documents\backup 27 may 2003\WileyWeb\skinner_photos\5.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380880" y="63244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2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4" name="Picture 4" descr="C:\My Documents\backup 27 may 2003\WileyWeb\skinner_photos\5.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457200" y="6248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2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lates and Volcanoe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distribution of active volcanoes around the world is strongly influenced by plate margi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st of the world’s volcanism happen beneath the sea, along the 64,000 km midocean ridg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bout 15 percent of all active volcanoes are located along spreading cente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celand, the Azores, and the East African Rift Valley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lates and Volcanoe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st of the world’s visible and active volcanoes are located where two plates collide and one is subducted beneath the oth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ter released from the subducted plate leads to the formation of andesitic magma by wet partial melting of mantle rock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lates and Volcanoe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acific Ocean is ringed on three sides by subducting plate margin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bout 5 percent of all active volcanoes are located in the interiors of plat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awaiian volcano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ubmarine Volcanism and the Composition of Seawater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nesium and sulfur are removed from seawater by the hot rock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alcium and the other chemical elements are adde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hot rocks of the midocean ridge are a major factor in maintaining the composition of seawate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Basaltic Magma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asaltic magmas are erupted by approximately 80 percent of volcanoes worldwide (the seafloor worldwide is mostly basalt)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from Hawaiian volcanoes such as Kilauea and Mauna Loa is basalti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entire island of Iceland is basalti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Andesitic and Rhyolitic Magma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ndesitic magmas are about 10 percent of the total magma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agma from Mount St. Helens in Washington State and Krakatau in Indonesia is usually andesiti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hyolitic magmas are about 10 percent of the total magma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agmas erupted from volcanoes that once were active at Yellowstone Park are mostly rhyoliti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1" name="Picture 3" descr="C:\My Documents\backup 27 may 2003\WileyWeb\skinner_photos\5.3.jpg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6935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219320" y="6248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00:37:59Z</dcterms:created>
  <dc:creator>Denyse Lemaire</dc:creator>
  <dc:description/>
  <dc:language>en-US</dc:language>
  <cp:lastModifiedBy>Dell</cp:lastModifiedBy>
  <dcterms:modified xsi:type="dcterms:W3CDTF">2011-10-06T00:49:13Z</dcterms:modified>
  <cp:revision>64</cp:revision>
  <dc:subject/>
  <dc:title>Chapter 5</dc:title>
</cp:coreProperties>
</file>