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F41A-39B8-4D91-9FB6-2AE0B514B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9032-3755-4546-8B10-3AB28472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959B-E914-4D3F-A843-3752274C9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E20F-C90B-4B5D-A1F7-56CD0C113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AD58-E62E-482D-AA97-C89709571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6C85-4D35-4E88-A88E-F5954FF9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CA74-568F-4D34-945E-B1E01A41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210F-BB93-48F7-9160-8FD8AFAA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CE1A-D153-464D-A8D5-521B1ADD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E783-8BFB-4EA9-A74F-6BA150D7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DCB8-F687-46F7-8F72-025365F0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EC0F-3E99-4DB7-BF0C-F00C5874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4860-A39A-4893-B7BD-212D4E46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04C2-A7DA-4155-B6FA-7A9D22A0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EBC4-4981-4726-AA0D-739E3227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3E77-F34B-49AB-83A8-B2DE281E7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021D-ADDD-4773-A4ED-A0B2EFC36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4E9A-6A13-43F7-9EAB-ED5EFB67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384C-FB61-4827-89E2-1A746B37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25E7-C1C5-40AF-809B-E716C129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2C2A-FF03-48A2-B271-E2C46E1E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8EBC-88D6-4069-B64C-B0A957C8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EDCF-ADA1-4BCB-8B75-DE671376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000C-31CB-44B3-80A0-E652E099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ce9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ce9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9AE4-27B9-482F-8D4F-69CE3DCB9CF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ce9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52AE-1A90-4BFF-9613-444A2AA1E76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Chapter 5: Magma And Volcanoe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5" name="Picture 4" descr="C:\My Documents\backup 27 may 2003\WileyWeb\skinner_photos\5.5.jpg"/>
          <p:cNvPicPr/>
          <p:nvPr/>
        </p:nvPicPr>
        <p:blipFill>
          <a:blip r:embed="rId1"/>
          <a:stretch/>
        </p:blipFill>
        <p:spPr>
          <a:xfrm>
            <a:off x="533520" y="0"/>
            <a:ext cx="8001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6400800" y="60199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gure 5.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Gases Dissolved in Magma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mall amounts of gas (0.2 to 3% by weight) are dissolved in all magma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principal gas in water vapor, which, together with carbon dioxide, accounts for more than 98 percent of all gases emitted from volcanoes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Temperature of Magmas and Lava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agma temperatures range from 1000</a:t>
            </a:r>
            <a:r>
              <a:rPr b="1" lang="en-US" sz="28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to 1200</a:t>
            </a:r>
            <a:r>
              <a:rPr b="1" lang="en-US" sz="28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agma temperatures can reach 1400</a:t>
            </a:r>
            <a:r>
              <a:rPr b="1" lang="en-US" sz="28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 under some condition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Viscosity of Magmas and Lavas (1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internal property of a substance that offers resistance to flow is called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viscosity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more viscous a magma, the less easily it flow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Viscosity of a magma depends on temperature and composition (especially the silica and dissolved-gas contents)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Viscosity of Magmas and Lavas (2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higher the temperature, the lower the viscosity, and the more readily magma flow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smooth, ropy-surfaced lava in Hawaii, formed from a very hot, very fluid lava is called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pahoeho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rough-looking lava formed from a cooler lava having a high viscosity is called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aa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(ah ah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Viscosity of Magmas and Lavas (3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greater the silica content, the larger is the polymerized group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or this reason, rhyolitic magma (70% silica) is always more viscous than basaltic magma (50% silica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ndesitic magma has a viscosity that is intermediate between the two (60% silica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How Buoyant Magma Erupts on the Surface (1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agma is less dense than the solid rock from which it form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pressure is proportional to depth (thickness of overlying rock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herefore, as magma rises upward, the pressure on it decreas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How Buoyant Magma Erupts on the Surface (2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Pressure controls the amount of gas a magma can dissolve—more at high pressure, less at low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as dissolved in an upward-moving magma comes out of solution and forms bubbl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Eruption Style—Nonexplosive or Explosive? (1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Nonexplosive eruptions occur notably in Hawaii, Iceland, and the seafloor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hey are relatively saf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difference between nonexplosive and explosive eruptions depends largely on magma viscosity and dissolved-gas conten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Low viscosity magmas and low dissolved gas contents  produce nonexplosive eruption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Eruption Style—Nonexplosive or Explosive? (2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Nonexplosive eruptions may appear violent during their initial stag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he reason is that gas bubbles in a low-viscosity basaltic magma will rise rapidly upward, like the gas bubbles in a glass of soda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f a basaltic magma rises rapidly, spectacular lava fountains will occur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Introduction: Earth’s Internal Thermal Engine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agma is molten rock beneath Earth’s surfac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ecause liquid magma is less dense than surrounding solid rock, and obviously more mobile, magma, once formed, rises toward the surfac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agma that reaches the surface does so by erupting through vents we call volcano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Eruption Style—Nonexplosive or Explosive? (3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ecause heat is lost quickly at the surface of the flowing lava, the surface solidifies into a crust, beneath which the liquid lava continues to flow in well-defined channels called lava tub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very fluid lava initially forms thin pahoehoe flow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ith increasing viscosity the rate of movement slows and the stickier lava may be transformed into a rough surfaced aa flow that moves very slowly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Vesicles and Amygdule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hen lava finally solidified to rock, the last-formed bubbles become trapped; these bubble preserved in the rock are called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vesicl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Vesicles filled by secondary minerals are called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amygdul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Explosive Eruptions (1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n viscous andesitic or rhyolitic magmas, gas bubbles can rise only very slowly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hen confining pressure drops quickly, the gas in a magma expand into a froth of innumerable glass-walled bubbles called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pumic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Explosive Eruptions (2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n many instances, instead of forming pumice, small bubbles expanding within a huge mass of sufficiently gas-rich, viscous magma will shatter the magma into tiny fragments called volcanic ash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Volcanic ash is the most abundant product of explosive eruption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Eruption Columns and Tephra Falls (1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largest and the most violent eruptions are associated with silica-rich magmas having a high dissolved-gas conten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is hot, turbulent mixture rises rapidly in the cooler air above the vent to form an eruption column that may tower as high as 45 km in the atmospher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Eruption Columns and Tephra Falls (2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 violent eruption of this kind is called a plinian eruption, named after the Roman author and statesman, Pliny, who lost his life in the A.D. 79 eruption of Mt. Vesuviu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particles of debris rain down in a tephra fall and eventually accumulate on the ground as tephra deposit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Pyroclastic Flows (1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hen the mixture of hot gases and pyroclasts is more dense than the atmosphere, the turbulent mixture flows down the side of the volcano rather than forming an eruption column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 hot, highly mobile flow of tephra that rushes down the flank of a volcano during a major eruption is called a pyroclastic flow (the most devastating and lethal forms of volcanic eruption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Pyroclastic Flows (2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Pyroclastic flows are also known as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nu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é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e ardente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(glowing cloud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Historic observations indicate that pyroclastic flows can reach velocities of more than 700 km/h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n 1902, a pyroclastic flow rushed down the flanks of Mont Pelee Volcano at an estimated speed of 200 KM/h, instantly killing 29,000 peopl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Lateral Blast—Mount St. Helen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n 1980, Mount St. Helens, a volcano in Washington, erupted violently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s magma rose under the volcano, the mountain’s north flank began to bulge upward and outward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initial blast was sideways rather than upward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600 km</a:t>
            </a:r>
            <a:r>
              <a:rPr b="1" lang="en-US" sz="2400" spc="-1" strike="noStrike" baseline="30000">
                <a:solidFill>
                  <a:srgbClr val="003366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of trees in the once-dense forest were leveled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F:\CH05\05.10.jpg"/>
          <p:cNvPicPr/>
          <p:nvPr/>
        </p:nvPicPr>
        <p:blipFill>
          <a:blip r:embed="rId1"/>
          <a:stretch/>
        </p:blipFill>
        <p:spPr>
          <a:xfrm>
            <a:off x="2816280" y="0"/>
            <a:ext cx="351144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0" y="63244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Figure 5.10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Volcanoe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term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volcano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comes from the name of the Roman god of fire, Vulca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re are different types of volcano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ruption vary from gentle flows (Hawaii and Iceland) to catastrophic explosions (Mount St. Helens, Mt. Pinatubo, Soufriere Hills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majority of eruption never make the news because they occur beneath the ocean, unobserved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Volcanoes 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re are two broad families of volcanoe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hose formed by eruptions from a central vent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hose that erupt through a long fissur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entral-vent eruptions build mounds of the kind most people associate with volcano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issure eruptions build plateau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Central-vent Volcanoe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ased on their size and shape, there are three broad classes of central-vent volcanoes: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hield volcano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ephra co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tratovolcano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hield Volcanoes (1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 shield volcano produces a broad, dome-shaped mountain with an average surface slope of only a few degre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Low-viscosity basaltic lavas can flow for kilometers down gentle slop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accumulated lava from repeated eruptions of low-viscosity lava build a shield volcan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hield Volcanoes (2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farther lava flows down the flank, the cooler and more viscous it becomes, so the steeper the slope must be for it to flow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Large shield volcanoes rise as islands in the ocean (Hawaiian Islands, Tahiti, Samoa, the Galapagos, and many others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5" name="Picture 4" descr="C:\My Documents\backup 27 may 2003\WileyWeb\skinner_photos\5.11.jpg"/>
          <p:cNvPicPr/>
          <p:nvPr/>
        </p:nvPicPr>
        <p:blipFill>
          <a:blip r:embed="rId1"/>
          <a:stretch/>
        </p:blipFill>
        <p:spPr>
          <a:xfrm>
            <a:off x="0" y="0"/>
            <a:ext cx="9372600" cy="57024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304920" y="6248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gure 5.1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9" name="Picture 4" descr="C:\My Documents\backup 27 may 2003\WileyWeb\skinner_photos\5.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1023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609480" y="60958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609480" y="60958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gure 5.13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hield Volcanoes (3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auna Loa volcano, for example, rises to a height of 4169 m above sea level, but if measured from the seafloor the height is 10,000 m, making Mauna Loa the tallest mountain on Earth.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Tephra Cone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ephra cone is built by shower of pyroclastic debris around a volcanic ven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slopes of tephra cones are steep, typically about 30</a:t>
            </a:r>
            <a:r>
              <a:rPr b="1" lang="en-US" sz="28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atovolcanoes (1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ome volcanoes (andesitic composition) emit both viscous lava flows and tephra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emissions tend to alternate, forming alternating strata of lava and tephra, building a stratovolcan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tratovolcanoes ar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Larg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onical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teep-sided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atovolcanoes (2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Near the summit, a stratovolcano’s slope may reach 40</a:t>
            </a:r>
            <a:r>
              <a:rPr b="1" lang="en-US" sz="28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oward the base, the slope flattens to about 6</a:t>
            </a:r>
            <a:r>
              <a:rPr b="1" lang="en-US" sz="2800" spc="-1" strike="noStrike" baseline="30000">
                <a:solidFill>
                  <a:srgbClr val="003366"/>
                </a:solidFill>
                <a:latin typeface="Times New Roman"/>
              </a:rPr>
              <a:t>o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o</a:t>
            </a:r>
            <a:r>
              <a:rPr b="1" lang="en-US" sz="2800" spc="-1" strike="noStrike" baseline="30000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003366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s a stratovolcano develops, lava flows act as a cap to slow erosion of the loose tephra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Magma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agma has a wide range of compositions, but silica (SiO</a:t>
            </a:r>
            <a:r>
              <a:rPr b="1" lang="en-US" sz="2800" spc="-1" strike="noStrike" baseline="-14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) always dominates the mix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agma has high temperatur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agma is fluid—it has the ability to flow. Most magma actually is a mixture of liquid (often referred to as melt) and solid mineral grain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atovolcanoes (3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volcano becomes much larger and steeper than a typical tephra con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ount Fuji (Japan), Mount Rainier, Mount Baker in Washington State, Mount Hood in Oregon, Mt Mayon in the Philippines are stratovolcano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Other Features of Central Eruptions (1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aters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Funnel-shaped depressions with steep-sided walls that open upward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raters form in two ways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By the collapse of the steep sides of the vent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By an explosive eruption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 subsequent eruptions, pressure blasts open the vent, removing both the solidified magma from the previous eruption and part of the crater wall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 crater can grow slowly larger, eruption by eruptio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Other Features of Central Eruptions (2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Lava domes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f the magma is very viscous (as in a rhyolitic or andesitic magma), it squeezes out to form a lava dom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8" name="Picture 4" descr="C:\My Documents\backup 27 may 2003\WileyWeb\skinner_photos\5.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1848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28600" y="6248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gure 5.16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Other Features of Central Eruptions (3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alderas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Caldera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is from the Spanish word for cauldro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 roughly circular, steep-walled basin about a kilometer in diameter or larger.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alderas are created by collapse of the surface rock following an eruption and partial emptying of the underlying magma chamber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rater lake in Oregon occupies a circular caldera 8 km in diameter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F:\CH05\05.19.jpg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67816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3"/>
          <p:cNvSpPr/>
          <p:nvPr/>
        </p:nvSpPr>
        <p:spPr>
          <a:xfrm>
            <a:off x="0" y="6461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Figure 5.19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Other Features of Central Eruptions (4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Resurgent dome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Often, more magma enters the chamber and lifts the collapsed caldera floor to form a resurgent dome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iatreme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Volcanic pipes filled with a rubbles of broken rock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he walls are vertical, or very nearly so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 famous diatreme is the diamond mine in Kimberly, South Africa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Fissure Eruptions (1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issure eruptions extrude lava along an elongate fracture in the crus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hen fissure eruptions occur on land, the low-viscosity basaltic lava tends to spread widely and to create flat lava plain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uch lavas are called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plateau basalt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0" name="Picture 4" descr="C:\My Documents\backup 27 may 2003\WileyWeb\skinner_photos\5.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0544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5"/>
          <p:cNvSpPr/>
          <p:nvPr/>
        </p:nvSpPr>
        <p:spPr>
          <a:xfrm>
            <a:off x="380880" y="6172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gure 5.2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Fissure Eruptions (2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Laki eruption, in Iceland in1783, occurred along a 32 km long fracture. Lava from it flowed 64 km from one side of the fracture and nearly 48 km from the other, covering 588 km</a:t>
            </a:r>
            <a:r>
              <a:rPr b="1" lang="en-US" sz="28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he Laki eruption is the largest lava flow of any kind in historic tim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Famine followed and more than 9000 died (20 percent of the Icelandic population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Composition of Magmas and Lava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composition of magmas and lavas is controlled by the most abundant elements in the Earth—Si, Al, Fe, Ca, Mg, Na, K, H, and 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ree distinct types of magma are more common than others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Basaltic, containing about 50 percent SiO</a:t>
            </a:r>
            <a:r>
              <a:rPr b="1" lang="en-US" sz="2400" spc="-1" strike="noStrike" baseline="-14000">
                <a:solidFill>
                  <a:srgbClr val="003366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ndesitic, about 60 percent SiO</a:t>
            </a:r>
            <a:r>
              <a:rPr b="1" lang="en-US" sz="2400" spc="-1" strike="noStrike" baseline="-14000">
                <a:solidFill>
                  <a:srgbClr val="003366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Rhyolitic, about 70 percent SiO</a:t>
            </a:r>
            <a:r>
              <a:rPr b="1" lang="en-US" sz="2400" spc="-1" strike="noStrike" baseline="-14000">
                <a:solidFill>
                  <a:srgbClr val="003366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Fissure Eruptions (3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Pillow basalt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hen the basaltic magma erupts under the ocean, seawater cools it so rapidly that pillow-shaped masses of basalt, ranging from a few centimeters to a meter or more in greatest dimension form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issure eruptions of andesitic or rhyolitic magma are much less common than fissure eruptions of basaltic lava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8" name="Picture 4" descr="C:\My Documents\backup 27 may 2003\WileyWeb\skinner_photos\5.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11496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5"/>
          <p:cNvSpPr/>
          <p:nvPr/>
        </p:nvSpPr>
        <p:spPr>
          <a:xfrm>
            <a:off x="228600" y="6400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gure 5.18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Fissure Eruptions (4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ometimes the pyroclasts in the tephra are so hot that the fragments form welded tuff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ome 40 to 50 million years ago, huge ash-flow eruptions happened in Nevada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he erupted product covered an area in excess of 200,000 km</a:t>
            </a:r>
            <a:r>
              <a:rPr b="1" lang="en-US" sz="24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4" name="Picture 4" descr="C:\My Documents\backup 27 may 2003\WileyWeb\skinner_photos\5.22.jpg"/>
          <p:cNvPicPr/>
          <p:nvPr/>
        </p:nvPicPr>
        <p:blipFill>
          <a:blip r:embed="rId1"/>
          <a:stretch/>
        </p:blipFill>
        <p:spPr>
          <a:xfrm>
            <a:off x="0" y="380880"/>
            <a:ext cx="9372600" cy="612792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"/>
          <p:cNvSpPr/>
          <p:nvPr/>
        </p:nvSpPr>
        <p:spPr>
          <a:xfrm>
            <a:off x="0" y="64008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gure 5.2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Posteruption effect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hen active volcanism finally ceases, rock in and near an old magma chamber may remain hot for hundreds of thousands of year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rmal spring at many volcanic sites (Italy, Japan, and New Zealand) have become famous health spas and sources of energy.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 thermal spring that intermittently erupts water and steam is a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geyser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Most of the world’s geysers outside Iceland are in New Zealand and in Yellowstone National Park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F:\CH05\05.B03.jpg"/>
          <p:cNvPicPr/>
          <p:nvPr/>
        </p:nvPicPr>
        <p:blipFill>
          <a:blip r:embed="rId1"/>
          <a:stretch/>
        </p:blipFill>
        <p:spPr>
          <a:xfrm>
            <a:off x="609480" y="0"/>
            <a:ext cx="8534520" cy="6353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3"/>
          <p:cNvSpPr/>
          <p:nvPr/>
        </p:nvSpPr>
        <p:spPr>
          <a:xfrm>
            <a:off x="0" y="63244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Figure B5.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F:\CH05\05.B04.jpg"/>
          <p:cNvPicPr/>
          <p:nvPr/>
        </p:nvPicPr>
        <p:blipFill>
          <a:blip r:embed="rId1"/>
          <a:stretch/>
        </p:blipFill>
        <p:spPr>
          <a:xfrm>
            <a:off x="2440080" y="0"/>
            <a:ext cx="426384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3"/>
          <p:cNvSpPr/>
          <p:nvPr/>
        </p:nvSpPr>
        <p:spPr>
          <a:xfrm>
            <a:off x="0" y="6324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Figure B5.3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Volcanic Hazards (1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Volcanic eruptions are not rare on land, and are essentially continuous on the seafloor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very year about 50 volcanoes erupt on the Earth’s continent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ost eruptions are basaltic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ephra eruptions from andesitic or rhyolitic stratovolcanoes like Mount St. Helens and Krakatau can be disastrou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Volcanic Hazards (2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ruptions present five kinds of hazard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Hot, rapidly moving pyroclastic flows and laterally directed blasts can overwhelm people before they can evacuate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Mont Pelee in 1902 and Mount St. Helens in 1980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ephra and hot poisonous gases can bury or suffocate peopl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79 Mount Vesuvius in A.D. 79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Volcanic Hazards (3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Mudflows, called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lahars,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can be devastating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In 1985, the Colombian volcano Nevado del Ruiz experienced a small, nonthreatening eruption. But, when glaciers at the summit melted, massive mudflows of volcanic debris moved swiftly down the mountain , killing 20,000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Violent undersea eruptions can cause powerful sea waves called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tsunami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Krakatau, in 1883, killed more than 36,000 on Java and nearby Indonesia island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 tephra eruption can disrupt agriculture, creating a famin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F:\CH05\05.01.jpg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41436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5943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Figure 5.1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0" name="Picture 4" descr="C:\My Documents\backup 27 may 2003\WileyWeb\skinner_photos\5.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2164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5"/>
          <p:cNvSpPr/>
          <p:nvPr/>
        </p:nvSpPr>
        <p:spPr>
          <a:xfrm>
            <a:off x="380880" y="632448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gure 5.2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4" name="Picture 4" descr="C:\My Documents\backup 27 may 2003\WileyWeb\skinner_photos\5.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"/>
          <p:cNvSpPr/>
          <p:nvPr/>
        </p:nvSpPr>
        <p:spPr>
          <a:xfrm>
            <a:off x="457200" y="6248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gure 5.2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Plates and Volcanoes (1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distribution of active volcanoes around the world is strongly influenced by plate margin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ost of the world’s volcanism happen beneath the sea, along the 64,000 km midocean ridg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bout 15 percent of all active volcanoes are located along spreading center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celand, the Azores, and the East African Rift Valley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Plates and Volcanoes (2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ost of the world’s visible and active volcanoes are located where two plates collide and one is subducted beneath the other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ter released from the subducted plate leads to the formation of andesitic magma by wet partial melting of mantle rock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Plates and Volcanoes (3)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Pacific Ocean is ringed on three sides by subducting plate margins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bout 5 percent of all active volcanoes are located in the interiors of plat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Hawaiian volcano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ubmarine Volcanism and the Composition of Seawater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agnesium and sulfur are removed from seawater by the hot rock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alcium and the other chemical elements are added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hot rocks of the midocean ridge are a major factor in maintaining the composition of seawater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Basaltic Magma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asaltic magmas are erupted by approximately 80 percent of volcanoes worldwide (the seafloor worldwide is mostly basalt)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agma from Hawaiian volcanoes such as Kilauea and Mauna Loa is basaltic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he entire island of Iceland is basaltic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Andesitic and Rhyolitic Magma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ndesitic magmas are about 10 percent of the total magma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Magma from Mount St. Helens in Washington State and Krakatau in Indonesia is usually andesitic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Rhyolitic magmas are about 10 percent of the total magma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Magmas erupted from volcanoes that once were active at Yellowstone Park are mostly rhyolitic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1" name="Picture 3" descr="C:\My Documents\backup 27 may 2003\WileyWeb\skinner_photos\5.3.jpg"/>
          <p:cNvPicPr/>
          <p:nvPr/>
        </p:nvPicPr>
        <p:blipFill>
          <a:blip r:embed="rId1"/>
          <a:stretch/>
        </p:blipFill>
        <p:spPr>
          <a:xfrm>
            <a:off x="457200" y="0"/>
            <a:ext cx="8381880" cy="69357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1219320" y="6248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gure 5.3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6T00:37:59Z</dcterms:created>
  <dc:creator>Denyse Lemaire</dc:creator>
  <dc:description/>
  <dc:language>en-US</dc:language>
  <cp:lastModifiedBy>Dell</cp:lastModifiedBy>
  <dcterms:modified xsi:type="dcterms:W3CDTF">2011-10-06T00:49:13Z</dcterms:modified>
  <cp:revision>64</cp:revision>
  <dc:subject/>
  <dc:title>Chapter 5</dc:title>
</cp:coreProperties>
</file>