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810-6047-4493-B576-7180CA9F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4AE-A6E4-48DA-8504-15F856C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ADF-846C-4777-9766-84A9A405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35-93BC-436D-A9AE-803E703E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E1C8-D250-491E-9788-99FB4F27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EED9-710F-4FFD-AED5-1FDFD1A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CE5E-60B4-4E38-B5C4-CDCBBDE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AC8-09D8-42B9-B58F-228EEC4A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7E61-4E18-48E2-99BE-66662ED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2180-6A3E-4A40-A152-D387767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C0D-3A4C-47B4-B072-B78D2EF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218-7A0C-4707-9436-CEFBA6DD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651-EBAD-4553-8AA1-7BCCB44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A438-3F0E-41A7-A998-79F12F8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FFD2-1368-4DE5-B364-4001523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5BD3-FA88-4B6C-8385-3A5FB250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FB7-E861-4D34-8E5E-F498693A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4E4-E5B5-41C2-B3C8-A611C2F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36F-B999-44E0-A312-C9A4DB3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7F8-BD66-4E6E-BD0A-FC4F287F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F2E-5665-4525-97A3-5D1BF10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5DE-9F50-44CE-B9CC-EEABBCF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F4D-73F7-468C-9BE9-F34DBFF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732-D637-4687-9229-0714F0B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6FE-5BC6-4E9F-8B5B-643AA49C08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e9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D8D-3AD9-435D-8D11-CFF76123E1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hapter 5: Magma And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Picture 4" descr="C:\My Documents\backup 27 may 2003\WileyWeb\skinner_photos\5.5.jpg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4008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ases Dissolved in 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 amounts of gas (0.2 to 3% by weight) are dissolved in al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incipal gas in water vapor, which, together with carbon dioxide, accounts for more than 98 percent of all gases emitted from volcan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mperature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range from 10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12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can reach 14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 under some cond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ternal property of a substance that offers resistance to flow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iscosit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ore viscous a magma, the less easily it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scosity of a magma depends on temperature and composition (especially the silica and dissolved-gas conten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igher the temperature, the lower the viscosity, and the more readily magma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mooth, ropy-surfaced lava in Hawaii, formed from a very hot, very fluid lava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ahoe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ough-looking lava formed from a cooler lava having a high viscosity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ah ah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greater the silica content, the larger is the polymerized grou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r this reason, rhyolitic magma (70% silica) is always more viscous than basaltic magma (5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 has a viscosity that is intermediate between the two (6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less dense than the solid rock from which it form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essure is proportional to depth (thickness of overlying rock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refore, as magma rises upward, the pressure on it decreas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sure controls the amount of gas a magma can dissolve—more at high pressure, less at 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as dissolved in an upward-moving magma comes out of solution and forms bubb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occur notably in Hawaii, Iceland, and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y are relatively saf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fference between nonexplosive and explosive eruptions depends largely on magma viscosity and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 viscosity magmas and low dissolved gas contents  produce non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may appear violent during their initial sta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reason is that gas bubbles in a low-viscosity basaltic magma will rise rapidly upward, like the gas bubbles in a glass of sod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a basaltic magma rises rapidly, spectacular lava fountains will occu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troduction: Earth’s Internal Thermal Eng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molten rock beneath Earth’s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liquid magma is less dense than surrounding solid rock, and obviously more mobile, magma, once formed, rises toward the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hat reaches the surface does so by erupting through vents we call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heat is lost quickly at the surface of the flowing lava, the surface solidifies into a crust, beneath which the liquid lava continues to flow in well-defined channels called lava tub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ery fluid lava initially forms thin pahoehoe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th increasing viscosity the rate of movement slows and the stickier lava may be transformed into a rough surfaced aa flow that moves very slow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esicles and Amygdul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lava finally solidified to rock, the last-formed bubbles become trapped; these bubble preserved in the rock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esic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esicles filled by secondary minerals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mygdu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viscous andesitic or rhyolitic magmas, gas bubbles can rise only very slow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confining pressure drops quickly, the gas in a magma expand into a froth of innumerable glass-walled bubble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umi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many instances, instead of forming pumice, small bubbles expanding within a huge mass of sufficiently gas-rich, viscous magma will shatter the magma into tiny fragments called volcanic as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ash is the most abundant product of 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rgest and the most violent eruptions are associated with silica-rich magmas having a high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is hot, turbulent mixture rises rapidly in the cooler air above the vent to form an eruption column that may tower as high as 45 km in the atmosphe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violent eruption of this kind is called a plinian eruption, named after the Roman author and statesman, Pliny, who lost his life in the A.D. 79 eruption of Mt. Vesuvi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rticles of debris rain down in a tephra fall and eventually accumulate on the ground as tephra depos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the mixture of hot gases and pyroclasts is more dense than the atmosphere, the turbulent mixture flows down the side of the volcano rather than forming an eruption colum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hot, highly mobile flow of tephra that rushes down the flank of a volcano during a major eruption is called a pyroclastic flow (the most devastating and lethal forms of volcanic eruption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yroclastic flows are also known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u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 arden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glowing cloud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storic observations indicate that pyroclastic flows can reach velocities of more than 700 km/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02, a pyroclastic flow rushed down the flanks of Mont Pelee Volcano at an estimated speed of 200 KM/h, instantly killing 29,000 peop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teral Blast—Mount St. Helen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80, Mount St. Helens, a volcano in Washington, erupted violent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magma rose under the volcano, the mountain’s north flank began to bulge upward and outwa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itial blast was sideways rather than upwar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rees in the once-dense forest were leve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CH05\05.10.jpg"/>
          <p:cNvPicPr/>
          <p:nvPr/>
        </p:nvPicPr>
        <p:blipFill>
          <a:blip r:embed="rId1"/>
          <a:stretch/>
        </p:blipFill>
        <p:spPr>
          <a:xfrm>
            <a:off x="2816280" y="0"/>
            <a:ext cx="35114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6324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lcan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comes from the name of the Roman god of fire, Vulc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different types of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ruption vary from gentle flows (Hawaii and Iceland) to catastrophic explosions (Mount St. Helens, Mt. Pinatubo, Soufriere Hil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ajority of eruption never make the news because they occur beneath the ocean, unobserv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two broad families of volcano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formed by eruptions from a central v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that erupt through a long fissu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-vent eruptions build mounds of the kind most people associate with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build platea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entral-vent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ed on their size and shape, there are three broad classes of central-vent volcano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ield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c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rato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shield volcano produces a broad, dome-shaped mountain with an average surface slope of only a few degr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-viscosity basaltic lavas can flow for kilometers down gentle slop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accumulated lava from repeated eruptions of low-viscosity lava build a shield 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farther lava flows down the flank, the cooler and more viscous it becomes, so the steeper the slope must be for it to f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 shield volcanoes rise as islands in the ocean (Hawaiian Islands, Tahiti, Samoa, the Galapagos, and many other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4" descr="C:\My Documents\backup 27 may 2003\WileyWeb\skinner_photos\5.1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570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0492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4" descr="C:\My Documents\backup 27 may 2003\WileyWeb\skinner_photos\5.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0948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094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una Loa volcano, for example, rises to a height of 4169 m above sea level, but if measured from the seafloor the height is 10,000 m, making Mauna Loa the tallest mountain on Earth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phra C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cone is built by shower of pyroclastic debris around a volcanic v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lopes of tephra cones are steep, typically about 3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volcanoes (andesitic composition) emit both viscous lava flows and teph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missions tend to alternate, forming alternating strata of lava and tephra, building a strato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ratovolcano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r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ica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ep-sid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ar the summit, a stratovolcano’s slope may reach 4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ward the base, the slope flattens to about 6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a stratovolcano develops, lava flows act as a cap to slow erosion of the loose tephr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a wide range of compositions, but silica (SiO</a:t>
            </a:r>
            <a:r>
              <a:rPr b="1" lang="en-US" sz="2800" spc="-1" strike="noStrike" baseline="-14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) always dominates the mi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high temperatur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fluid—it has the ability to flow. Most magma actually is a mixture of liquid (often referred to as melt) and solid mineral gr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olcano becomes much larger and steeper than a typical tephra c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unt Fuji (Japan), Mount Rainier, Mount Baker in Washington State, Mount Hood in Oregon, Mt Mayon in the Philippines are strato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at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unnel-shaped depressions with steep-sided walls that open upw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s form in two w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the collapse of the steep sides of the v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an explosive erup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subsequent eruptions, pressure blasts open the vent, removing both the solidified magma from the previous eruption and part of the crater wal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crater can grow slowly larger, eruption by erup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va dom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the magma is very viscous (as in a rhyolitic or andesitic magma), it squeezes out to form a lava dom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Picture 4" descr="C:\My Documents\backup 27 may 2003\WileyWeb\skinner_photos\5.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86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dera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alder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s from the Spanish word for cauldr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roughly circular, steep-walled basin about a kilometer in diameter or larger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deras are created by collapse of the surface rock following an eruption and partial emptying of the underlying magma chamb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 lake in Oregon occupies a circular caldera 8 km in diamet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CH05\05.19.jpg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781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0" y="646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urgent do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ten, more magma enters the chamber and lifts the collapsed caldera floor to form a resurgent dom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tre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lcanic pipes filled with a rubbles of broken r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walls are vertical, or very nearly 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famous diatreme is the diamond mine in Kimberly, South Afr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extrude lava along an elongate fracture in the cru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fissure eruptions occur on land, the low-viscosity basaltic lava tends to spread widely and to create flat lava pl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ch lava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lateau basalt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Picture 4" descr="C:\My Documents\backup 27 may 2003\WileyWeb\skinner_photos\5.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880" y="6172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ki eruption, in Iceland in1783, occurred along a 32 km long fracture. Lava from it flowed 64 km from one side of the fracture and nearly 48 km from the other, covering 588 km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Laki eruption is the largest lava flow of any kind in historic tim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amine followed and more than 9000 died (20 percent of the Icelandic population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mposition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composition of magmas and lavas is controlled by the most abundant elements in the Earth—Si, Al, Fe, Ca, Mg, Na, K, H, and 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ree distinct types of magma are more common than oth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saltic, containing about 5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esitic, about 6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yolitic, about 7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illow basalt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en the basaltic magma erupts under the ocean, seawater cools it so rapidly that pillow-shaped masses of basalt, ranging from a few centimeters to a meter or more in greatest dimension for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of andesitic or rhyolitic magma are much less common than fissure eruptions of basaltic lav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4" descr="C:\My Documents\backup 27 may 2003\WileyWeb\skinner_photos\5.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times the pyroclasts in the tephra are so hot that the fragments form welded tu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40 to 50 million years ago, huge ash-flow eruptions happened in Nevad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erupted product covered an area in excess of 200,0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4" name="Picture 4" descr="C:\My Documents\backup 27 may 2003\WileyWeb\skinner_photos\5.22.jpg"/>
          <p:cNvPicPr/>
          <p:nvPr/>
        </p:nvPicPr>
        <p:blipFill>
          <a:blip r:embed="rId1"/>
          <a:stretch/>
        </p:blipFill>
        <p:spPr>
          <a:xfrm>
            <a:off x="0" y="380880"/>
            <a:ext cx="9372600" cy="612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0" y="6400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osteruption effec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active volcanism finally ceases, rock in and near an old magma chamber may remain hot for hundreds of thousands of ye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spring at many volcanic sites (Italy, Japan, and New Zealand) have become famous health spas and sources of energy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hermal spring that intermittently erupts water and steam is a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ys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of the world’s geysers outside Iceland are in New Zealand and in Yellowstone National Pa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CH05\05.B03.jpg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35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6324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CH05\05.B04.jpg"/>
          <p:cNvPicPr/>
          <p:nvPr/>
        </p:nvPicPr>
        <p:blipFill>
          <a:blip r:embed="rId1"/>
          <a:stretch/>
        </p:blipFill>
        <p:spPr>
          <a:xfrm>
            <a:off x="244008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eruptions are not rare on land, and are essentially continuous on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year about 50 volcanoes erupt on the Earth’s contin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eruptions are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eruptions from andesitic or rhyolitic stratovolcanoes like Mount St. Helens and Krakatau can be disastro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ruptions present five kinds of hazar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t, rapidly moving pyroclastic flows and laterally directed blasts can overwhelm people before they can evacuat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nt Pelee in 1902 and Mount St. Helens in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and hot poisonous gases can bury or suffocate peop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79 Mount Vesuvius in A.D. 7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dflows,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lahars,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an be devastat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 1985, the Colombian volcano Nevado del Ruiz experienced a small, nonthreatening eruption. But, when glaciers at the summit melted, massive mudflows of volcanic debris moved swiftly down the mountain , killing 20,00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iolent undersea eruptions can cause powerful sea waves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sunami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rakatau, in 1883, killed more than 36,000 on Java and nearby Indonesia island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ephra eruption can disrupt agriculture, creating a fam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CH05\05.01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Picture 4" descr="C:\My Documents\backup 27 may 2003\WileyWeb\skinner_photos\5.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80880" y="6324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Picture 4" descr="C:\My Documents\backup 27 may 2003\WileyWeb\skinner_photos\5.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57200" y="6248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stribution of active volcanoes around the world is strongly influenced by plate marg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olcanism happen beneath the sea, along the 64,000 km midocean rid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15 percent of all active volcanoes are located along spreading cent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celand, the Azores, and the East African Rift Valle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isible and active volcanoes are located where two plates collide and one is subducted beneath the 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ter released from the subducted plate leads to the formation of andesitic magma by wet partial melting of mantle roc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cific Ocean is ringed on three sides by subducting plate margi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5 percent of all active volcanoes are located in the interiors of pla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waiian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bmarine Volcanism and the Composition of Seawater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nesium and sulfur are removed from seawater by the hot rock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cium and the other chemical elements are add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ot rocks of the midocean ridge are a major factor in maintaining the composition of seawa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asal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altic magmas are erupted by approximately 80 percent of volcanoes worldwide (the seafloor worldwide is mostly basalt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from Hawaiian volcanoes such as Kilauea and Mauna Loa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ntire island of Iceland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ndesitic and Rhyoli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 from Mount St. Helens in Washington State and Krakatau in Indonesia is usually andes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hyol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s erupted from volcanoes that once were active at Yellowstone Park are mostly rhyol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Picture 3" descr="C:\My Documents\backup 27 may 2003\WileyWeb\skinner_photos\5.3.jpg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935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1932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7:59Z</dcterms:created>
  <dc:creator>Denyse Lemaire</dc:creator>
  <dc:description/>
  <dc:language>en-US</dc:language>
  <cp:lastModifiedBy>Dell</cp:lastModifiedBy>
  <dcterms:modified xsi:type="dcterms:W3CDTF">2011-10-06T00:49:13Z</dcterms:modified>
  <cp:revision>64</cp:revision>
  <dc:subject/>
  <dc:title>Chapter 5</dc:title>
</cp:coreProperties>
</file>