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752-8F78-47A6-AAEC-CBB95C2B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C68-EC02-438B-B7C1-053824F4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D45-71B4-4DD7-987F-646F61A3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363-B208-4EB8-9316-9C8E8064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4C2-9E95-49F1-810D-F4B9A34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B7A-AF56-4D75-93BD-9522D4B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6ED-D948-4BC6-80AA-58B7800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B02-B1E7-47C0-A26D-E93661F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10D-4A18-4C62-925A-5A7708DD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FB1-42BD-42B7-9107-5F581CA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174-5BBA-4AAF-9C8A-59117C3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5ED-397A-4B12-B37B-F5D3ADE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BE6-A1E1-4EA2-9D6E-27F95E0F44FE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518184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differenti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34440" y="861840"/>
            <a:ext cx="6138000" cy="39877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: crystallization of a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cogenetic relationships between magmas (lavas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least fractionated, parental magma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Fractionation trends gives clues about P, T of magma chamb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 processe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: Closed system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Crystal-melt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. Gravitational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2. Flow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. Filter pressing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. Convectiv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Separation of immiscible melt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. Melt fluid separ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I: Open system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Assimilation of a solid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Mixing of different magma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7150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ORB fractionation trend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1" name="Picture 3" descr="F12-23"/>
          <p:cNvPicPr/>
          <p:nvPr/>
        </p:nvPicPr>
        <p:blipFill>
          <a:blip r:embed="rId1"/>
          <a:stretch/>
        </p:blipFill>
        <p:spPr>
          <a:xfrm>
            <a:off x="685800" y="914400"/>
            <a:ext cx="284796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12-24"/>
          <p:cNvPicPr/>
          <p:nvPr/>
        </p:nvPicPr>
        <p:blipFill>
          <a:blip r:embed="rId2"/>
          <a:stretch/>
        </p:blipFill>
        <p:spPr>
          <a:xfrm>
            <a:off x="4952880" y="91440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045040" y="3925800"/>
            <a:ext cx="3565440" cy="9169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Where is the primary magma?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P melts to low P: olivine fraction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57600"/>
            <a:ext cx="365760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ractionation trend toward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312408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e-enrich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Picture 3" descr="F12-22"/>
          <p:cNvPicPr/>
          <p:nvPr/>
        </p:nvPicPr>
        <p:blipFill>
          <a:blip r:embed="rId1"/>
          <a:stretch/>
        </p:blipFill>
        <p:spPr>
          <a:xfrm>
            <a:off x="304920" y="762120"/>
            <a:ext cx="4019400" cy="5049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4572000" y="1219320"/>
            <a:ext cx="434340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oleiitic trend shows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ck of enrichment in calc-alkaline tre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er oxygen fugacit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e-oxide stable at higher temperature i.e. fractionates earlier in the sequenc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onga-Kermadec-New Zealand Ar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1840" y="85896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cean-ocean in North, ocean-continent at New Zeala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0" name="Picture 4" descr="F12-26"/>
          <p:cNvPicPr/>
          <p:nvPr/>
        </p:nvPicPr>
        <p:blipFill>
          <a:blip r:embed="rId1"/>
          <a:stretch/>
        </p:blipFill>
        <p:spPr>
          <a:xfrm>
            <a:off x="304920" y="1219320"/>
            <a:ext cx="4403520" cy="411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876920" y="1295280"/>
            <a:ext cx="39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ften a bimodal distribution in silic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aupo rhyolite field in New Zealand, too large a volume for simpl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arge addition of crustal melts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omplicating factors at continental arc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ediment from continent gets subducted enhancing felsic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ubcontinental lithosphere has been metasomatically enriched over tim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he thicker continental crust results in more opportunity for assimilation.  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66688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Picture 3" descr="F12-27"/>
          <p:cNvPicPr/>
          <p:nvPr/>
        </p:nvPicPr>
        <p:blipFill>
          <a:blip r:embed="rId1"/>
          <a:stretch/>
        </p:blipFill>
        <p:spPr>
          <a:xfrm>
            <a:off x="304920" y="838080"/>
            <a:ext cx="286704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10200" y="83340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bined crystallization and assimil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5" descr="F12-28"/>
          <p:cNvPicPr/>
          <p:nvPr/>
        </p:nvPicPr>
        <p:blipFill>
          <a:blip r:embed="rId2"/>
          <a:stretch/>
        </p:blipFill>
        <p:spPr>
          <a:xfrm>
            <a:off x="4419720" y="1600200"/>
            <a:ext cx="2904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edicine Lak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Picture 3" descr="F12-29"/>
          <p:cNvPicPr/>
          <p:nvPr/>
        </p:nvPicPr>
        <p:blipFill>
          <a:blip r:embed="rId1"/>
          <a:stretch/>
        </p:blipFill>
        <p:spPr>
          <a:xfrm>
            <a:off x="228600" y="838080"/>
            <a:ext cx="2852640" cy="5484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57600" y="76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compatible and compatible element concentrations to high for fractional X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FC more likely, but component of mixing required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9" name="Picture 5" descr="F12-30"/>
          <p:cNvPicPr/>
          <p:nvPr/>
        </p:nvPicPr>
        <p:blipFill>
          <a:blip r:embed="rId2"/>
          <a:stretch/>
        </p:blipFill>
        <p:spPr>
          <a:xfrm>
            <a:off x="3200400" y="2666880"/>
            <a:ext cx="2843280" cy="365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12-31"/>
          <p:cNvPicPr/>
          <p:nvPr/>
        </p:nvPicPr>
        <p:blipFill>
          <a:blip r:embed="rId3"/>
          <a:stretch/>
        </p:blipFill>
        <p:spPr>
          <a:xfrm>
            <a:off x="6172200" y="2286000"/>
            <a:ext cx="2886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petrotectonic associat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38480" y="9176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preading center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Picture 4" descr="F13-01a"/>
          <p:cNvPicPr/>
          <p:nvPr/>
        </p:nvPicPr>
        <p:blipFill>
          <a:blip r:embed="rId1"/>
          <a:stretch/>
        </p:blipFill>
        <p:spPr>
          <a:xfrm>
            <a:off x="380880" y="1905120"/>
            <a:ext cx="3934080" cy="245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13-01b"/>
          <p:cNvPicPr/>
          <p:nvPr/>
        </p:nvPicPr>
        <p:blipFill>
          <a:blip r:embed="rId2"/>
          <a:stretch/>
        </p:blipFill>
        <p:spPr>
          <a:xfrm>
            <a:off x="5410080" y="914400"/>
            <a:ext cx="3086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reading center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6" name="Picture 3" descr="F13-02"/>
          <p:cNvPicPr/>
          <p:nvPr/>
        </p:nvPicPr>
        <p:blipFill>
          <a:blip r:embed="rId1"/>
          <a:stretch/>
        </p:blipFill>
        <p:spPr>
          <a:xfrm>
            <a:off x="304920" y="838080"/>
            <a:ext cx="40766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13-03"/>
          <p:cNvPicPr/>
          <p:nvPr/>
        </p:nvPicPr>
        <p:blipFill>
          <a:blip r:embed="rId2"/>
          <a:stretch/>
        </p:blipFill>
        <p:spPr>
          <a:xfrm>
            <a:off x="380880" y="3048120"/>
            <a:ext cx="30495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13-04"/>
          <p:cNvPicPr/>
          <p:nvPr/>
        </p:nvPicPr>
        <p:blipFill>
          <a:blip r:embed="rId3"/>
          <a:stretch/>
        </p:blipFill>
        <p:spPr>
          <a:xfrm>
            <a:off x="4572000" y="1371600"/>
            <a:ext cx="4057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 at the ridg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0" name="Picture 3" descr="F13-05"/>
          <p:cNvPicPr/>
          <p:nvPr/>
        </p:nvPicPr>
        <p:blipFill>
          <a:blip r:embed="rId1"/>
          <a:stretch/>
        </p:blipFill>
        <p:spPr>
          <a:xfrm>
            <a:off x="152280" y="762120"/>
            <a:ext cx="29149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13-06"/>
          <p:cNvPicPr/>
          <p:nvPr/>
        </p:nvPicPr>
        <p:blipFill>
          <a:blip r:embed="rId2"/>
          <a:stretch/>
        </p:blipFill>
        <p:spPr>
          <a:xfrm>
            <a:off x="990720" y="3124080"/>
            <a:ext cx="325728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13-07"/>
          <p:cNvPicPr/>
          <p:nvPr/>
        </p:nvPicPr>
        <p:blipFill>
          <a:blip r:embed="rId3"/>
          <a:stretch/>
        </p:blipFill>
        <p:spPr>
          <a:xfrm>
            <a:off x="4800600" y="1295280"/>
            <a:ext cx="4076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1752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4" name="Picture 3" descr="F13-08"/>
          <p:cNvPicPr/>
          <p:nvPr/>
        </p:nvPicPr>
        <p:blipFill>
          <a:blip r:embed="rId1"/>
          <a:stretch/>
        </p:blipFill>
        <p:spPr>
          <a:xfrm>
            <a:off x="0" y="457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13-09"/>
          <p:cNvPicPr/>
          <p:nvPr/>
        </p:nvPicPr>
        <p:blipFill>
          <a:blip r:embed="rId2"/>
          <a:stretch/>
        </p:blipFill>
        <p:spPr>
          <a:xfrm>
            <a:off x="0" y="2895480"/>
            <a:ext cx="5029200" cy="38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13-10"/>
          <p:cNvPicPr/>
          <p:nvPr/>
        </p:nvPicPr>
        <p:blipFill>
          <a:blip r:embed="rId3"/>
          <a:stretch/>
        </p:blipFill>
        <p:spPr>
          <a:xfrm>
            <a:off x="3657600" y="533520"/>
            <a:ext cx="28195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13-11"/>
          <p:cNvPicPr/>
          <p:nvPr/>
        </p:nvPicPr>
        <p:blipFill>
          <a:blip r:embed="rId4"/>
          <a:stretch/>
        </p:blipFill>
        <p:spPr>
          <a:xfrm>
            <a:off x="6391440" y="2438280"/>
            <a:ext cx="275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awaii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9" name="Picture 3" descr="F13-12"/>
          <p:cNvPicPr/>
          <p:nvPr/>
        </p:nvPicPr>
        <p:blipFill>
          <a:blip r:embed="rId1"/>
          <a:stretch/>
        </p:blipFill>
        <p:spPr>
          <a:xfrm>
            <a:off x="76320" y="762120"/>
            <a:ext cx="3943080" cy="33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13-13"/>
          <p:cNvPicPr/>
          <p:nvPr/>
        </p:nvPicPr>
        <p:blipFill>
          <a:blip r:embed="rId2"/>
          <a:stretch/>
        </p:blipFill>
        <p:spPr>
          <a:xfrm>
            <a:off x="4419720" y="990720"/>
            <a:ext cx="4390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7320" y="1066680"/>
            <a:ext cx="54813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arker diagrams: Oxide-oxide variation diagram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" name="Picture 4" descr="F12-01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97440" y="2895480"/>
            <a:ext cx="20811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ever rule appli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7" name="Picture 8" descr="F12-02"/>
          <p:cNvPicPr/>
          <p:nvPr/>
        </p:nvPicPr>
        <p:blipFill>
          <a:blip r:embed="rId2"/>
          <a:stretch/>
        </p:blipFill>
        <p:spPr>
          <a:xfrm>
            <a:off x="6095880" y="685800"/>
            <a:ext cx="284796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80880" y="3276720"/>
            <a:ext cx="52340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iquid moves away from the composition of the crystallizing assemblag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26672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Plumes cont’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2" name="Picture 3" descr="F13-14"/>
          <p:cNvPicPr/>
          <p:nvPr/>
        </p:nvPicPr>
        <p:blipFill>
          <a:blip r:embed="rId1"/>
          <a:stretch/>
        </p:blipFill>
        <p:spPr>
          <a:xfrm>
            <a:off x="76320" y="990720"/>
            <a:ext cx="4467240" cy="377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13-15"/>
          <p:cNvPicPr/>
          <p:nvPr/>
        </p:nvPicPr>
        <p:blipFill>
          <a:blip r:embed="rId2"/>
          <a:stretch/>
        </p:blipFill>
        <p:spPr>
          <a:xfrm>
            <a:off x="4800600" y="685800"/>
            <a:ext cx="39243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00400" cy="609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5" name="Picture 3" descr="F13-16"/>
          <p:cNvPicPr/>
          <p:nvPr/>
        </p:nvPicPr>
        <p:blipFill>
          <a:blip r:embed="rId1"/>
          <a:stretch/>
        </p:blipFill>
        <p:spPr>
          <a:xfrm>
            <a:off x="76320" y="838080"/>
            <a:ext cx="467676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13-17"/>
          <p:cNvPicPr/>
          <p:nvPr/>
        </p:nvPicPr>
        <p:blipFill>
          <a:blip r:embed="rId2"/>
          <a:stretch/>
        </p:blipFill>
        <p:spPr>
          <a:xfrm>
            <a:off x="2895480" y="3352680"/>
            <a:ext cx="5764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419720" cy="53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8" name="Picture 3" descr="F13-18"/>
          <p:cNvPicPr/>
          <p:nvPr/>
        </p:nvPicPr>
        <p:blipFill>
          <a:blip r:embed="rId1"/>
          <a:stretch/>
        </p:blipFill>
        <p:spPr>
          <a:xfrm>
            <a:off x="76320" y="533520"/>
            <a:ext cx="29494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F13-19"/>
          <p:cNvPicPr/>
          <p:nvPr/>
        </p:nvPicPr>
        <p:blipFill>
          <a:blip r:embed="rId2"/>
          <a:stretch/>
        </p:blipFill>
        <p:spPr>
          <a:xfrm>
            <a:off x="4952880" y="304920"/>
            <a:ext cx="31464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13-21"/>
          <p:cNvPicPr/>
          <p:nvPr/>
        </p:nvPicPr>
        <p:blipFill>
          <a:blip r:embed="rId3"/>
          <a:stretch/>
        </p:blipFill>
        <p:spPr>
          <a:xfrm>
            <a:off x="304920" y="2475000"/>
            <a:ext cx="3278160" cy="438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13-22"/>
          <p:cNvPicPr/>
          <p:nvPr/>
        </p:nvPicPr>
        <p:blipFill>
          <a:blip r:embed="rId4"/>
          <a:stretch/>
        </p:blipFill>
        <p:spPr>
          <a:xfrm>
            <a:off x="5181480" y="2895480"/>
            <a:ext cx="2959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sland ar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3" descr="F13-24"/>
          <p:cNvPicPr/>
          <p:nvPr/>
        </p:nvPicPr>
        <p:blipFill>
          <a:blip r:embed="rId1"/>
          <a:stretch/>
        </p:blipFill>
        <p:spPr>
          <a:xfrm>
            <a:off x="76320" y="914400"/>
            <a:ext cx="2819160" cy="2647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13-25"/>
          <p:cNvPicPr/>
          <p:nvPr/>
        </p:nvPicPr>
        <p:blipFill>
          <a:blip r:embed="rId2"/>
          <a:stretch/>
        </p:blipFill>
        <p:spPr>
          <a:xfrm>
            <a:off x="3352680" y="228600"/>
            <a:ext cx="3321000" cy="335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750960" y="4000680"/>
            <a:ext cx="69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race elements in island arc rock distinct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epletion in high field strength elements (Ti, Zr, Hf, Nb, Ta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 oceanic settings the HREE can be more depleted then MORB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ＭＳ Ｐゴシック"/>
              </a:rPr>
              <a:t>Rift volcani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07880" y="781200"/>
            <a:ext cx="8431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rbonatite: &gt;50% carbonate minerals; alkali carbonatite &lt;0.2wt%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+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lated to strongly Si-undersaturated rocks: phonolite, nephelinite, melilitite, hawaiit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rongly enriched in LIL: large ion lithophile elements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4880" y="223056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kalic rariti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8800" y="29034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mprophyres, lamproites, orangeites and kimberlit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otassic, volatile rich, mafic to ultramafi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2578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" name="Picture 3" descr="F12-03"/>
          <p:cNvPicPr/>
          <p:nvPr/>
        </p:nvPicPr>
        <p:blipFill>
          <a:blip r:embed="rId1"/>
          <a:stretch/>
        </p:blipFill>
        <p:spPr>
          <a:xfrm>
            <a:off x="304920" y="91440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228600" y="4038480"/>
            <a:ext cx="40766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sorbed olivines, constant composition of phenocrys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06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02920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race element modeling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4" name="Picture 3" descr="F12-04"/>
          <p:cNvPicPr/>
          <p:nvPr/>
        </p:nvPicPr>
        <p:blipFill>
          <a:blip r:embed="rId1"/>
          <a:stretch/>
        </p:blipFill>
        <p:spPr>
          <a:xfrm>
            <a:off x="609480" y="1066680"/>
            <a:ext cx="4210200" cy="4048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3560" y="5181480"/>
            <a:ext cx="28782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melt and </a:t>
            </a: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parent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40440" y="1198440"/>
            <a:ext cx="3851280" cy="11912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patible element concentrations decrease quickly; Incompatible element concentrations increase slowly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7" name="Picture 6" descr="F12-05"/>
          <p:cNvPicPr/>
          <p:nvPr/>
        </p:nvPicPr>
        <p:blipFill>
          <a:blip r:embed="rId2"/>
          <a:stretch/>
        </p:blipFill>
        <p:spPr>
          <a:xfrm>
            <a:off x="5181480" y="2666880"/>
            <a:ext cx="3657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7432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9" name="Picture 3" descr="F12-13"/>
          <p:cNvPicPr/>
          <p:nvPr/>
        </p:nvPicPr>
        <p:blipFill>
          <a:blip r:embed="rId1"/>
          <a:stretch/>
        </p:blipFill>
        <p:spPr>
          <a:xfrm>
            <a:off x="304920" y="1219320"/>
            <a:ext cx="3705120" cy="294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49000" y="779400"/>
            <a:ext cx="75949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crustal material often better recognized with isotop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219320"/>
            <a:ext cx="401472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mafic material hard to recogniz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ata often permissive, but not conclusiv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idence: crustal xenoliths, resorbed qtz, trace elements, isotopes. 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2670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asaltic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533520"/>
            <a:ext cx="51307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lisades sill: example of gravitational settling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4" name="Picture 4" descr="F12-14"/>
          <p:cNvPicPr/>
          <p:nvPr/>
        </p:nvPicPr>
        <p:blipFill>
          <a:blip r:embed="rId1"/>
          <a:stretch/>
        </p:blipFill>
        <p:spPr>
          <a:xfrm>
            <a:off x="152280" y="1143000"/>
            <a:ext cx="288612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527280" y="969840"/>
            <a:ext cx="5159520" cy="20408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Evidence: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 rich layer at the bottom changes in thickness based on the underlying topograph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harp change in olivine abundance going upward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s are more Fe-rich than what is expected based on the chilled margi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ocal internal chilled contacts: new influx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6" name="Picture 6" descr="F12-15"/>
          <p:cNvPicPr/>
          <p:nvPr/>
        </p:nvPicPr>
        <p:blipFill>
          <a:blip r:embed="rId2"/>
          <a:stretch/>
        </p:blipFill>
        <p:spPr>
          <a:xfrm>
            <a:off x="4038480" y="3429000"/>
            <a:ext cx="4095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96216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yered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762120"/>
          <a:ext cx="7848720" cy="4251240"/>
        </p:xfrm>
        <a:graphic>
          <a:graphicData uri="http://schemas.openxmlformats.org/drawingml/2006/table">
            <a:tbl>
              <a:tblPr/>
              <a:tblGrid>
                <a:gridCol w="2292480"/>
                <a:gridCol w="755640"/>
                <a:gridCol w="4800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Name,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kaergaard, Gree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 3.5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um, 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1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&gt;2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Duluth, 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ore the dozen layered intrusions&gt;50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uskox, NWT,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: 11x 15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udburry,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, 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Bushveld, 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5000km2, 7-9km thick, remarkably continuous la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Jimberlana,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 complexes, underlain by dike 1.5km wide, 18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Great Dyke, Zimbab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4 canoe complexes, 4-11km wide; 55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tillwater, Mont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8 x 55 km; 7km thick, basal ultramafics, gabbros and anorthosites p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Windimurra, Western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5 x 85 km; 5-13km; only slight differen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3526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umulus fabri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0" name="Picture 3" descr="F12-16"/>
          <p:cNvPicPr/>
          <p:nvPr/>
        </p:nvPicPr>
        <p:blipFill>
          <a:blip r:embed="rId1"/>
          <a:stretch/>
        </p:blipFill>
        <p:spPr>
          <a:xfrm>
            <a:off x="380880" y="914400"/>
            <a:ext cx="2800440" cy="500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12-17"/>
          <p:cNvPicPr/>
          <p:nvPr/>
        </p:nvPicPr>
        <p:blipFill>
          <a:blip r:embed="rId2"/>
          <a:stretch/>
        </p:blipFill>
        <p:spPr>
          <a:xfrm>
            <a:off x="4343400" y="0"/>
            <a:ext cx="41148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12-18"/>
          <p:cNvPicPr/>
          <p:nvPr/>
        </p:nvPicPr>
        <p:blipFill>
          <a:blip r:embed="rId3"/>
          <a:stretch/>
        </p:blipFill>
        <p:spPr>
          <a:xfrm>
            <a:off x="3657600" y="274320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833360" y="2268360"/>
            <a:ext cx="10206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usko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27432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kaergaar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5" name="Picture 3" descr="F12-19"/>
          <p:cNvPicPr/>
          <p:nvPr/>
        </p:nvPicPr>
        <p:blipFill>
          <a:blip r:embed="rId1"/>
          <a:stretch/>
        </p:blipFill>
        <p:spPr>
          <a:xfrm>
            <a:off x="2819520" y="0"/>
            <a:ext cx="40575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12-20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3694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4680" y="711360"/>
            <a:ext cx="270144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xtreme Fe-enrichment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78" name="Picture 6" descr="F12-21"/>
          <p:cNvPicPr/>
          <p:nvPr/>
        </p:nvPicPr>
        <p:blipFill>
          <a:blip r:embed="rId3"/>
          <a:stretch/>
        </p:blipFill>
        <p:spPr>
          <a:xfrm>
            <a:off x="5172120" y="2362320"/>
            <a:ext cx="3971880" cy="24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4120" y="4876920"/>
            <a:ext cx="3809880" cy="10674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hase layering: changes in mineralog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ryptic layering: changes in chemical composition of the mineral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9:06:38Z</dcterms:created>
  <dc:creator>Vincent Salters</dc:creator>
  <dc:description/>
  <dc:language>en-US</dc:language>
  <cp:lastModifiedBy>ksu</cp:lastModifiedBy>
  <dcterms:modified xsi:type="dcterms:W3CDTF">2011-07-21T22:44:36Z</dcterms:modified>
  <cp:revision>5</cp:revision>
  <dc:subject/>
  <dc:title>Magmatic differentiation</dc:title>
</cp:coreProperties>
</file>