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AD0A-9CBA-4F98-AAAE-0024F946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A454-EC17-4377-93FE-ACDF989D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347-9DB3-419E-9B10-556994DD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B39D-6111-4086-846C-B2DF68EA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D37-A40D-4B75-B7D0-9516A1D3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38F4-3D3D-4342-BFEE-D7BC5FFA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45CF-88F1-494F-863D-07767237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C46-ADE3-4D27-AEA0-68915696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D0F-FB6F-4C9C-A19C-79E196C4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1A5-A183-4B55-B431-7DD86E0A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AA8-08E1-4D7C-B3BF-101767F4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42F0-46CD-4439-B783-41872C71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F957-333C-46A0-B0AE-3BD212D70F08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5181840" cy="53352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Magmatic differentiation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34440" y="861840"/>
            <a:ext cx="6138000" cy="398772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Differentiation: crystallization of a magma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Determine cogenetic relationships between magmas (lavas)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Determine least fractionated, parental magma.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Fractionation trends gives clues about P, T of magma chamber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Differentiation processes: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I: Closed system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A. Crystal-melt fraction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1. Gravitational segreg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2. Flow segreg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3. Filter pressing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4. Convective fraction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B. Separation of immiscible melts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C. Melt fluid separ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II: Open system: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A. Assimilation of a solid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B. Mixing of different magmas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5715000" cy="60984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MORB fractionation trend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81" name="Picture 3" descr="F12-23"/>
          <p:cNvPicPr/>
          <p:nvPr/>
        </p:nvPicPr>
        <p:blipFill>
          <a:blip r:embed="rId1"/>
          <a:stretch/>
        </p:blipFill>
        <p:spPr>
          <a:xfrm>
            <a:off x="685800" y="914400"/>
            <a:ext cx="2847960" cy="2476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F12-24"/>
          <p:cNvPicPr/>
          <p:nvPr/>
        </p:nvPicPr>
        <p:blipFill>
          <a:blip r:embed="rId2"/>
          <a:stretch/>
        </p:blipFill>
        <p:spPr>
          <a:xfrm>
            <a:off x="4952880" y="914400"/>
            <a:ext cx="2971800" cy="28670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5045040" y="3925800"/>
            <a:ext cx="3565440" cy="91692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Where is the primary magma?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High P melts to low P: olivine fractionation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3657600"/>
            <a:ext cx="3657600" cy="6426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ractionation trend toward Fe-enrichment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3124080" cy="53316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Fe-enrichmen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86" name="Picture 3" descr="F12-22"/>
          <p:cNvPicPr/>
          <p:nvPr/>
        </p:nvPicPr>
        <p:blipFill>
          <a:blip r:embed="rId1"/>
          <a:stretch/>
        </p:blipFill>
        <p:spPr>
          <a:xfrm>
            <a:off x="304920" y="762120"/>
            <a:ext cx="4019400" cy="5049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4572000" y="1219320"/>
            <a:ext cx="4343400" cy="20142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holeiitic trend shows Fe-enrichment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Lack of enrichment in calc-alkaline trend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Higher oxygen fugacity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e-oxide stable at higher temperature i.e. fractionates earlier in the sequence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Tonga-Kermadec-New Zealand Arc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21840" y="858960"/>
            <a:ext cx="61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Ocean-ocean in North, ocean-continent at New Zealand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0" name="Picture 4" descr="F12-26"/>
          <p:cNvPicPr/>
          <p:nvPr/>
        </p:nvPicPr>
        <p:blipFill>
          <a:blip r:embed="rId1"/>
          <a:stretch/>
        </p:blipFill>
        <p:spPr>
          <a:xfrm>
            <a:off x="304920" y="1219320"/>
            <a:ext cx="4403520" cy="4113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876920" y="1295280"/>
            <a:ext cx="3924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Often a bimodal distribution in silica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Taupo rhyolite field in New Zealand, too large a volume for simple fraction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Large addition of crustal melts.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Complicating factors at continental arcs: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Sediment from continent gets subducted enhancing felsic magma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Subcontinental lithosphere has been metasomatically enriched over time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The thicker continental crust results in more opportunity for assimilation.   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66688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Assimilation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93" name="Picture 3" descr="F12-27"/>
          <p:cNvPicPr/>
          <p:nvPr/>
        </p:nvPicPr>
        <p:blipFill>
          <a:blip r:embed="rId1"/>
          <a:stretch/>
        </p:blipFill>
        <p:spPr>
          <a:xfrm>
            <a:off x="304920" y="838080"/>
            <a:ext cx="2867040" cy="34005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3310200" y="833400"/>
            <a:ext cx="46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Combined crystallization and assimilation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5" name="Picture 5" descr="F12-28"/>
          <p:cNvPicPr/>
          <p:nvPr/>
        </p:nvPicPr>
        <p:blipFill>
          <a:blip r:embed="rId2"/>
          <a:stretch/>
        </p:blipFill>
        <p:spPr>
          <a:xfrm>
            <a:off x="4419720" y="1600200"/>
            <a:ext cx="290484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289584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Medicine Lake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97" name="Picture 3" descr="F12-29"/>
          <p:cNvPicPr/>
          <p:nvPr/>
        </p:nvPicPr>
        <p:blipFill>
          <a:blip r:embed="rId1"/>
          <a:stretch/>
        </p:blipFill>
        <p:spPr>
          <a:xfrm>
            <a:off x="228600" y="838080"/>
            <a:ext cx="2852640" cy="54849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3657600" y="7621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Incompatible and compatible element concentrations to high for fractional XX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FC more likely, but component of mixing required.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9" name="Picture 5" descr="F12-30"/>
          <p:cNvPicPr/>
          <p:nvPr/>
        </p:nvPicPr>
        <p:blipFill>
          <a:blip r:embed="rId2"/>
          <a:stretch/>
        </p:blipFill>
        <p:spPr>
          <a:xfrm>
            <a:off x="3200400" y="2666880"/>
            <a:ext cx="2843280" cy="3656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F12-31"/>
          <p:cNvPicPr/>
          <p:nvPr/>
        </p:nvPicPr>
        <p:blipFill>
          <a:blip r:embed="rId3"/>
          <a:stretch/>
        </p:blipFill>
        <p:spPr>
          <a:xfrm>
            <a:off x="6172200" y="2286000"/>
            <a:ext cx="28861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Magmatic petrotectonic association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38480" y="91764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preading center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3" name="Picture 4" descr="F13-01a"/>
          <p:cNvPicPr/>
          <p:nvPr/>
        </p:nvPicPr>
        <p:blipFill>
          <a:blip r:embed="rId1"/>
          <a:stretch/>
        </p:blipFill>
        <p:spPr>
          <a:xfrm>
            <a:off x="380880" y="1905120"/>
            <a:ext cx="3934080" cy="2457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F13-01b"/>
          <p:cNvPicPr/>
          <p:nvPr/>
        </p:nvPicPr>
        <p:blipFill>
          <a:blip r:embed="rId2"/>
          <a:stretch/>
        </p:blipFill>
        <p:spPr>
          <a:xfrm>
            <a:off x="5410080" y="914400"/>
            <a:ext cx="30862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502920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preading center cont’d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06" name="Picture 3" descr="F13-02"/>
          <p:cNvPicPr/>
          <p:nvPr/>
        </p:nvPicPr>
        <p:blipFill>
          <a:blip r:embed="rId1"/>
          <a:stretch/>
        </p:blipFill>
        <p:spPr>
          <a:xfrm>
            <a:off x="304920" y="838080"/>
            <a:ext cx="4076640" cy="21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F13-03"/>
          <p:cNvPicPr/>
          <p:nvPr/>
        </p:nvPicPr>
        <p:blipFill>
          <a:blip r:embed="rId2"/>
          <a:stretch/>
        </p:blipFill>
        <p:spPr>
          <a:xfrm>
            <a:off x="380880" y="3048120"/>
            <a:ext cx="3049560" cy="3657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F13-04"/>
          <p:cNvPicPr/>
          <p:nvPr/>
        </p:nvPicPr>
        <p:blipFill>
          <a:blip r:embed="rId3"/>
          <a:stretch/>
        </p:blipFill>
        <p:spPr>
          <a:xfrm>
            <a:off x="4572000" y="1371600"/>
            <a:ext cx="40575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380988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Plume at the ridge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10" name="Picture 3" descr="F13-05"/>
          <p:cNvPicPr/>
          <p:nvPr/>
        </p:nvPicPr>
        <p:blipFill>
          <a:blip r:embed="rId1"/>
          <a:stretch/>
        </p:blipFill>
        <p:spPr>
          <a:xfrm>
            <a:off x="152280" y="762120"/>
            <a:ext cx="2914920" cy="210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F13-06"/>
          <p:cNvPicPr/>
          <p:nvPr/>
        </p:nvPicPr>
        <p:blipFill>
          <a:blip r:embed="rId2"/>
          <a:stretch/>
        </p:blipFill>
        <p:spPr>
          <a:xfrm>
            <a:off x="990720" y="3124080"/>
            <a:ext cx="3257280" cy="3286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F13-07"/>
          <p:cNvPicPr/>
          <p:nvPr/>
        </p:nvPicPr>
        <p:blipFill>
          <a:blip r:embed="rId3"/>
          <a:stretch/>
        </p:blipFill>
        <p:spPr>
          <a:xfrm>
            <a:off x="4800600" y="1295280"/>
            <a:ext cx="407664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175284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Plume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14" name="Picture 3" descr="F13-08"/>
          <p:cNvPicPr/>
          <p:nvPr/>
        </p:nvPicPr>
        <p:blipFill>
          <a:blip r:embed="rId1"/>
          <a:stretch/>
        </p:blipFill>
        <p:spPr>
          <a:xfrm>
            <a:off x="0" y="457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F13-09"/>
          <p:cNvPicPr/>
          <p:nvPr/>
        </p:nvPicPr>
        <p:blipFill>
          <a:blip r:embed="rId2"/>
          <a:stretch/>
        </p:blipFill>
        <p:spPr>
          <a:xfrm>
            <a:off x="0" y="2895480"/>
            <a:ext cx="5029200" cy="387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F13-10"/>
          <p:cNvPicPr/>
          <p:nvPr/>
        </p:nvPicPr>
        <p:blipFill>
          <a:blip r:embed="rId3"/>
          <a:stretch/>
        </p:blipFill>
        <p:spPr>
          <a:xfrm>
            <a:off x="3657600" y="533520"/>
            <a:ext cx="2819520" cy="2417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F13-11"/>
          <p:cNvPicPr/>
          <p:nvPr/>
        </p:nvPicPr>
        <p:blipFill>
          <a:blip r:embed="rId4"/>
          <a:stretch/>
        </p:blipFill>
        <p:spPr>
          <a:xfrm>
            <a:off x="6391440" y="2438280"/>
            <a:ext cx="2752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Hawaii cont’d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19" name="Picture 3" descr="F13-12"/>
          <p:cNvPicPr/>
          <p:nvPr/>
        </p:nvPicPr>
        <p:blipFill>
          <a:blip r:embed="rId1"/>
          <a:stretch/>
        </p:blipFill>
        <p:spPr>
          <a:xfrm>
            <a:off x="76320" y="762120"/>
            <a:ext cx="3943080" cy="3390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F13-13"/>
          <p:cNvPicPr/>
          <p:nvPr/>
        </p:nvPicPr>
        <p:blipFill>
          <a:blip r:embed="rId2"/>
          <a:stretch/>
        </p:blipFill>
        <p:spPr>
          <a:xfrm>
            <a:off x="4419720" y="990720"/>
            <a:ext cx="43909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038480" cy="53352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Variation diagram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57320" y="1066680"/>
            <a:ext cx="548136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Harker diagrams: Oxide-oxide variation diagram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45" name="Picture 4" descr="F12-01"/>
          <p:cNvPicPr/>
          <p:nvPr/>
        </p:nvPicPr>
        <p:blipFill>
          <a:blip r:embed="rId1"/>
          <a:stretch/>
        </p:blipFill>
        <p:spPr>
          <a:xfrm>
            <a:off x="304920" y="1447920"/>
            <a:ext cx="2895480" cy="1438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397440" y="2895480"/>
            <a:ext cx="208116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Lever rule applie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47" name="Picture 8" descr="F12-02"/>
          <p:cNvPicPr/>
          <p:nvPr/>
        </p:nvPicPr>
        <p:blipFill>
          <a:blip r:embed="rId2"/>
          <a:stretch/>
        </p:blipFill>
        <p:spPr>
          <a:xfrm>
            <a:off x="6095880" y="685800"/>
            <a:ext cx="2847960" cy="5697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380880" y="3276720"/>
            <a:ext cx="5234040" cy="6426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Liquid moves away from the composition of the crystallizing assemblage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26672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Plumes cont’d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22" name="Picture 3" descr="F13-14"/>
          <p:cNvPicPr/>
          <p:nvPr/>
        </p:nvPicPr>
        <p:blipFill>
          <a:blip r:embed="rId1"/>
          <a:stretch/>
        </p:blipFill>
        <p:spPr>
          <a:xfrm>
            <a:off x="76320" y="990720"/>
            <a:ext cx="4467240" cy="377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F13-15"/>
          <p:cNvPicPr/>
          <p:nvPr/>
        </p:nvPicPr>
        <p:blipFill>
          <a:blip r:embed="rId2"/>
          <a:stretch/>
        </p:blipFill>
        <p:spPr>
          <a:xfrm>
            <a:off x="4800600" y="685800"/>
            <a:ext cx="392436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200400" cy="609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Flood basalt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25" name="Picture 3" descr="F13-16"/>
          <p:cNvPicPr/>
          <p:nvPr/>
        </p:nvPicPr>
        <p:blipFill>
          <a:blip r:embed="rId1"/>
          <a:stretch/>
        </p:blipFill>
        <p:spPr>
          <a:xfrm>
            <a:off x="76320" y="838080"/>
            <a:ext cx="4676760" cy="240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13-17"/>
          <p:cNvPicPr/>
          <p:nvPr/>
        </p:nvPicPr>
        <p:blipFill>
          <a:blip r:embed="rId2"/>
          <a:stretch/>
        </p:blipFill>
        <p:spPr>
          <a:xfrm>
            <a:off x="2895480" y="3352680"/>
            <a:ext cx="5764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4419720" cy="53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Flood basalts cont’d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28" name="Picture 3" descr="F13-18"/>
          <p:cNvPicPr/>
          <p:nvPr/>
        </p:nvPicPr>
        <p:blipFill>
          <a:blip r:embed="rId1"/>
          <a:stretch/>
        </p:blipFill>
        <p:spPr>
          <a:xfrm>
            <a:off x="76320" y="533520"/>
            <a:ext cx="2949480" cy="1828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F13-19"/>
          <p:cNvPicPr/>
          <p:nvPr/>
        </p:nvPicPr>
        <p:blipFill>
          <a:blip r:embed="rId2"/>
          <a:stretch/>
        </p:blipFill>
        <p:spPr>
          <a:xfrm>
            <a:off x="4952880" y="304920"/>
            <a:ext cx="3146400" cy="228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F13-21"/>
          <p:cNvPicPr/>
          <p:nvPr/>
        </p:nvPicPr>
        <p:blipFill>
          <a:blip r:embed="rId3"/>
          <a:stretch/>
        </p:blipFill>
        <p:spPr>
          <a:xfrm>
            <a:off x="304920" y="2475000"/>
            <a:ext cx="3278160" cy="438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F13-22"/>
          <p:cNvPicPr/>
          <p:nvPr/>
        </p:nvPicPr>
        <p:blipFill>
          <a:blip r:embed="rId4"/>
          <a:stretch/>
        </p:blipFill>
        <p:spPr>
          <a:xfrm>
            <a:off x="5181480" y="2895480"/>
            <a:ext cx="29592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251460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Island arc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33" name="Picture 3" descr="F13-24"/>
          <p:cNvPicPr/>
          <p:nvPr/>
        </p:nvPicPr>
        <p:blipFill>
          <a:blip r:embed="rId1"/>
          <a:stretch/>
        </p:blipFill>
        <p:spPr>
          <a:xfrm>
            <a:off x="76320" y="914400"/>
            <a:ext cx="2819160" cy="2647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F13-25"/>
          <p:cNvPicPr/>
          <p:nvPr/>
        </p:nvPicPr>
        <p:blipFill>
          <a:blip r:embed="rId2"/>
          <a:stretch/>
        </p:blipFill>
        <p:spPr>
          <a:xfrm>
            <a:off x="3352680" y="228600"/>
            <a:ext cx="3321000" cy="33526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750960" y="4000680"/>
            <a:ext cx="69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race elements in island arc rock distinct: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Depletion in high field strength elements (Ti, Zr, Hf, Nb, Ta)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In oceanic settings the HREE can be more depleted then MORB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350532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  <a:ea typeface="ＭＳ Ｐゴシック"/>
              </a:rPr>
              <a:t>Rift volcanic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07880" y="781200"/>
            <a:ext cx="8431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Carbonatite: &gt;50% carbonate minerals; alkali carbonatite &lt;0.2wt% 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+A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Related to strongly Si-undersaturated rocks: phonolite, nephelinite, melilitite, hawaiite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trongly enriched in LIL: large ion lithophile elements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524880" y="223056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Alkalic rarities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88800" y="2903400"/>
            <a:ext cx="602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Lamprophyres, lamproites, orangeites and kimberlite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Potassic, volatile rich, mafic to ultramafic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5257800" cy="53352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Variation diagrams cont’d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0" name="Picture 3" descr="F12-03"/>
          <p:cNvPicPr/>
          <p:nvPr/>
        </p:nvPicPr>
        <p:blipFill>
          <a:blip r:embed="rId1"/>
          <a:stretch/>
        </p:blipFill>
        <p:spPr>
          <a:xfrm>
            <a:off x="304920" y="914400"/>
            <a:ext cx="4000320" cy="2952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228600" y="4038480"/>
            <a:ext cx="4076640" cy="6426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Resorbed olivines, constant composition of phenocryst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0608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029200" cy="53316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Trace element modeling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4" name="Picture 3" descr="F12-04"/>
          <p:cNvPicPr/>
          <p:nvPr/>
        </p:nvPicPr>
        <p:blipFill>
          <a:blip r:embed="rId1"/>
          <a:stretch/>
        </p:blipFill>
        <p:spPr>
          <a:xfrm>
            <a:off x="609480" y="1066680"/>
            <a:ext cx="4210200" cy="4048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673560" y="5181480"/>
            <a:ext cx="287820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nev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is melt and </a:t>
            </a:r>
            <a:r>
              <a:rPr b="0" i="1" lang="en-US" sz="1800" spc="-1" strike="noStrike">
                <a:solidFill>
                  <a:srgbClr val="000000"/>
                </a:solidFill>
                <a:latin typeface="Genev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is parent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140440" y="1198440"/>
            <a:ext cx="3851280" cy="119124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Compatible element concentrations decrease quickly; Incompatible element concentrations increase slowly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57" name="Picture 6" descr="F12-05"/>
          <p:cNvPicPr/>
          <p:nvPr/>
        </p:nvPicPr>
        <p:blipFill>
          <a:blip r:embed="rId2"/>
          <a:stretch/>
        </p:blipFill>
        <p:spPr>
          <a:xfrm>
            <a:off x="5181480" y="2666880"/>
            <a:ext cx="36576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2743200" cy="60984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Assimilation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9" name="Picture 3" descr="F12-13"/>
          <p:cNvPicPr/>
          <p:nvPr/>
        </p:nvPicPr>
        <p:blipFill>
          <a:blip r:embed="rId1"/>
          <a:stretch/>
        </p:blipFill>
        <p:spPr>
          <a:xfrm>
            <a:off x="304920" y="1219320"/>
            <a:ext cx="3705120" cy="2943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549000" y="779400"/>
            <a:ext cx="759492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ssimilation of crustal material often better recognized with isotope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419720" y="1219320"/>
            <a:ext cx="4014720" cy="20142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ssimilation of mafic material hard to recognize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Data often permissive, but not conclusive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Evidence: crustal xenoliths, resorbed qtz, trace elements, isotopes. 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4267080" cy="60948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Basaltic intrusion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85840" y="533520"/>
            <a:ext cx="513072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Palisades sill: example of gravitational settling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64" name="Picture 4" descr="F12-14"/>
          <p:cNvPicPr/>
          <p:nvPr/>
        </p:nvPicPr>
        <p:blipFill>
          <a:blip r:embed="rId1"/>
          <a:stretch/>
        </p:blipFill>
        <p:spPr>
          <a:xfrm>
            <a:off x="152280" y="1143000"/>
            <a:ext cx="2886120" cy="5487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527280" y="969840"/>
            <a:ext cx="5159520" cy="204084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Evidence: 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Olivine rich layer at the bottom changes in thickness based on the underlying topography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Sharp change in olivine abundance going upwards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Olivines are more Fe-rich than what is expected based on the chilled margi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Local internal chilled contacts: new influx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66" name="Picture 6" descr="F12-15"/>
          <p:cNvPicPr/>
          <p:nvPr/>
        </p:nvPicPr>
        <p:blipFill>
          <a:blip r:embed="rId2"/>
          <a:stretch/>
        </p:blipFill>
        <p:spPr>
          <a:xfrm>
            <a:off x="4038480" y="3429000"/>
            <a:ext cx="4095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3962160" cy="53352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Layered intrusion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762120"/>
          <a:ext cx="7848720" cy="4251240"/>
        </p:xfrm>
        <a:graphic>
          <a:graphicData uri="http://schemas.openxmlformats.org/drawingml/2006/table">
            <a:tbl>
              <a:tblPr/>
              <a:tblGrid>
                <a:gridCol w="2292480"/>
                <a:gridCol w="755640"/>
                <a:gridCol w="4800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Name, 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Rema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Skaergaard, Green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5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55k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; 3.5km th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Rum, Scot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61-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115k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;&gt;2km th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Duluth, M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More the dozen layered intrusions&gt;5000k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Muskox, NWT, 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1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Canoe shaped: 11x 150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Sudburry, Ont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1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1100k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, impac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Bushveld, South Af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65000km2, 7-9km thick, remarkably continuous lay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Jimberlana, Austr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Canoe shaped complexes, underlain by dike 1.5km wide, 180km 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Great Dyke, Zimbab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4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4 canoe complexes, 4-11km wide; 550km 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Stillwater, Mont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8 x 55 km; 7km thick, basal ultramafics, gabbros and anorthosites preser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Windimurra, Western Austr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5 x 85 km; 5-13km; only slight different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3352680" cy="60948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Cumulus fabric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70" name="Picture 3" descr="F12-16"/>
          <p:cNvPicPr/>
          <p:nvPr/>
        </p:nvPicPr>
        <p:blipFill>
          <a:blip r:embed="rId1"/>
          <a:stretch/>
        </p:blipFill>
        <p:spPr>
          <a:xfrm>
            <a:off x="380880" y="914400"/>
            <a:ext cx="2800440" cy="5000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F12-17"/>
          <p:cNvPicPr/>
          <p:nvPr/>
        </p:nvPicPr>
        <p:blipFill>
          <a:blip r:embed="rId2"/>
          <a:stretch/>
        </p:blipFill>
        <p:spPr>
          <a:xfrm>
            <a:off x="4343400" y="0"/>
            <a:ext cx="4114800" cy="2000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F12-18"/>
          <p:cNvPicPr/>
          <p:nvPr/>
        </p:nvPicPr>
        <p:blipFill>
          <a:blip r:embed="rId3"/>
          <a:stretch/>
        </p:blipFill>
        <p:spPr>
          <a:xfrm>
            <a:off x="3657600" y="2743200"/>
            <a:ext cx="4952880" cy="3807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4833360" y="2268360"/>
            <a:ext cx="102060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Muskox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2743200" cy="53352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kaergaard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75" name="Picture 3" descr="F12-19"/>
          <p:cNvPicPr/>
          <p:nvPr/>
        </p:nvPicPr>
        <p:blipFill>
          <a:blip r:embed="rId1"/>
          <a:stretch/>
        </p:blipFill>
        <p:spPr>
          <a:xfrm>
            <a:off x="2819520" y="0"/>
            <a:ext cx="4057560" cy="224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F12-20"/>
          <p:cNvPicPr/>
          <p:nvPr/>
        </p:nvPicPr>
        <p:blipFill>
          <a:blip r:embed="rId2"/>
          <a:stretch/>
        </p:blipFill>
        <p:spPr>
          <a:xfrm>
            <a:off x="0" y="2438280"/>
            <a:ext cx="5257800" cy="36943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94680" y="711360"/>
            <a:ext cx="270144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Extreme Fe-enrichment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78" name="Picture 6" descr="F12-21"/>
          <p:cNvPicPr/>
          <p:nvPr/>
        </p:nvPicPr>
        <p:blipFill>
          <a:blip r:embed="rId3"/>
          <a:stretch/>
        </p:blipFill>
        <p:spPr>
          <a:xfrm>
            <a:off x="5172120" y="2362320"/>
            <a:ext cx="3971880" cy="2466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5334120" y="4876920"/>
            <a:ext cx="3809880" cy="10674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Phase layering: changes in mineralogy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Cryptic layering: changes in chemical composition of the minerals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9:06:38Z</dcterms:created>
  <dc:creator>Vincent Salters</dc:creator>
  <dc:description/>
  <dc:language>en-US</dc:language>
  <cp:lastModifiedBy>ksu</cp:lastModifiedBy>
  <dcterms:modified xsi:type="dcterms:W3CDTF">2011-07-21T22:44:36Z</dcterms:modified>
  <cp:revision>5</cp:revision>
  <dc:subject/>
  <dc:title>Magmatic differentiation</dc:title>
</cp:coreProperties>
</file>