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039-591E-4723-BFDF-16C765E9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F4E-98F0-4AA1-AD2E-C7F13CCD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32C-2473-4693-B107-8661FE0C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209-F445-45A7-BD35-D3A88071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73B-26ED-474A-B86C-EC499C8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B25-8AD8-4780-AD18-0EA1FCA2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2EB-35CC-4AD6-BC80-368D4FB6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072-9B68-4E8A-BD2A-0E52C4E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AD3-DA86-46D6-B3F4-3DAD0D6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6CF-BE23-4768-8465-BCB14FA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6A1-225E-4989-A3ED-62D8DE4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F67-695C-4952-9B8B-0037875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453-7B59-41E7-BE5F-376D2FBD93F2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518184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differenti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34440" y="861840"/>
            <a:ext cx="6138000" cy="39877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: crystallization of a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cogenetic relationships between magmas (lavas)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etermine least fractionated, parental magma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Fractionation trends gives clues about P, T of magma chamb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Differentiation processe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: Closed system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Crystal-melt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1. Gravitational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2. Flow segreg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3. Filter pressing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4. Convectiv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Separation of immiscible melt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. Melt fluid separ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II: Open system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A. Assimilation of a solid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B. Mixing of different magma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7150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ORB fractionation trend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1" name="Picture 3" descr="F12-23"/>
          <p:cNvPicPr/>
          <p:nvPr/>
        </p:nvPicPr>
        <p:blipFill>
          <a:blip r:embed="rId1"/>
          <a:stretch/>
        </p:blipFill>
        <p:spPr>
          <a:xfrm>
            <a:off x="685800" y="914400"/>
            <a:ext cx="2847960" cy="24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F12-24"/>
          <p:cNvPicPr/>
          <p:nvPr/>
        </p:nvPicPr>
        <p:blipFill>
          <a:blip r:embed="rId2"/>
          <a:stretch/>
        </p:blipFill>
        <p:spPr>
          <a:xfrm>
            <a:off x="4952880" y="914400"/>
            <a:ext cx="2971800" cy="286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5045040" y="3925800"/>
            <a:ext cx="3565440" cy="91692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Where is the primary magma?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 P melts to low P: olivine fraction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57600"/>
            <a:ext cx="365760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ractionation trend toward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312408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e-enrich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86" name="Picture 3" descr="F12-22"/>
          <p:cNvPicPr/>
          <p:nvPr/>
        </p:nvPicPr>
        <p:blipFill>
          <a:blip r:embed="rId1"/>
          <a:stretch/>
        </p:blipFill>
        <p:spPr>
          <a:xfrm>
            <a:off x="304920" y="762120"/>
            <a:ext cx="4019400" cy="5049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4572000" y="1219320"/>
            <a:ext cx="434340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oleiitic trend shows Fe-enrichment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ck of enrichment in calc-alkaline tre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igher oxygen fugacit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e-oxide stable at higher temperature i.e. fractionates earlier in the sequenc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onga-Kermadec-New Zealand Ar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21840" y="858960"/>
            <a:ext cx="61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cean-ocean in North, ocean-continent at New Zealand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0" name="Picture 4" descr="F12-26"/>
          <p:cNvPicPr/>
          <p:nvPr/>
        </p:nvPicPr>
        <p:blipFill>
          <a:blip r:embed="rId1"/>
          <a:stretch/>
        </p:blipFill>
        <p:spPr>
          <a:xfrm>
            <a:off x="304920" y="1219320"/>
            <a:ext cx="4403520" cy="4113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876920" y="1295280"/>
            <a:ext cx="392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ften a bimodal distribution in silic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aupo rhyolite field in New Zealand, too large a volume for simple fractionatio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arge addition of crustal melts.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omplicating factors at continental arcs: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ediment from continent gets subducted enhancing felsic magma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ubcontinental lithosphere has been metasomatically enriched over time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The thicker continental crust results in more opportunity for assimilation.  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66688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3" name="Picture 3" descr="F12-27"/>
          <p:cNvPicPr/>
          <p:nvPr/>
        </p:nvPicPr>
        <p:blipFill>
          <a:blip r:embed="rId1"/>
          <a:stretch/>
        </p:blipFill>
        <p:spPr>
          <a:xfrm>
            <a:off x="304920" y="838080"/>
            <a:ext cx="2867040" cy="34005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310200" y="83340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bined crystallization and assimilation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5" name="Picture 5" descr="F12-28"/>
          <p:cNvPicPr/>
          <p:nvPr/>
        </p:nvPicPr>
        <p:blipFill>
          <a:blip r:embed="rId2"/>
          <a:stretch/>
        </p:blipFill>
        <p:spPr>
          <a:xfrm>
            <a:off x="4419720" y="1600200"/>
            <a:ext cx="29048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2895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edicine Lak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97" name="Picture 3" descr="F12-29"/>
          <p:cNvPicPr/>
          <p:nvPr/>
        </p:nvPicPr>
        <p:blipFill>
          <a:blip r:embed="rId1"/>
          <a:stretch/>
        </p:blipFill>
        <p:spPr>
          <a:xfrm>
            <a:off x="228600" y="838080"/>
            <a:ext cx="2852640" cy="54849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657600" y="76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compatible and compatible element concentrations to high for fractional X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FC more likely, but component of mixing required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9" name="Picture 5" descr="F12-30"/>
          <p:cNvPicPr/>
          <p:nvPr/>
        </p:nvPicPr>
        <p:blipFill>
          <a:blip r:embed="rId2"/>
          <a:stretch/>
        </p:blipFill>
        <p:spPr>
          <a:xfrm>
            <a:off x="3200400" y="2666880"/>
            <a:ext cx="2843280" cy="365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F12-31"/>
          <p:cNvPicPr/>
          <p:nvPr/>
        </p:nvPicPr>
        <p:blipFill>
          <a:blip r:embed="rId3"/>
          <a:stretch/>
        </p:blipFill>
        <p:spPr>
          <a:xfrm>
            <a:off x="6172200" y="2286000"/>
            <a:ext cx="28861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Magmatic petrotectonic associat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38480" y="9176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preading center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3" name="Picture 4" descr="F13-01a"/>
          <p:cNvPicPr/>
          <p:nvPr/>
        </p:nvPicPr>
        <p:blipFill>
          <a:blip r:embed="rId1"/>
          <a:stretch/>
        </p:blipFill>
        <p:spPr>
          <a:xfrm>
            <a:off x="380880" y="1905120"/>
            <a:ext cx="3934080" cy="2457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F13-01b"/>
          <p:cNvPicPr/>
          <p:nvPr/>
        </p:nvPicPr>
        <p:blipFill>
          <a:blip r:embed="rId2"/>
          <a:stretch/>
        </p:blipFill>
        <p:spPr>
          <a:xfrm>
            <a:off x="5410080" y="914400"/>
            <a:ext cx="30862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02920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reading center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06" name="Picture 3" descr="F13-02"/>
          <p:cNvPicPr/>
          <p:nvPr/>
        </p:nvPicPr>
        <p:blipFill>
          <a:blip r:embed="rId1"/>
          <a:stretch/>
        </p:blipFill>
        <p:spPr>
          <a:xfrm>
            <a:off x="304920" y="838080"/>
            <a:ext cx="407664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F13-03"/>
          <p:cNvPicPr/>
          <p:nvPr/>
        </p:nvPicPr>
        <p:blipFill>
          <a:blip r:embed="rId2"/>
          <a:stretch/>
        </p:blipFill>
        <p:spPr>
          <a:xfrm>
            <a:off x="380880" y="3048120"/>
            <a:ext cx="3049560" cy="36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13-04"/>
          <p:cNvPicPr/>
          <p:nvPr/>
        </p:nvPicPr>
        <p:blipFill>
          <a:blip r:embed="rId3"/>
          <a:stretch/>
        </p:blipFill>
        <p:spPr>
          <a:xfrm>
            <a:off x="4572000" y="1371600"/>
            <a:ext cx="4057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38098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 at the ridge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0" name="Picture 3" descr="F13-05"/>
          <p:cNvPicPr/>
          <p:nvPr/>
        </p:nvPicPr>
        <p:blipFill>
          <a:blip r:embed="rId1"/>
          <a:stretch/>
        </p:blipFill>
        <p:spPr>
          <a:xfrm>
            <a:off x="152280" y="762120"/>
            <a:ext cx="2914920" cy="21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13-06"/>
          <p:cNvPicPr/>
          <p:nvPr/>
        </p:nvPicPr>
        <p:blipFill>
          <a:blip r:embed="rId2"/>
          <a:stretch/>
        </p:blipFill>
        <p:spPr>
          <a:xfrm>
            <a:off x="990720" y="3124080"/>
            <a:ext cx="325728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13-07"/>
          <p:cNvPicPr/>
          <p:nvPr/>
        </p:nvPicPr>
        <p:blipFill>
          <a:blip r:embed="rId3"/>
          <a:stretch/>
        </p:blipFill>
        <p:spPr>
          <a:xfrm>
            <a:off x="4800600" y="1295280"/>
            <a:ext cx="40766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175284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lum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4" name="Picture 3" descr="F13-08"/>
          <p:cNvPicPr/>
          <p:nvPr/>
        </p:nvPicPr>
        <p:blipFill>
          <a:blip r:embed="rId1"/>
          <a:stretch/>
        </p:blipFill>
        <p:spPr>
          <a:xfrm>
            <a:off x="0" y="457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F13-09"/>
          <p:cNvPicPr/>
          <p:nvPr/>
        </p:nvPicPr>
        <p:blipFill>
          <a:blip r:embed="rId2"/>
          <a:stretch/>
        </p:blipFill>
        <p:spPr>
          <a:xfrm>
            <a:off x="0" y="2895480"/>
            <a:ext cx="5029200" cy="387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F13-10"/>
          <p:cNvPicPr/>
          <p:nvPr/>
        </p:nvPicPr>
        <p:blipFill>
          <a:blip r:embed="rId3"/>
          <a:stretch/>
        </p:blipFill>
        <p:spPr>
          <a:xfrm>
            <a:off x="3657600" y="533520"/>
            <a:ext cx="2819520" cy="2417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13-11"/>
          <p:cNvPicPr/>
          <p:nvPr/>
        </p:nvPicPr>
        <p:blipFill>
          <a:blip r:embed="rId4"/>
          <a:stretch/>
        </p:blipFill>
        <p:spPr>
          <a:xfrm>
            <a:off x="6391440" y="2438280"/>
            <a:ext cx="2752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awaii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19" name="Picture 3" descr="F13-12"/>
          <p:cNvPicPr/>
          <p:nvPr/>
        </p:nvPicPr>
        <p:blipFill>
          <a:blip r:embed="rId1"/>
          <a:stretch/>
        </p:blipFill>
        <p:spPr>
          <a:xfrm>
            <a:off x="76320" y="762120"/>
            <a:ext cx="3943080" cy="339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13-13"/>
          <p:cNvPicPr/>
          <p:nvPr/>
        </p:nvPicPr>
        <p:blipFill>
          <a:blip r:embed="rId2"/>
          <a:stretch/>
        </p:blipFill>
        <p:spPr>
          <a:xfrm>
            <a:off x="4419720" y="990720"/>
            <a:ext cx="43909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03848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57320" y="1066680"/>
            <a:ext cx="54813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Harker diagrams: Oxide-oxide variation diagram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5" name="Picture 4" descr="F12-01"/>
          <p:cNvPicPr/>
          <p:nvPr/>
        </p:nvPicPr>
        <p:blipFill>
          <a:blip r:embed="rId1"/>
          <a:stretch/>
        </p:blipFill>
        <p:spPr>
          <a:xfrm>
            <a:off x="304920" y="1447920"/>
            <a:ext cx="289548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397440" y="2895480"/>
            <a:ext cx="208116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ever rule appli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47" name="Picture 8" descr="F12-02"/>
          <p:cNvPicPr/>
          <p:nvPr/>
        </p:nvPicPr>
        <p:blipFill>
          <a:blip r:embed="rId2"/>
          <a:stretch/>
        </p:blipFill>
        <p:spPr>
          <a:xfrm>
            <a:off x="6095880" y="685800"/>
            <a:ext cx="2847960" cy="5697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380880" y="3276720"/>
            <a:ext cx="52340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iquid moves away from the composition of the crystallizing assemblage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26672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Plumes cont’d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2" name="Picture 3" descr="F13-14"/>
          <p:cNvPicPr/>
          <p:nvPr/>
        </p:nvPicPr>
        <p:blipFill>
          <a:blip r:embed="rId1"/>
          <a:stretch/>
        </p:blipFill>
        <p:spPr>
          <a:xfrm>
            <a:off x="76320" y="990720"/>
            <a:ext cx="4467240" cy="377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F13-15"/>
          <p:cNvPicPr/>
          <p:nvPr/>
        </p:nvPicPr>
        <p:blipFill>
          <a:blip r:embed="rId2"/>
          <a:stretch/>
        </p:blipFill>
        <p:spPr>
          <a:xfrm>
            <a:off x="4800600" y="685800"/>
            <a:ext cx="392436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00400" cy="609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5" name="Picture 3" descr="F13-16"/>
          <p:cNvPicPr/>
          <p:nvPr/>
        </p:nvPicPr>
        <p:blipFill>
          <a:blip r:embed="rId1"/>
          <a:stretch/>
        </p:blipFill>
        <p:spPr>
          <a:xfrm>
            <a:off x="76320" y="838080"/>
            <a:ext cx="4676760" cy="24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13-17"/>
          <p:cNvPicPr/>
          <p:nvPr/>
        </p:nvPicPr>
        <p:blipFill>
          <a:blip r:embed="rId2"/>
          <a:stretch/>
        </p:blipFill>
        <p:spPr>
          <a:xfrm>
            <a:off x="2895480" y="3352680"/>
            <a:ext cx="5764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419720" cy="53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Flood basalt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28" name="Picture 3" descr="F13-18"/>
          <p:cNvPicPr/>
          <p:nvPr/>
        </p:nvPicPr>
        <p:blipFill>
          <a:blip r:embed="rId1"/>
          <a:stretch/>
        </p:blipFill>
        <p:spPr>
          <a:xfrm>
            <a:off x="76320" y="533520"/>
            <a:ext cx="294948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F13-19"/>
          <p:cNvPicPr/>
          <p:nvPr/>
        </p:nvPicPr>
        <p:blipFill>
          <a:blip r:embed="rId2"/>
          <a:stretch/>
        </p:blipFill>
        <p:spPr>
          <a:xfrm>
            <a:off x="4952880" y="304920"/>
            <a:ext cx="31464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F13-21"/>
          <p:cNvPicPr/>
          <p:nvPr/>
        </p:nvPicPr>
        <p:blipFill>
          <a:blip r:embed="rId3"/>
          <a:stretch/>
        </p:blipFill>
        <p:spPr>
          <a:xfrm>
            <a:off x="304920" y="2475000"/>
            <a:ext cx="3278160" cy="438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13-22"/>
          <p:cNvPicPr/>
          <p:nvPr/>
        </p:nvPicPr>
        <p:blipFill>
          <a:blip r:embed="rId4"/>
          <a:stretch/>
        </p:blipFill>
        <p:spPr>
          <a:xfrm>
            <a:off x="5181480" y="2895480"/>
            <a:ext cx="29592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251460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sland ar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33" name="Picture 3" descr="F13-24"/>
          <p:cNvPicPr/>
          <p:nvPr/>
        </p:nvPicPr>
        <p:blipFill>
          <a:blip r:embed="rId1"/>
          <a:stretch/>
        </p:blipFill>
        <p:spPr>
          <a:xfrm>
            <a:off x="76320" y="914400"/>
            <a:ext cx="2819160" cy="2647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F13-25"/>
          <p:cNvPicPr/>
          <p:nvPr/>
        </p:nvPicPr>
        <p:blipFill>
          <a:blip r:embed="rId2"/>
          <a:stretch/>
        </p:blipFill>
        <p:spPr>
          <a:xfrm>
            <a:off x="3352680" y="228600"/>
            <a:ext cx="3321000" cy="3352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750960" y="4000680"/>
            <a:ext cx="69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race elements in island arc rock distinct: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epletion in high field strength elements (Ti, Zr, Hf, Nb, Ta)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 oceanic settings the HREE can be more depleted then MORB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05320" cy="533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  <a:ea typeface="ＭＳ Ｐゴシック"/>
              </a:rPr>
              <a:t>Rift volcanic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07880" y="781200"/>
            <a:ext cx="8431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arbonatite: &gt;50% carbonate minerals; alkali carbonatite &lt;0.2wt% Si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+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nev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lated to strongly Si-undersaturated rocks: phonolite, nephelinite, melilitite, hawaiit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trongly enriched in LIL: large ion lithophile elements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24880" y="223056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lkalic rarities</a:t>
            </a:r>
            <a:endParaRPr b="0" lang="en-US" sz="2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8800" y="2903400"/>
            <a:ext cx="60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Lamprophyres, lamproites, orangeites and kimberlit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otassic, volatile rich, mafic to ultramafic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52578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Variation diagrams cont’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0" name="Picture 3" descr="F12-03"/>
          <p:cNvPicPr/>
          <p:nvPr/>
        </p:nvPicPr>
        <p:blipFill>
          <a:blip r:embed="rId1"/>
          <a:stretch/>
        </p:blipFill>
        <p:spPr>
          <a:xfrm>
            <a:off x="304920" y="914400"/>
            <a:ext cx="40003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228600" y="4038480"/>
            <a:ext cx="4076640" cy="6426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esorbed olivines, constant composition of phenocryst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06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029200" cy="53316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Trace element modeling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4" name="Picture 3" descr="F12-04"/>
          <p:cNvPicPr/>
          <p:nvPr/>
        </p:nvPicPr>
        <p:blipFill>
          <a:blip r:embed="rId1"/>
          <a:stretch/>
        </p:blipFill>
        <p:spPr>
          <a:xfrm>
            <a:off x="609480" y="1066680"/>
            <a:ext cx="4210200" cy="4048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73560" y="5181480"/>
            <a:ext cx="28782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melt and </a:t>
            </a:r>
            <a:r>
              <a:rPr b="0" i="1" lang="en-US" sz="1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 is parent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40440" y="1198440"/>
            <a:ext cx="3851280" cy="11912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Compatible element concentrations decrease quickly; Incompatible element concentrations increase slowly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57" name="Picture 6" descr="F12-05"/>
          <p:cNvPicPr/>
          <p:nvPr/>
        </p:nvPicPr>
        <p:blipFill>
          <a:blip r:embed="rId2"/>
          <a:stretch/>
        </p:blipFill>
        <p:spPr>
          <a:xfrm>
            <a:off x="5181480" y="2666880"/>
            <a:ext cx="3657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2743200" cy="60984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59" name="Picture 3" descr="F12-13"/>
          <p:cNvPicPr/>
          <p:nvPr/>
        </p:nvPicPr>
        <p:blipFill>
          <a:blip r:embed="rId1"/>
          <a:stretch/>
        </p:blipFill>
        <p:spPr>
          <a:xfrm>
            <a:off x="304920" y="1219320"/>
            <a:ext cx="3705120" cy="294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49000" y="779400"/>
            <a:ext cx="75949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crustal material often better recognized with isotopes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9720" y="1219320"/>
            <a:ext cx="4014720" cy="2014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ssimilation of mafic material hard to recogniz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ata often permissive, but not conclusive.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vidence: crustal xenoliths, resorbed qtz, trace elements, isotopes.  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42670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asaltic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85840" y="533520"/>
            <a:ext cx="513072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alisades sill: example of gravitational settling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4" name="Picture 4" descr="F12-14"/>
          <p:cNvPicPr/>
          <p:nvPr/>
        </p:nvPicPr>
        <p:blipFill>
          <a:blip r:embed="rId1"/>
          <a:stretch/>
        </p:blipFill>
        <p:spPr>
          <a:xfrm>
            <a:off x="152280" y="1143000"/>
            <a:ext cx="2886120" cy="548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527280" y="969840"/>
            <a:ext cx="5159520" cy="204084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Evidence: 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 rich layer at the bottom changes in thickness based on the underlying topograph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Sharp change in olivine abundance going upward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Olivines are more Fe-rich than what is expected based on the chilled margin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57200" indent="-457200"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Local internal chilled contacts: new influx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66" name="Picture 6" descr="F12-15"/>
          <p:cNvPicPr/>
          <p:nvPr/>
        </p:nvPicPr>
        <p:blipFill>
          <a:blip r:embed="rId2"/>
          <a:stretch/>
        </p:blipFill>
        <p:spPr>
          <a:xfrm>
            <a:off x="4038480" y="3429000"/>
            <a:ext cx="4095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96216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ayered intrusion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762120"/>
          <a:ext cx="7848720" cy="4251240"/>
        </p:xfrm>
        <a:graphic>
          <a:graphicData uri="http://schemas.openxmlformats.org/drawingml/2006/table">
            <a:tbl>
              <a:tblPr/>
              <a:tblGrid>
                <a:gridCol w="2292480"/>
                <a:gridCol w="755640"/>
                <a:gridCol w="4800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Name,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ema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kaergaard, Gree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5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 3.5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Rum, Scot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1-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5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;&gt;2km th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Duluth, 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ore the dozen layered intrusions&gt;50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Muskox, NWT,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: 11x 15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udburry,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1100k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, impac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Bushveld, 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65000km2, 7-9km thick, remarkably continuous lay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Jimberlana,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Canoe shaped complexes, underlain by dike 1.5km wide, 18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Great Dyke, Zimbab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4 canoe complexes, 4-11km wide; 550km 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Stillwater, Mont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8 x 55 km; 7km thick, basal ultramafics, gabbros and anorthosites p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Windimurra, Western 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neva"/>
                          <a:ea typeface="MS Pゴシック"/>
                        </a:rPr>
                        <a:t>25 x 85 km; 5-13km; only slight different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nev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dcb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352680" cy="60948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umulus fabric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0" name="Picture 3" descr="F12-16"/>
          <p:cNvPicPr/>
          <p:nvPr/>
        </p:nvPicPr>
        <p:blipFill>
          <a:blip r:embed="rId1"/>
          <a:stretch/>
        </p:blipFill>
        <p:spPr>
          <a:xfrm>
            <a:off x="380880" y="914400"/>
            <a:ext cx="2800440" cy="5000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F12-17"/>
          <p:cNvPicPr/>
          <p:nvPr/>
        </p:nvPicPr>
        <p:blipFill>
          <a:blip r:embed="rId2"/>
          <a:stretch/>
        </p:blipFill>
        <p:spPr>
          <a:xfrm>
            <a:off x="4343400" y="0"/>
            <a:ext cx="4114800" cy="200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12-18"/>
          <p:cNvPicPr/>
          <p:nvPr/>
        </p:nvPicPr>
        <p:blipFill>
          <a:blip r:embed="rId3"/>
          <a:stretch/>
        </p:blipFill>
        <p:spPr>
          <a:xfrm>
            <a:off x="3657600" y="2743200"/>
            <a:ext cx="4952880" cy="3807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4833360" y="2268360"/>
            <a:ext cx="102060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uskox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2743200" cy="533520"/>
          </a:xfrm>
          <a:prstGeom prst="rect">
            <a:avLst/>
          </a:prstGeom>
          <a:solidFill>
            <a:srgbClr val="e9dcb9"/>
          </a:solidFill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kaergaard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75" name="Picture 3" descr="F12-19"/>
          <p:cNvPicPr/>
          <p:nvPr/>
        </p:nvPicPr>
        <p:blipFill>
          <a:blip r:embed="rId1"/>
          <a:stretch/>
        </p:blipFill>
        <p:spPr>
          <a:xfrm>
            <a:off x="2819520" y="0"/>
            <a:ext cx="4057560" cy="224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12-20"/>
          <p:cNvPicPr/>
          <p:nvPr/>
        </p:nvPicPr>
        <p:blipFill>
          <a:blip r:embed="rId2"/>
          <a:stretch/>
        </p:blipFill>
        <p:spPr>
          <a:xfrm>
            <a:off x="0" y="2438280"/>
            <a:ext cx="5257800" cy="3694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4680" y="711360"/>
            <a:ext cx="2701440" cy="36828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xtreme Fe-enrichment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78" name="Picture 6" descr="F12-21"/>
          <p:cNvPicPr/>
          <p:nvPr/>
        </p:nvPicPr>
        <p:blipFill>
          <a:blip r:embed="rId3"/>
          <a:stretch/>
        </p:blipFill>
        <p:spPr>
          <a:xfrm>
            <a:off x="5172120" y="2362320"/>
            <a:ext cx="3971880" cy="24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5334120" y="4876920"/>
            <a:ext cx="3809880" cy="10674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Phase layering: changes in mineralogy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Cryptic layering: changes in chemical composition of the minerals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9:06:38Z</dcterms:created>
  <dc:creator>Vincent Salters</dc:creator>
  <dc:description/>
  <dc:language>en-US</dc:language>
  <cp:lastModifiedBy>ksu</cp:lastModifiedBy>
  <dcterms:modified xsi:type="dcterms:W3CDTF">2011-07-21T22:44:36Z</dcterms:modified>
  <cp:revision>5</cp:revision>
  <dc:subject/>
  <dc:title>Magmatic differentiation</dc:title>
</cp:coreProperties>
</file>