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914400" y="4312800"/>
            <a:ext cx="50292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26320"/>
            <a:ext cx="2971800" cy="45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6"/>
          <p:cNvSpPr>
            <a:spLocks noGrp="1"/>
          </p:cNvSpPr>
          <p:nvPr>
            <p:ph type="sldNum" idx="9"/>
          </p:nvPr>
        </p:nvSpPr>
        <p:spPr>
          <a:xfrm>
            <a:off x="3885840" y="8626320"/>
            <a:ext cx="2971800" cy="454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C176-1BE5-4A32-8ACE-60A9014AA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F9DF-B93F-4A23-BA9C-2C256E30BD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58840" y="681120"/>
            <a:ext cx="4540320" cy="3405240"/>
          </a:xfrm>
          <a:prstGeom prst="rect">
            <a:avLst/>
          </a:prstGeom>
          <a:ln w="0">
            <a:noFill/>
          </a:ln>
        </p:spPr>
      </p:sp>
      <p:sp>
        <p:nvSpPr>
          <p:cNvPr id="11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5901-820F-4452-932F-C18DF86E89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58840" y="681120"/>
            <a:ext cx="4540320" cy="3405240"/>
          </a:xfrm>
          <a:prstGeom prst="rect">
            <a:avLst/>
          </a:prstGeom>
          <a:ln w="0">
            <a:noFill/>
          </a:ln>
        </p:spPr>
      </p:sp>
      <p:sp>
        <p:nvSpPr>
          <p:cNvPr id="12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9DD5-2066-4A70-AF83-99DF04AC5B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58840" y="681120"/>
            <a:ext cx="4540320" cy="3405240"/>
          </a:xfrm>
          <a:prstGeom prst="rect">
            <a:avLst/>
          </a:prstGeom>
          <a:ln w="0">
            <a:noFill/>
          </a:ln>
        </p:spPr>
      </p:sp>
      <p:sp>
        <p:nvSpPr>
          <p:cNvPr id="12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EC92-C802-4821-B2B9-1770B1A906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58840" y="681120"/>
            <a:ext cx="4540320" cy="3405240"/>
          </a:xfrm>
          <a:prstGeom prst="rect">
            <a:avLst/>
          </a:prstGeom>
          <a:ln w="0">
            <a:noFill/>
          </a:ln>
        </p:spPr>
      </p:sp>
      <p:sp>
        <p:nvSpPr>
          <p:cNvPr id="12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s daily cough and phlegm production, more frequent acute chest illnesses, a heightened risk of lung infections, and a greater tendency toward obstructed airway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E65D3-7442-4548-847A-461FD1DA2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D519-AF75-4B76-A740-AFB33F709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FFF6D-FEA7-4367-8376-C385FA67E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49197-CA25-4769-BE33-153F1D644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478A1-C2C9-447F-9C0D-B2BFE8DF0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FAB60-94ED-447C-AC57-8E1677360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A481E-6C36-470D-8D9B-FE79CE426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5C8CB-EA68-44AF-8084-87523B16D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6CE96-3FFD-48DE-B675-48AD0F2C6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4329D-F74C-4CED-99AE-137DC9BB3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772F3-39DB-45C5-9153-522400312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AB527-C72F-497F-9EE6-2B9E21F7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CA5FB-7975-40C4-8769-31637A06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F7E62-AD95-4525-AFA9-764A39F06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F3C0C-622D-4479-AE5A-AB49DDE73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D3970-3F80-40B5-B937-C24E106DF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BA2CC-3FAC-4CA8-AC70-8152A9E6D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8715C-A890-4E54-B0E6-722DAC488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13BE3-2DFB-433D-86C3-261EAC390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5413-700F-47D5-9C56-D3BDB977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90F61-4C01-4F35-A3F3-810E8BD56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5B3A-305A-47C2-B98E-978863E1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BB88-DB40-4774-913B-3FE6B6B03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DCB7-7618-46CF-8895-160621531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5EB9-56CC-46CF-AE4F-E18D0D26067F}"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5994-48A5-49E7-A293-DCAF4428E469}"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76280" y="-6480"/>
            <a:ext cx="8712360" cy="2103480"/>
          </a:xfrm>
          <a:prstGeom prst="rect">
            <a:avLst/>
          </a:prstGeom>
          <a:ln w="0">
            <a:noFill/>
          </a:ln>
        </p:spPr>
      </p:pic>
      <p:sp>
        <p:nvSpPr>
          <p:cNvPr id="90" name="PlaceHolder 1"/>
          <p:cNvSpPr>
            <a:spLocks noGrp="1"/>
          </p:cNvSpPr>
          <p:nvPr>
            <p:ph type="subTitle"/>
          </p:nvPr>
        </p:nvSpPr>
        <p:spPr>
          <a:xfrm>
            <a:off x="179280" y="1844640"/>
            <a:ext cx="6400800" cy="1752480"/>
          </a:xfrm>
          <a:prstGeom prst="rect">
            <a:avLst/>
          </a:prstGeom>
          <a:noFill/>
          <a:ln w="0">
            <a:noFill/>
          </a:ln>
        </p:spPr>
        <p:txBody>
          <a:bodyPr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 </a:t>
            </a:r>
            <a:endParaRPr b="0" lang="en-US" sz="2800" spc="-1" strike="noStrike">
              <a:solidFill>
                <a:srgbClr val="ffffff"/>
              </a:solidFill>
              <a:latin typeface="Book Antiqua"/>
            </a:endParaRPr>
          </a:p>
        </p:txBody>
      </p:sp>
      <p:pic>
        <p:nvPicPr>
          <p:cNvPr id="91" name="Picture 7" descr="http://ts1.mm.bing.net/images/thumbnail.aspx?q=4868981601602904&amp;id=2d7356f69e19a5f94623aa547f8ee3c9"/>
          <p:cNvPicPr/>
          <p:nvPr/>
        </p:nvPicPr>
        <p:blipFill>
          <a:blip r:embed="rId2"/>
          <a:stretch/>
        </p:blipFill>
        <p:spPr>
          <a:xfrm>
            <a:off x="4643280" y="1857240"/>
            <a:ext cx="4500720" cy="4714920"/>
          </a:xfrm>
          <a:prstGeom prst="rect">
            <a:avLst/>
          </a:prstGeom>
          <a:ln w="0">
            <a:noFill/>
          </a:ln>
        </p:spPr>
      </p:pic>
      <p:pic>
        <p:nvPicPr>
          <p:cNvPr id="92" name="Picture 9" descr="http://ts1.mm.bing.net/images/thumbnail.aspx?q=4729021500031584&amp;id=776a198096385ae08f589a31e5038809"/>
          <p:cNvPicPr/>
          <p:nvPr/>
        </p:nvPicPr>
        <p:blipFill>
          <a:blip r:embed="rId3"/>
          <a:stretch/>
        </p:blipFill>
        <p:spPr>
          <a:xfrm>
            <a:off x="214200" y="2571840"/>
            <a:ext cx="378648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gres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xie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pressed moo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creased appeti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rot="21328200">
            <a:off x="1452960" y="1493280"/>
            <a:ext cx="7620120" cy="284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6.8% of high school students reported using marijuana in the past month</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Text Box 3"/>
          <p:cNvSpPr/>
          <p:nvPr/>
        </p:nvSpPr>
        <p:spPr>
          <a:xfrm rot="20868600">
            <a:off x="-441000" y="27000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most commonly used illicit drug</a:t>
            </a:r>
            <a:r>
              <a:rPr b="1" lang="en-US" sz="2400" spc="-1" strike="noStrike">
                <a:solidFill>
                  <a:srgbClr val="ffffff"/>
                </a:solidFill>
                <a:latin typeface="Tahoma"/>
              </a:rPr>
              <a:t> </a:t>
            </a:r>
            <a:endParaRPr b="0" lang="en-US" sz="2400" spc="-1" strike="noStrike">
              <a:solidFill>
                <a:srgbClr val="ffffff"/>
              </a:solidFill>
              <a:latin typeface="Times New Roman"/>
            </a:endParaRPr>
          </a:p>
        </p:txBody>
      </p:sp>
      <p:sp>
        <p:nvSpPr>
          <p:cNvPr id="113" name="Rectangle 4"/>
          <p:cNvSpPr/>
          <p:nvPr/>
        </p:nvSpPr>
        <p:spPr>
          <a:xfrm rot="886800">
            <a:off x="-58680" y="4425120"/>
            <a:ext cx="9144000" cy="1646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Nearly 69 million Americans over the age of 12 have tried marijuana at least once in their lifeti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165240"/>
            <a:ext cx="8242560" cy="1371600"/>
          </a:xfrm>
          <a:prstGeom prst="rect">
            <a:avLst/>
          </a:prstGeom>
          <a:ln w="0">
            <a:noFill/>
          </a:ln>
        </p:spPr>
      </p:pic>
      <p:sp>
        <p:nvSpPr>
          <p:cNvPr id="115" name=""/>
          <p:cNvSpPr txBox="1"/>
          <p:nvPr/>
        </p:nvSpPr>
        <p:spPr>
          <a:xfrm>
            <a:off x="0" y="1268280"/>
            <a:ext cx="9144000" cy="579600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eaction time for motor skills, such as driving is reduced by 41% after smoking 1 joint and is reduced 63% after smoking 2 joint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verage age of first trying marijuana is 14 years old!!! </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daily use of 1 to 3 marijuana joints can produce the </a:t>
            </a:r>
            <a:r>
              <a:rPr b="0" i="1" lang="en-US" sz="3600" spc="-1" strike="noStrike">
                <a:solidFill>
                  <a:srgbClr val="ffffff"/>
                </a:solidFill>
                <a:latin typeface="Book Antiqua"/>
              </a:rPr>
              <a:t>same lung damage and potential cancer risk</a:t>
            </a:r>
            <a:r>
              <a:rPr b="0" lang="en-US" sz="3600" spc="-1" strike="noStrike">
                <a:solidFill>
                  <a:srgbClr val="ffffff"/>
                </a:solidFill>
                <a:latin typeface="Book Antiqua"/>
              </a:rPr>
              <a:t> as smoking five times as many cigarettes.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rijuana is a green, brown or gray mixture of dried, shredded leaves, stems, seeds and flowers of the hemp plant </a:t>
            </a:r>
            <a:r>
              <a:rPr b="0" i="1" lang="en-US" sz="2800" spc="-1" strike="noStrike">
                <a:solidFill>
                  <a:srgbClr val="ffffff"/>
                </a:solidFill>
                <a:latin typeface="Book Antiqua"/>
              </a:rPr>
              <a:t>Cannabis sativ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semilla, hash/hashish (resinous form) and hash oil (sticky black liquid) are stronger forms of marijuan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main active chemical in marijuana is THC (delta-9-tetrahydrocannabinol). It is a psychoactive ingredi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marijuana smoke is inhaled, THC rapidly passes from the lungs into the bloodstream and is carried to the brain and other organs throughout the bod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ffffff"/>
              </a:solidFill>
              <a:latin typeface="Lucida Sans"/>
              <a:ea typeface="Tahoma"/>
            </a:endParaRPr>
          </a:p>
        </p:txBody>
      </p:sp>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C from the marijuana acts on specific receptors in the brain, called cannabinoid receptors, starting off a chain of cellular reactions that finally lead to the euphoria, or "high" that users experie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rtain areas in the brain, such as the hippocampus, the cerebellum, the basal ganglia and the cerebral cortex, have a higher concentration of cannabinoid recepto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ffffff"/>
              </a:solidFill>
              <a:latin typeface="Lucida Sans"/>
              <a:ea typeface="Tahoma"/>
            </a:endParaRPr>
          </a:p>
        </p:txBody>
      </p:sp>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se areas influence memory, concentration, pleasure, coordination and, sensory and time perception.</a:t>
            </a:r>
            <a:r>
              <a:rPr b="0" lang="en-US" sz="2800" spc="-1" strike="noStrike" baseline="30000">
                <a:solidFill>
                  <a:srgbClr val="ffffff"/>
                </a:solidFill>
                <a:latin typeface="Book Antiqua"/>
              </a:rPr>
              <a:t>1</a:t>
            </a:r>
            <a:r>
              <a:rPr b="0" lang="en-US" sz="2800" spc="-1" strike="noStrike">
                <a:solidFill>
                  <a:srgbClr val="ffffff"/>
                </a:solidFill>
                <a:latin typeface="Book Antiqua"/>
              </a:rPr>
              <a:t> Therefore these functions are most adversely affected by marijuana u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rijuana is usually smoked as a cigarette (called a joint or a nail) or in a pipe or bo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ffffff"/>
              </a:solidFill>
              <a:latin typeface="Lucida Sans"/>
              <a:ea typeface="Tahoma"/>
            </a:endParaRPr>
          </a:p>
        </p:txBody>
      </p:sp>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recent years, it has appeared in blunts, which are cigars that have been emptied of tobacco and refilled with marijuana, often in combination with another drug, such as crack. The “blunts” retain tobacco leaf used to wrap the cigar and therefore it combines marijuana's active ingredients with nicotine and other harmful chemicals. Some users also mix marijuana into food or use it to brew te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103320"/>
            <a:ext cx="8242560" cy="14396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pid heart r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reased blood press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reased rate of breath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d ey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y mou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reased appetite, or "the munch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lowed reaction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103320"/>
            <a:ext cx="8242560" cy="14396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orted sense of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anoi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gical or "random" think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rt-term memory lo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xiety and depres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se psychological signs of using pot also generally ease after a few hours. But residual effects can last through the next da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463680" y="23760"/>
            <a:ext cx="8242200" cy="1371600"/>
          </a:xfrm>
          <a:prstGeom prst="rect">
            <a:avLst/>
          </a:prstGeom>
          <a:ln w="0">
            <a:noFill/>
          </a:ln>
        </p:spPr>
      </p:pic>
      <p:sp>
        <p:nvSpPr>
          <p:cNvPr id="108" name=""/>
          <p:cNvSpPr txBox="1"/>
          <p:nvPr/>
        </p:nvSpPr>
        <p:spPr>
          <a:xfrm>
            <a:off x="395280" y="1557000"/>
            <a:ext cx="8229600" cy="453060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of the same respiratory problems that tobacco smokers have</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ancer of the respiratory tract and lungs may also be promoted by marijuana smok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50 percent to 70 percent more carcinogenic hydrocarbons than tobacco smoke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17:48:40Z</dcterms:created>
  <dc:creator>Nancy</dc:creator>
  <dc:description/>
  <dc:language>en-US</dc:language>
  <cp:lastModifiedBy>ksu</cp:lastModifiedBy>
  <cp:lastPrinted>2008-07-09T23:29:11Z</cp:lastPrinted>
  <dcterms:modified xsi:type="dcterms:W3CDTF">2012-04-02T09:57:37Z</dcterms:modified>
  <cp:revision>22</cp:revision>
  <dc:subject/>
  <dc:title>MARIJUANA</dc:title>
</cp:coreProperties>
</file>