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A0904-DCB4-41CE-B3DD-0CC7F0518BFB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0F2A0-3106-4FBA-B7FA-F2C6B30B99AF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3D22C2-06C2-4A72-87CB-F5BBAE8B56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05720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4A8CC9-E5A1-416E-BDE5-8B290B8C02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0572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0572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1E4713-C43D-44B6-BFB0-562E685820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82844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82844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05720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05720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05720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C0746A-A5C0-41D1-99CE-6DED317C178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762AB3-3AE4-4E3C-B117-B0960A2EC49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432AF4-CC10-4355-AFCC-F3AC82E33D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E7F97D-1CDB-4C5A-B6BA-5A60CFAE7F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10A1C1-DD39-4D35-ABBA-7048E2515A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B3CB4E-6C6C-49A5-BC95-F46EF1ED82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0572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7C7A6F-8BE6-47D7-B68E-CAAC5D8710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0572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2109A8-82A9-4079-8B12-93C160AEB9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05720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1BEDB4-15CB-4C0E-9308-1B83E7C8F4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c1c6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Click to edit the outline text format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lvl="1" marL="315360" indent="-315360">
              <a:spcBef>
                <a:spcPts val="901"/>
              </a:spcBef>
              <a:buClr>
                <a:srgbClr val="ffff00"/>
              </a:buClr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econd Outline Level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lvl="2" marL="315360" indent="-315360">
              <a:spcBef>
                <a:spcPts val="901"/>
              </a:spcBef>
              <a:buClr>
                <a:srgbClr val="ffff00"/>
              </a:buClr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Third Outline Level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lvl="3" marL="315360" indent="-315360">
              <a:spcBef>
                <a:spcPts val="901"/>
              </a:spcBef>
              <a:buClr>
                <a:srgbClr val="ffff00"/>
              </a:buClr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Fourth Outline Level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lvl="4" marL="315360" indent="-315360">
              <a:spcBef>
                <a:spcPts val="901"/>
              </a:spcBef>
              <a:buClr>
                <a:srgbClr val="ffff00"/>
              </a:buClr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Fifth Outline Level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lvl="5" marL="315360" indent="-315360">
              <a:spcBef>
                <a:spcPts val="901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ixth Outline Level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lvl="6" marL="315360" indent="-315360">
              <a:spcBef>
                <a:spcPts val="901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eventh Outline Level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cc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CMSC 203 - Discrete Structures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cc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D8C42-6919-4FF4-9FAE-FCB969804C3F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46089-3AA1-4102-ABF4-38AD9BFBCF4E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Let’s proceed to…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2133360"/>
            <a:ext cx="86104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ffff"/>
                </a:solidFill>
                <a:latin typeface="Comic Sans MS"/>
              </a:rPr>
              <a:t>Mathematical Reasoning</a:t>
            </a:r>
            <a:endParaRPr b="0" lang="en-US" sz="60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FD749-3346-425B-9B52-3085F461E670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Argument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761760"/>
            <a:ext cx="86104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Which rule of inference was used in the last argument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: “101 is divisible by 3.”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q: “101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is divisible by 9.”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762120" y="3200400"/>
            <a:ext cx="14475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q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_____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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q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2209680" y="3581280"/>
            <a:ext cx="24386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Modus ponens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380880" y="5029200"/>
            <a:ext cx="8763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Unfortunately, one of the hypotheses (p) is false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refore, the conclusion q is incorrect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0EDD4-3F3D-47A3-B1A1-7845445F02ED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Argument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Another example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f it rains today, then we will not have a barbeque today. If we do not have a barbeque today, then we will have a barbeque tomorrow.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refore, if it rains today, then we will have a barbeque tomorrow.”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is is a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valid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argument: If its hypotheses are true, then its conclusion is also true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45F4F-18C9-45AD-AABC-33E1D507AE65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Argument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61084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Let us formalize the previous argument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: “It is raining today.”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q: “We will not have a barbecue today.”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r: “We will have a barbecue tomorrow.”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So the argument is of the following form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762120" y="4267080"/>
            <a:ext cx="14475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q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q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r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_____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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r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2209680" y="4648320"/>
            <a:ext cx="24386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Hypothetical syllogism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78759-16AD-4ADF-B1A6-18DA21FBFE59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Argument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240" y="1066320"/>
            <a:ext cx="9372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Another example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Gary is either intelligent or a good actor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f Gary is intelligent, then he can count 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om 1 to 10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Gary can only count from 1 to 2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refore, Gary is a good actor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: “Gary is intelligent.”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: “Gary is a good actor.”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c: “Gary can count from 1 to 10.”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CE0BE-EBEC-4FC3-AE8C-C17D03FD8D46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Argument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61084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: “Gary is intelligent.”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: “Gary is a good actor.”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c: “Gary can count from 1 to 10.”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Step 1: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c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Hypothesis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Step 2: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  i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c            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Hypothesis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Step 3: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   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Modus tollens Steps 1 &amp; 2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Step 4: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  a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i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Hypothesis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Step 5: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  a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Disjunctive Syllogism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Steps 3 &amp; 4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Conclusion: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(“Gary is a good actor.”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DB43E-A411-4F48-9164-C4797AA85E8A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Argument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61084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Yet another example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f you listen to me, you will pass CMSC 203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You passed CMSC 203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refore, you have listened to me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s this argument valid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No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it assumes ((p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q)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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q)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p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is statement is not a tautology. It is 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false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if p is false and q is true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902C8-B872-4D05-BCF6-EEA8C931E256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Rules of Inference for Quantified Statements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914040"/>
            <a:ext cx="243864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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x P(x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__________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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(c) if c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U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6172200" y="990720"/>
            <a:ext cx="25909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Universal instantiation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838080" y="2209680"/>
            <a:ext cx="52578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(c) for an arbitrary c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U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___________________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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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x P(x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6172200" y="2286000"/>
            <a:ext cx="2590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Universal generalization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838080" y="3505320"/>
            <a:ext cx="54864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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x P(x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______________________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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(c) for some element c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U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7" name="Rectangle 8"/>
          <p:cNvSpPr/>
          <p:nvPr/>
        </p:nvSpPr>
        <p:spPr>
          <a:xfrm>
            <a:off x="6172200" y="3581280"/>
            <a:ext cx="25909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Existential instantiation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838080" y="4876920"/>
            <a:ext cx="54864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(c) for some element c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U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____________________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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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x P(x)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9" name="Rectangle 10"/>
          <p:cNvSpPr/>
          <p:nvPr/>
        </p:nvSpPr>
        <p:spPr>
          <a:xfrm>
            <a:off x="6095880" y="4952880"/>
            <a:ext cx="25909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Existential generalization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ACCB8-D79F-4796-8F4B-27767B867704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Rules of Inference for Quantified Statements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Example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Every UMBC student is a genius.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George is a UMBC student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refore, George is a genius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U(x): “x is a UMBC student.”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G(x): “x is a genius.”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9" dur="indefinite" restart="never" nodeType="tmRoot">
          <p:childTnLst>
            <p:seq>
              <p:cTn id="760" dur="indefinite" nodeType="mainSeq">
                <p:childTnLst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B221E-EC21-4D55-BE99-120E4D637871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Rules of Inference for Quantified Statements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560" y="1142640"/>
            <a:ext cx="883908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 following steps are used in the argument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Step 1: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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x (U(x)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G(x))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Hypothesis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Step 2: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U(George)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G(George)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Univ. instantiation 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using Step 1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126" name="Group 4"/>
          <p:cNvGrpSpPr/>
          <p:nvPr/>
        </p:nvGrpSpPr>
        <p:grpSpPr>
          <a:xfrm>
            <a:off x="2057400" y="4800600"/>
            <a:ext cx="5181480" cy="1600200"/>
            <a:chOff x="2057400" y="4800600"/>
            <a:chExt cx="5181480" cy="1600200"/>
          </a:xfrm>
        </p:grpSpPr>
        <p:sp>
          <p:nvSpPr>
            <p:cNvPr id="127" name="Rectangle 5"/>
            <p:cNvSpPr/>
            <p:nvPr/>
          </p:nvSpPr>
          <p:spPr>
            <a:xfrm>
              <a:off x="2057400" y="4800600"/>
              <a:ext cx="243828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 </a:t>
              </a:r>
              <a:r>
                <a:rPr b="0" lang="en-US" sz="28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</a:t>
              </a: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x P(x)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__________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</a:t>
              </a: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 </a:t>
              </a: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P(c) if c</a:t>
              </a:r>
              <a:r>
                <a:rPr b="0" lang="en-US" sz="28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</a:t>
              </a: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U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28" name="Rectangle 6"/>
            <p:cNvSpPr/>
            <p:nvPr/>
          </p:nvSpPr>
          <p:spPr>
            <a:xfrm>
              <a:off x="4648320" y="4876920"/>
              <a:ext cx="2590560" cy="12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ffff"/>
                  </a:solidFill>
                  <a:latin typeface="Comic Sans MS"/>
                </a:rPr>
                <a:t>Universal instantiation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129" name="Rectangle 7"/>
          <p:cNvSpPr/>
          <p:nvPr/>
        </p:nvSpPr>
        <p:spPr>
          <a:xfrm>
            <a:off x="304920" y="3124080"/>
            <a:ext cx="883908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Step 3: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U(George)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Hypothesis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Step 4: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G(George)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Modus ponens</a:t>
            </a:r>
            <a:br>
              <a:rPr sz="2800"/>
            </a:b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using Steps 2 &amp; 3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nodeType="clickEffect" fill="hold">
                      <p:stCondLst>
                        <p:cond delay="indefinite"/>
                      </p:stCondLst>
                      <p:childTnLst>
                        <p:par>
                          <p:cTn id="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nodeType="clickEffect" fill="hold">
                      <p:stCondLst>
                        <p:cond delay="indefinite"/>
                      </p:stCondLst>
                      <p:childTnLst>
                        <p:par>
                          <p:cTn id="8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nodeType="clickEffect" fill="hold">
                      <p:stCondLst>
                        <p:cond delay="indefinite"/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nodeType="clickEffect" fill="hold">
                      <p:stCondLst>
                        <p:cond delay="indefinite"/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595C9-5E9D-4939-AE16-AC9ECC12413A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Proving Theorem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6108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Direct proof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n implication p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q can be proved by showing that if p is true, then q is also true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Example: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Give a direct proof of the theorem 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“If n is odd, then n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is odd.”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Idea: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Assume that the hypothesis of this implication is true (n is odd). Then use rules of inference and known theorems to show that q must also be true (n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is odd)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nodeType="clickEffect" fill="hold">
                      <p:stCondLst>
                        <p:cond delay="indefinite"/>
                      </p:stCondLst>
                      <p:childTnLst>
                        <p:par>
                          <p:cTn id="8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nodeType="clickEffect" fill="hold">
                      <p:stCondLst>
                        <p:cond delay="indefinite"/>
                      </p:stCondLst>
                      <p:childTnLst>
                        <p:par>
                          <p:cTn id="8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63397-CCB7-44C1-8F06-67B01E2EEC7D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Mathematical Reasoning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We need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mathematical reasoning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to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determine whether a mathematical argument is 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  correct or incorrect and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construct mathematical arguments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Mathematical reasoning is not only important for conducting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proofs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and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program verificatio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but also for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artificial intelligence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systems (drawing inferences)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73E04-A704-405C-B09F-F5C744EC69FA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Proving Theorem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61084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n is odd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n n = 2k + 1, where k is an integer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Consequently, n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= (2k + 1)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= 4k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+ 4k + 1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= 2(2k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+ 2k) + 1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Since n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can be written in this form, it is odd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nodeType="clickEffect" fill="hold">
                      <p:stCondLst>
                        <p:cond delay="indefinite"/>
                      </p:stCondLst>
                      <p:childTnLst>
                        <p:par>
                          <p:cTn id="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nodeType="clickEffect" fill="hold">
                      <p:stCondLst>
                        <p:cond delay="indefinite"/>
                      </p:stCondLst>
                      <p:childTnLst>
                        <p:par>
                          <p:cTn id="8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3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nodeType="clickEffect" fill="hold">
                      <p:stCondLst>
                        <p:cond delay="indefinite"/>
                      </p:stCondLst>
                      <p:childTnLst>
                        <p:par>
                          <p:cTn id="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nodeType="clickEffect" fill="hold">
                      <p:stCondLst>
                        <p:cond delay="indefinite"/>
                      </p:stCondLst>
                      <p:childTnLst>
                        <p:par>
                          <p:cTn id="8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5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nodeType="clickEffect" fill="hold">
                      <p:stCondLst>
                        <p:cond delay="indefinite"/>
                      </p:stCondLst>
                      <p:childTnLst>
                        <p:par>
                          <p:cTn id="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nodeType="clickEffect" fill="hold">
                      <p:stCondLst>
                        <p:cond delay="indefinite"/>
                      </p:stCondLst>
                      <p:childTnLst>
                        <p:par>
                          <p:cTn id="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AF2BA-4797-4886-A24A-D3624D2066B0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Proving Theorem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61084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Indirect proof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n implication p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q is equivalent to its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contra-positive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q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. Therefore, we can prove p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q by showing that whenever q is false, then p is also false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Example: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Give an indirect proof of the theorem 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“If 3n + 2 is odd, then n is odd.”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Idea: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Assume that the conclusion of this implication is false (n is even). Then use rules of inference and known theorems to show that p must also be false (3n + 2 is even)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9" dur="indefinite" restart="never" nodeType="tmRoot">
          <p:childTnLst>
            <p:seq>
              <p:cTn id="900" dur="indefinite" nodeType="mainSeq">
                <p:childTnLst>
                  <p:par>
                    <p:cTn id="901" nodeType="clickEffect" fill="hold">
                      <p:stCondLst>
                        <p:cond delay="indefinite"/>
                      </p:stCondLst>
                      <p:childTnLst>
                        <p:par>
                          <p:cTn id="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5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nodeType="clickEffect" fill="hold">
                      <p:stCondLst>
                        <p:cond delay="indefinite"/>
                      </p:stCondLst>
                      <p:childTnLst>
                        <p:par>
                          <p:cTn id="9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1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nodeType="clickEffect" fill="hold">
                      <p:stCondLst>
                        <p:cond delay="indefinite"/>
                      </p:stCondLst>
                      <p:childTnLst>
                        <p:par>
                          <p:cTn id="9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7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nodeType="clickEffect" fill="hold">
                      <p:stCondLst>
                        <p:cond delay="indefinite"/>
                      </p:stCondLst>
                      <p:childTnLst>
                        <p:par>
                          <p:cTn id="9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113EF-0583-4D7A-AF96-621527CFE09B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Proving Theorem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n is even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n n = 2k, where k is an integer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t follows that 3n + 2 = 3(2k) + 2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= 6k + 2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= 2(3k + 1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refore, 3n + 2 is even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We have shown that the contrapositive of the implication is true, so the implication itself is also true 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(If 2n + 3 is odd, then n is odd).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5" dur="indefinite" restart="never" nodeType="tmRoot">
          <p:childTnLst>
            <p:seq>
              <p:cTn id="926" dur="indefinite" nodeType="mainSeq">
                <p:childTnLst>
                  <p:par>
                    <p:cTn id="927" nodeType="clickEffect" fill="hold">
                      <p:stCondLst>
                        <p:cond delay="indefinite"/>
                      </p:stCondLst>
                      <p:childTnLst>
                        <p:par>
                          <p:cTn id="9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nodeType="clickEffect" fill="hold">
                      <p:stCondLst>
                        <p:cond delay="indefinite"/>
                      </p:stCondLst>
                      <p:childTnLst>
                        <p:par>
                          <p:cTn id="9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7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nodeType="clickEffect" fill="hold">
                      <p:stCondLst>
                        <p:cond delay="indefinite"/>
                      </p:stCondLst>
                      <p:childTnLst>
                        <p:par>
                          <p:cTn id="9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nodeType="clickEffect" fill="hold">
                      <p:stCondLst>
                        <p:cond delay="indefinite"/>
                      </p:stCondLst>
                      <p:childTnLst>
                        <p:par>
                          <p:cTn id="9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nodeType="clickEffect" fill="hold">
                      <p:stCondLst>
                        <p:cond delay="indefinite"/>
                      </p:stCondLst>
                      <p:childTnLst>
                        <p:par>
                          <p:cTn id="9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5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nodeType="clickEffect" fill="hold">
                      <p:stCondLst>
                        <p:cond delay="indefinite"/>
                      </p:stCondLst>
                      <p:childTnLst>
                        <p:par>
                          <p:cTn id="9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1" dur="500" fill="hold"/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500" fill="hold"/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nodeType="clickEffect" fill="hold">
                      <p:stCondLst>
                        <p:cond delay="indefinite"/>
                      </p:stCondLst>
                      <p:childTnLst>
                        <p:par>
                          <p:cTn id="9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1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1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C6387-E32E-4698-BD45-A9B5D4AE65C6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Terminology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n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axiom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is a basic assumption about mathematical structured that needs no proof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We can use a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proof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to demonstrate that a particular statement is true. A proof consists of a sequence of statements that form an argument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 steps that connect the statements in such a sequence are the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rules of inference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Cases of incorrect reasoning are called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fallacies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theorem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is a statement that can be shown to be true.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C596A-5521-4DCF-8B53-341BBCC77C30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Terminology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lemma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is a simple theorem used as an intermediate result in the proof of another theorem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corollary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is a proposition that follows directly from a theorem that has been proved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conjecture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is a statement whose truth value is unknown. Once it is proven, it becomes a theorem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76F27-6E3C-47E6-95F5-713B0144DA30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Rules of Inference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Rules of inference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provide the justification of the steps used in a proof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One important rule is called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modus ponens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or the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law of detachment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. It is based on the tautology 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(p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(p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q))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q. We write it in the following way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q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5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____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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q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1828800" y="4114800"/>
            <a:ext cx="70102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 two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hypotheses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p and p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q are 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written in a column, and the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conclusion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below a bar, where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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means “therefore”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2FACB-6975-48CD-8B70-8B74DA1BE8E9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Rules of Inference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 general form of a rule of inference is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5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5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5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n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5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____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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q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6" name="Rectangle 5"/>
          <p:cNvSpPr/>
          <p:nvPr/>
        </p:nvSpPr>
        <p:spPr>
          <a:xfrm>
            <a:off x="1676520" y="2286000"/>
            <a:ext cx="708660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 rule states that if p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and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p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and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…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and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p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are all true, then q is true as well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se rules of inference can be used in any mathematical argument and do not 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require any proof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C85C9-9921-44C6-8BB7-9E37A8FEC43F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Rules of Inference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144756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5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_____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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q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1752480" y="1523880"/>
            <a:ext cx="1752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Addition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304920" y="2743200"/>
            <a:ext cx="14475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q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_____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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1752480" y="3200400"/>
            <a:ext cx="2590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Simplification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304920" y="4267080"/>
            <a:ext cx="14475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q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_____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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q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4" name="Rectangle 9"/>
          <p:cNvSpPr/>
          <p:nvPr/>
        </p:nvSpPr>
        <p:spPr>
          <a:xfrm>
            <a:off x="1752480" y="4800600"/>
            <a:ext cx="2590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Conjunction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5" name="Rectangle 10"/>
          <p:cNvSpPr/>
          <p:nvPr/>
        </p:nvSpPr>
        <p:spPr>
          <a:xfrm>
            <a:off x="5105520" y="914400"/>
            <a:ext cx="14475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q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q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_____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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6" name="Rectangle 11"/>
          <p:cNvSpPr/>
          <p:nvPr/>
        </p:nvSpPr>
        <p:spPr>
          <a:xfrm>
            <a:off x="6553080" y="1295280"/>
            <a:ext cx="24386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Modus tollens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7" name="Rectangle 12"/>
          <p:cNvSpPr/>
          <p:nvPr/>
        </p:nvSpPr>
        <p:spPr>
          <a:xfrm>
            <a:off x="5029200" y="2666880"/>
            <a:ext cx="14479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q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q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r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_____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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r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8" name="Rectangle 13"/>
          <p:cNvSpPr/>
          <p:nvPr/>
        </p:nvSpPr>
        <p:spPr>
          <a:xfrm>
            <a:off x="6477120" y="3048120"/>
            <a:ext cx="243828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Hypothetical syllogism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9" name="Rectangle 14"/>
          <p:cNvSpPr/>
          <p:nvPr/>
        </p:nvSpPr>
        <p:spPr>
          <a:xfrm>
            <a:off x="5029200" y="4495680"/>
            <a:ext cx="14479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q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_____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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q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0" name="Rectangle 15"/>
          <p:cNvSpPr/>
          <p:nvPr/>
        </p:nvSpPr>
        <p:spPr>
          <a:xfrm>
            <a:off x="6477120" y="4876920"/>
            <a:ext cx="243828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Disjunctive syllogism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286A1-1893-489F-AC4F-6509C59D6738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Argument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Just like a rule of inference, an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argument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consists of one or more hypotheses and a conclusion.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We say that an argument is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 valid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if whenever all its hypotheses are true, its conclusion is also true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However, if any hypothesis is false, even a valid argument can lead to an incorrect conclusion.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A3BC7-16B6-4639-AC9F-1F8D5282B6F7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Argument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Example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f 101 is divisible by 3, then 101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is divisible by 9. 101 is divisible by 3. Consequently, 101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is divisible by 9.”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lthough the argument is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valid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its conclusion is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incorrect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because one of the hypotheses is false (“101 is divisible by 3.”)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f in the above argument we replace 101 with 102, we could correctly conclude that 102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is divisible by 9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24T00:16:35Z</dcterms:created>
  <dc:creator>Marc Pomplun</dc:creator>
  <dc:description/>
  <dc:language>en-US</dc:language>
  <cp:lastModifiedBy>OUAHID</cp:lastModifiedBy>
  <dcterms:modified xsi:type="dcterms:W3CDTF">2013-06-22T09:23:39Z</dcterms:modified>
  <cp:revision>99</cp:revision>
  <dc:subject/>
  <dc:title>PowerPoint Presentation</dc:title>
</cp:coreProperties>
</file>