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B3F1240-232F-480C-9829-96492C9AF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0018EC-3A80-4900-AFA2-9164A17F5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BC497D4-EB8D-4838-966A-3D28E60FF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22FF659-955A-420C-AC54-189D1E42E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409A4-E30B-4339-A57A-A52D61C9A8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D2F7B-6C42-42F6-8E27-3973E22D2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99DA7-389D-4960-93E7-CD8CDEC22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A922F-073B-4A6A-A90D-08BBA909B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33FBB-B0F9-48B0-BABD-541A4E526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F31EB-2A0E-424E-9184-CFE7E6969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392FE-7525-404B-A557-0930F7ACF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3170F60-C122-4905-9791-EBCEC0026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7F304-F5DD-4022-8669-7350C0B00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64103-D970-4B55-B5F3-75ED6E6B7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46607-497C-43EE-B603-7A95A8579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D7FBF-98BF-4914-A019-EB0FC088E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A037F-A3C9-4004-888E-4B50F87D0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4A2168-ED3E-48FC-89D1-4CE436E9D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F46473-057D-4457-B53C-9368374D3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AEF3358-64BE-4E9A-9837-14D1985C1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40083FF-5A2C-4338-BBC8-4C7E45EC2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8F7729-FECB-4B2A-95E0-226BF44A4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BA11AA6-BE9B-41E6-925F-E67508983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C91DD4-CCE0-4442-9936-9ED79E5FC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EB31-8105-4BF8-AD27-F352B86776DD}"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BDF4-569B-48EE-84ED-C35FCDD3DE7C}"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240"/>
            <a:ext cx="77724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01" name="PlaceHolder 2"/>
          <p:cNvSpPr>
            <a:spLocks noGrp="1"/>
          </p:cNvSpPr>
          <p:nvPr>
            <p:ph type="subTitle"/>
          </p:nvPr>
        </p:nvSpPr>
        <p:spPr>
          <a:xfrm>
            <a:off x="1066320" y="3429000"/>
            <a:ext cx="66294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aleh Albazie</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GS OMFS,  DSc OMFS,  Dipl ABOMS.</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Oral and Maxillofacial Surgeo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19"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Cardiovascular  problem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oronary artery disease/ Ischemic heart disease ( Angina, MI, CHF)</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ysrhythmias and conduction disturbances ( SVT, VT,VF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Valvular heart disease (Rheumatic heart disease, Infective endocarditis,    Mitral/aortic  stenosis or regurgitation and prosthetic valv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ongenital heart disease( Teratolgy of fallo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atient is a 59 year old male with a history of angina who was cleared for surgery by anesthesia. In the recovery room s/p iliac crest graft to the mandible the patient complains of chest pain, dyspnea, nausea and is diaphoretic with palpitation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What clinical examination would you do?</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ook at neck veins ‑ elevated jugular venous puls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VS = BP =105/75, P=105, R = 26, Pulse Ox = 95</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uscultate chest ‑ coarse rales and wheezes = pulmonary edema, No</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uscultate heart ‑ S3, or S4, or arrhythmia, No</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erminate therapy and position patien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upright 45 deg. Trendellenburg if SBP &lt; 100 mm Hg)</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lm patien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ublingual Nitroglycerin 0.4 mg</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ould relieve pain in 3‑5 min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repeat twice at 5 min. interval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ailure to relieve pain‑ suspect MI</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100% O2</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ssess vital signs every 3‑5 min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ransport to hospital pr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PR pr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Lets say its not angina. What is a differential diagnosis?</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I</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HF</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E</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neumothorax</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holecystitis</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ancreatitis</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ericarditis</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erforated peptic ulcer</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ptured esophagus</a:t>
            </a:r>
            <a:endParaRPr b="0" lang="en-US" sz="2000" spc="-1" strike="noStrike">
              <a:solidFill>
                <a:srgbClr val="ffffff"/>
              </a:solidFill>
              <a:latin typeface="Garamond"/>
            </a:endParaRPr>
          </a:p>
          <a:p>
            <a:pPr marL="349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ortic dissectio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29" name="PlaceHolder 2"/>
          <p:cNvSpPr>
            <a:spLocks noGrp="1"/>
          </p:cNvSpPr>
          <p:nvPr>
            <p:ph/>
          </p:nvPr>
        </p:nvSpPr>
        <p:spPr>
          <a:xfrm>
            <a:off x="457200" y="990720"/>
            <a:ext cx="8686800" cy="4906800"/>
          </a:xfrm>
          <a:prstGeom prst="rect">
            <a:avLst/>
          </a:prstGeom>
          <a:noFill/>
          <a:ln w="0">
            <a:noFill/>
          </a:ln>
        </p:spPr>
        <p:txBody>
          <a:bodyPr anchor="t">
            <a:normAutofit fontScale="84000"/>
          </a:bodyPr>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How do you rule out MI?</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1. Clinical history and examination</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 Serial Enzym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NSET</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PEAK     BASELINE</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u="sng">
                <a:solidFill>
                  <a:srgbClr val="ffffff"/>
                </a:solidFill>
                <a:uFillTx/>
                <a:latin typeface="Times New Roman"/>
                <a:ea typeface="Times New Roman"/>
              </a:rPr>
              <a:t>CPK/MB</a:t>
            </a:r>
            <a:r>
              <a:rPr b="0" lang="en-US" sz="2000" spc="-1" strike="noStrike">
                <a:solidFill>
                  <a:srgbClr val="ffffff"/>
                </a:solidFill>
                <a:latin typeface="Times New Roman"/>
                <a:ea typeface="Times New Roman"/>
              </a:rPr>
              <a:t>  q 8h (3 Is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4‑6h</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12‑20h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36‑48h</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M-</a:t>
            </a:r>
            <a:r>
              <a:rPr b="0" i="1"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uscle</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B ‑ Myocardium</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B ‑ Brain</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est enzymatic test, &gt;3‑5% CK/MB evidence of a MI</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ow CK will not run MB</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u="sng">
                <a:solidFill>
                  <a:srgbClr val="ffffff"/>
                </a:solidFill>
                <a:uFillTx/>
                <a:latin typeface="Times New Roman"/>
                <a:ea typeface="Times New Roman"/>
              </a:rPr>
              <a:t>LDH Isoenzymes</a:t>
            </a:r>
            <a:r>
              <a:rPr b="0" lang="en-US" sz="2000" spc="-1" strike="noStrike">
                <a:solidFill>
                  <a:srgbClr val="ffffff"/>
                </a:solidFill>
                <a:latin typeface="Times New Roman"/>
                <a:ea typeface="Times New Roman"/>
              </a:rPr>
              <a:t> q 12h (5 Iso.)     12h</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24‑48h      10‑14 days</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DH 1/LDH 2&gt;1 MI</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Good for patients presenting &gt; 24h after symptoms</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u="sng">
                <a:solidFill>
                  <a:srgbClr val="ffffff"/>
                </a:solidFill>
                <a:uFillTx/>
                <a:latin typeface="Times New Roman"/>
                <a:ea typeface="Times New Roman"/>
              </a:rPr>
              <a:t>AST </a:t>
            </a:r>
            <a:r>
              <a:rPr b="0" lang="en-US" sz="2000" spc="-1" strike="noStrike">
                <a:solidFill>
                  <a:srgbClr val="ffffff"/>
                </a:solidFill>
                <a:latin typeface="Times New Roman"/>
                <a:ea typeface="Times New Roman"/>
              </a:rPr>
              <a:t>q12h</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3. Serial ECG's</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4. CXR</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5. ECHO</a:t>
            </a:r>
            <a:r>
              <a:rPr b="1"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rdiogram,</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6. Thailium scan </a:t>
            </a:r>
            <a:endParaRPr b="0" lang="en-US" sz="2000" spc="-1" strike="noStrike">
              <a:solidFill>
                <a:srgbClr val="ffffff"/>
              </a:solidFill>
              <a:latin typeface="Garamond"/>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7. Tech‑99‑ scan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How would you treat this patien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reatment of MI</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1. Oxygen (ABG'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 Nitroglycerin, Morphin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3. ECG (12 Lead)</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4. CX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5. Beta‑blocker ‑ be careful</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6. Sedati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7. Lidocaine, Procainamid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 CCU with invasive monitoring (enzyme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atient is a 72 year old female on Digitalis and Lasix referred to you for bone grafting to the anterior maxilla.</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Digitali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Used to treat CHF, A‑flutter, A‑fib, and other SVT'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Ionotrope (increases force of contraction)</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hronotrope (slows hear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Narrow therapeutic rang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Hypokalemia and hypoxia and renal insufficiency can exacerbate toxicity</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O NOT cardiovert someone with Digitalis Toxicity </a:t>
            </a:r>
            <a:r>
              <a:rPr b="0" lang="en-US" sz="2000" spc="-1" strike="noStrike">
                <a:solidFill>
                  <a:srgbClr val="ffffff"/>
                </a:solidFill>
                <a:latin typeface="Times New Roman"/>
                <a:ea typeface="Times New Roman"/>
              </a:rPr>
              <a:t>(can precipitate a fatal arrhythmia)</a:t>
            </a:r>
            <a:endParaRPr b="0" lang="en-US" sz="2000" spc="-1" strike="noStrike">
              <a:solidFill>
                <a:srgbClr val="ffffff"/>
              </a:solidFill>
              <a:latin typeface="Garamon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What are the signs and symptoms of Digitalis Toxicity?</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ysrhythmias (all types)</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GI (Anorexia, nausea, vomiting, diarrhe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ental status changes (agitation, lethargy, visual disturbances)</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How do you treat someone with Digitalis Toxicity?</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reatment of Digitalis toxicity</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1. Stop Digitalis administration</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 Monitor (type of dysrhythmi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3. Correct precipitating factors (i.e. serum potassium to &gt; 3.5)</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4. Atropine for bradycardia (avoid catechols)</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5. Lidocaine for dysrhythmias</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6. Digitalis specific antibodies = </a:t>
            </a:r>
            <a:r>
              <a:rPr b="0" lang="en-US" sz="2000" spc="-1" strike="noStrike" u="sng">
                <a:solidFill>
                  <a:srgbClr val="ffffff"/>
                </a:solidFill>
                <a:uFillTx/>
                <a:latin typeface="Times New Roman"/>
                <a:ea typeface="Times New Roman"/>
              </a:rPr>
              <a:t>Digibind </a:t>
            </a:r>
            <a:r>
              <a:rPr b="0" lang="en-US" sz="2000" spc="-1" strike="noStrike">
                <a:solidFill>
                  <a:srgbClr val="ffffff"/>
                </a:solidFill>
                <a:latin typeface="Times New Roman"/>
                <a:ea typeface="Times New Roman"/>
              </a:rPr>
              <a:t>(life threatening)</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37" name="PlaceHolder 2"/>
          <p:cNvSpPr>
            <a:spLocks noGrp="1"/>
          </p:cNvSpPr>
          <p:nvPr>
            <p:ph/>
          </p:nvPr>
        </p:nvSpPr>
        <p:spPr>
          <a:xfrm>
            <a:off x="380520" y="1219320"/>
            <a:ext cx="8534520" cy="4525920"/>
          </a:xfrm>
          <a:prstGeom prst="rect">
            <a:avLst/>
          </a:prstGeom>
          <a:noFill/>
          <a:ln w="0">
            <a:noFill/>
          </a:ln>
        </p:spPr>
        <p:txBody>
          <a:bodyPr anchor="t">
            <a:normAutofit fontScale="88000"/>
          </a:bodyPr>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 19 year old black female third molar patient presents to your office three     weeks following surgery. She was feeling well until seven days ago. Since  then she has a history of anorexia, malaise, myalgia, weight loss and low grade fever.</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Physical exam:</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ale</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ungs clear</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bdomen soft, bowel sounds decreased</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Heart: NSR with grade II/VI late systolic murmur at left sternal border</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Labs:</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XR normal</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U/A 1.018, 3+ protein, 4+ RBC's, Glucose = 0, WBC's = 0, Casts = 0</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H/H = 10.2/31, MCV= 85 (84‑96), MCHC= 30 (30‑35)</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BC = 11,000, P 65, L 20, M10, B3, E2</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ed. rate = 85</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hem. = WNL except BUN = 24</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atient is a 63 year old male who presents to your clinic for full mouth extractions and alveloplasty prior to planned placement of immediate dentures. Past medical history is negative except that the patient used to take a "pressure medicine" which he did not refill 2 months ago. Pre‑operative blood pressure readings were 215/110. A second reading was 208/103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Why is the sed. rate elevated?</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hronic inflammation</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heumatoid diseases</a:t>
            </a:r>
            <a:endParaRPr b="0" lang="en-US" sz="20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What are you going to do?</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hysical Exam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lood culture ECHO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ook for vegetation, document murmur)</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lood culture = Alpha hemolytic Streptococcus (what if this was Staph. Aureus) </a:t>
            </a:r>
            <a:r>
              <a:rPr b="1" lang="en-US" sz="2000" spc="-1" strike="noStrike">
                <a:solidFill>
                  <a:srgbClr val="ffffff"/>
                </a:solidFill>
                <a:latin typeface="Times New Roman"/>
                <a:ea typeface="Times New Roman"/>
              </a:rPr>
              <a:t>IF CANDIDATE PUTS PATIENT ON ANTIBIOTICS BEFORE BLOOD CULTURE THEN CULTURES NEGATIVE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CHO = Mitral vegetation</a:t>
            </a:r>
            <a:endParaRPr b="0" lang="en-US" sz="20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What is your diagnosi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B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What are causes of SB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uses of SB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ny flow disturbanc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heumatic heart diseas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ongenital heart diseas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itral valve prolaps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generative heart diseas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VDA</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27"/>
                </a:solidFill>
                <a:latin typeface="Times New Roman"/>
                <a:ea typeface="Times New Roman"/>
              </a:rPr>
              <a:t>     </a:t>
            </a:r>
            <a:r>
              <a:rPr b="0" lang="en-US" sz="2000" spc="-1" strike="noStrike">
                <a:solidFill>
                  <a:srgbClr val="ffff27"/>
                </a:solidFill>
                <a:latin typeface="Times New Roman"/>
                <a:ea typeface="Times New Roman"/>
              </a:rPr>
              <a:t>Classification of Hypertension in Adult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iastolic</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t; 85 mm Hg</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rmal BP</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5 ‑ 89</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High normal BP</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90 ‑ 10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ild hypertensi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105 ‑ 11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oderate hypertensi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gt;115</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Severe hypertensi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ystolic</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t; 140 mm Hg</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rmal BP</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140 ‑ 16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Borderline hypertensi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      </a:t>
            </a:r>
            <a:r>
              <a:rPr b="0" lang="en-US" sz="2000" spc="-1" strike="noStrike">
                <a:solidFill>
                  <a:srgbClr val="ffffff"/>
                </a:solidFill>
                <a:latin typeface="Times New Roman"/>
                <a:ea typeface="Times New Roman"/>
              </a:rPr>
              <a:t>&gt; 165</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Isolated systolic hypertension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ssential hypertension</a:t>
            </a:r>
            <a:r>
              <a:rPr b="0" lang="en-US" sz="2000" spc="-1" strike="noStrike">
                <a:solidFill>
                  <a:srgbClr val="ffffff"/>
                </a:solidFill>
                <a:latin typeface="Garamond"/>
              </a:rPr>
              <a:t>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econdary hypertension</a:t>
            </a:r>
            <a:endParaRPr b="0" lang="en-US" sz="20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alignant hypertension</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Treatment and the Importance of Diastolic pressures</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st diagnostic and treatment decisions are based on diastolic pressures for two reasons Diastolic HTN = enhanced peripheral vascular resistance, and Systolic HTN = increased cardiac output and/ or large vessel stiffness Treatment of diastolic HTN results in clinical benefit, treatment of systolic HTN is not clearly associated with reduction of cardiovascular complication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Medical Treatment of Hypertension</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tection</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Nonpharmacologic</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weight loss</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restriction of dietary sodium</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moderation of alcohol intake</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reduction of dietary fats, cholesterol</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smoking cessation</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regular aerobic exercise</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stress reduction, relaxation therapy</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increased dietary calcium intak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Medical Treatment of Hypertension</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harmacologic (for DBP &gt; 95 mm Hg)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Step 1 = diuretic, beta blocker, ACE inhibitor, or calcium channel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locker</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Step 2 = (1 to 3 mos.) increase the dose, add a different class of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rug, or substitute another drug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Step 3 = add a third drug, discontinue the second drug and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ubstitute another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Step 4 = add a third or fourth drug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ack of compliance is the single greatest problem, therefore MONITOR PERIODICALLY</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DENTAL MANAGEMENT</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dentify patient</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Take relaxed BP (two if necessary)</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Medical and medication history</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tress and anxiety reduction</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doctor patient relationship</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pharmacologic (Valium, Nitrous oxide)</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short, morning appointments</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void sudden changes in chair position, sit patient up slowly at the end of the procedure (orthostatic hypotensio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DENTAL MANAGEMEN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crease exposure to epinephrin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Exogenous (limit to 0.04 mg = 2 carpules 1:100,000)</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 </a:t>
            </a:r>
            <a:r>
              <a:rPr b="0" lang="en-US" sz="2000" spc="-1" strike="noStrike">
                <a:solidFill>
                  <a:srgbClr val="ffffff"/>
                </a:solidFill>
                <a:latin typeface="Times New Roman"/>
                <a:ea typeface="Times New Roman"/>
              </a:rPr>
              <a:t>Endogenou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OTENTIALLY A MUCH BIGGER PROBLEM</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f individual is stressed, adrenal medulla can produce 0.28 mg of epinephrine/minute</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void topical vasoconstrictors</a:t>
            </a:r>
            <a:endParaRPr b="0" lang="en-US" sz="2000" spc="-1" strike="noStrike">
              <a:solidFill>
                <a:srgbClr val="ffffff"/>
              </a:solidFill>
              <a:latin typeface="Garamond"/>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dverse drug reaction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pinephrine and beta blockers, peripheral adrenergic agonsists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serpine), MAO inhibitor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arely a problem if small doses of epinephrine used</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Times New Roman"/>
                <a:ea typeface="Times New Roman"/>
              </a:rPr>
              <a:t>CARE OF THE MEDICALLY COMPROMISED PATIENT</a:t>
            </a:r>
            <a:endParaRPr b="1" lang="en-US" sz="2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27"/>
                </a:solidFill>
                <a:latin typeface="Times New Roman"/>
                <a:ea typeface="Times New Roman"/>
              </a:rPr>
              <a:t>DENTAL MANAGEMENT</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void excessive stimulation of the gag reflex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urgical hemostasis, observe for post‑op bleeding</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ntihypertensives ‑ dry mouth</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NO ELECTIVE DENTAL PROCEDURES SHOULD BE PERFORMED ON A PATIENT WITH SEVERE UNCONTROLLED HYPERTENSIO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7T16:55:48Z</dcterms:created>
  <dc:creator>Dr. Ahmed</dc:creator>
  <dc:description/>
  <dc:language>en-US</dc:language>
  <cp:lastModifiedBy>vaio</cp:lastModifiedBy>
  <dcterms:modified xsi:type="dcterms:W3CDTF">2011-10-28T05:25:53Z</dcterms:modified>
  <cp:revision>109</cp:revision>
  <dc:subject/>
  <dc:title>Slide 1</dc:title>
</cp:coreProperties>
</file>