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5F4-312C-4E28-BF81-2085ADA1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870-04C1-4DFD-9809-1074447C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973-B352-4193-B8C4-FBF0D903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640-4EA7-4347-97CA-B08C3073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FE35-F300-40F9-8AC8-D06BF378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FEF-2E33-4EF2-AB12-B1AA2C1E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4B4-EF6D-4D63-9E9F-4935B11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ED0-784B-433D-BAE6-600F45BF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078-98A2-48CC-8829-3FBDD58F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015-18FA-4689-9508-2717730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044-8065-4AEC-803D-DB0C472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B5F-97B9-4662-8999-C4AA063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FFC-8713-4866-B9F1-76321113520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etabolism of disaccharides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Fructose and Galactose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ff"/>
                </a:solidFill>
                <a:latin typeface="Cambria"/>
              </a:rPr>
              <a:t>Hereditary defects of fructose metabolism</a:t>
            </a:r>
            <a:r>
              <a:rPr b="0" lang="en-GB" sz="37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49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Essential fructosu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Cause: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ue to deficiency of fructokinase enzy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Effect: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not serious condition. The excess accumulated fructose is lost in u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	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2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. 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Fructose 1,6 biphosphatase de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t leads to accumulation of fructose 1,6 biphosphate which inhibits phosphorylase enzyme (glycogenolysis) and fasting hypoglyc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	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3. Hereditary fructose intole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Cause: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ue to deficiency of aldolase B. This leads to accumulation of fructose-1-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Effect: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the accumulation of fructose-1-P leads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98280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amage of liver and kidney tiss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98280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Inhibition of glycogen phosphorylase leading to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inhibition of glycogenolysis and fasting hypoglyce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ff"/>
                </a:solidFill>
                <a:latin typeface="Cambria"/>
              </a:rPr>
              <a:t>Galactose Metabolism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major source of galactose is lactose (a disaccharide of glucose and galactose) obtained from milk and milk pro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alactose enters glycolysis by its conversion to glucose-1-phosphate (G1P). This occurs through a series of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Site: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alactose metabol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36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550"/>
              </a:spcBef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First the galactose is phosphorylated by galactokinase to yield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alactose-1-p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5000"/>
              </a:lnSpc>
              <a:spcBef>
                <a:spcPts val="550"/>
              </a:spcBef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pimerization of galactose-1-phosphate to G-1-P requires the transfer of UDP from uridine diphosphoglucose (UDP-glucose) catalyzed by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alactose-1-phosphate uridyl transfera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5000"/>
              </a:lnSpc>
              <a:spcBef>
                <a:spcPts val="550"/>
              </a:spcBef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is generates UDP-galactose and G-1-P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330880" y="1557360"/>
            <a:ext cx="3602160" cy="4680000"/>
          </a:xfrm>
          <a:prstGeom prst="rect">
            <a:avLst/>
          </a:prstGeom>
          <a:ln w="9360">
            <a:solidFill>
              <a:srgbClr val="a40c5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4859280" y="1341360"/>
            <a:ext cx="3713400" cy="4824360"/>
          </a:xfrm>
          <a:prstGeom prst="rect">
            <a:avLst/>
          </a:prstGeom>
          <a:ln w="9360">
            <a:solidFill>
              <a:srgbClr val="a40c5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en-GB" sz="3600" spc="-1" strike="noStrike">
                <a:solidFill>
                  <a:srgbClr val="0000ff"/>
                </a:solidFill>
                <a:latin typeface="Calibri"/>
              </a:rPr>
              <a:t>Galactose metabol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24000" y="1197000"/>
            <a:ext cx="4319280" cy="46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DP-galactose is epimerized to UDP-glucose by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UDP-galactose-4 epimer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UDP portion is exchanged for phosphate generating glucose-1-phosphate which then is converted to G6P by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phosphoglucose mut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Glucose can  be converted to galactose, thus  performed galactose is not essential in the die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alactosem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Arial"/>
              <a:buChar char="•"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Definition: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t is increase blood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alactose concentration due to inability of the body to metabolize galact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Arial"/>
              <a:buChar char="•"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Causes:</a:t>
            </a:r>
            <a:r>
              <a:rPr b="1" lang="en-GB" sz="2400" spc="-1" strike="noStrike">
                <a:solidFill>
                  <a:srgbClr val="4f81bd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inherited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defects in galactokinase, uridyl-transferase (the most common) or 4-epimer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4680" indent="-274680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Arial"/>
              <a:buChar char="•"/>
              <a:tabLst>
                <a:tab algn="l" pos="44460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Cataract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(opacity of eye lens): Galactose is reduced in the   eye by aldose reductase to form galactitol which accumulates causing catara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Liver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Mental retar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2360" indent="-43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Cambria"/>
              <a:buAutoNum type="arabicPeriod"/>
              <a:tabLst>
                <a:tab algn="l" pos="444600"/>
                <a:tab algn="l" pos="90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Galactosuria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(excretion of galactose in the urin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3693960" cy="4248000"/>
          </a:xfrm>
          <a:prstGeom prst="rect">
            <a:avLst/>
          </a:prstGeom>
          <a:ln w="1260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Fructose metabol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iets containing large amounts of sucrose (a disaccharide of glucose and fructose) can utilize the fructose as a major source of ener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Fructose is found in foods containing sucrose (fruits), high-fructose corn syrups, and hone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The pathway to utilization of fructose differs in muscle and li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In liver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, dietary fructose is converted to Fructose-1-P by fructokinase (also in kidney and intestine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n, by the action of Fructose-1-P adolase (aldolase B), Fructose-1-P is converted to DHAP and glyceraldehy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lyceraldehyde is conveted to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glyceraldehyde-3-P by triose kinase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which together with DHAP may under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df25c4"/>
              </a:buClr>
              <a:buSzPct val="68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ombine together and converted into glucose (main pathwa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df25c4"/>
              </a:buClr>
              <a:buSzPct val="68000"/>
              <a:buFont typeface="Cambr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y may be oxidized in glyco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Fructose metabolism- L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utilization of  fructose by fructokinase  then aldolase bypass the steps of glucokinase and PFK-1 which are activated by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322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322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loud Callout 4"/>
          <p:cNvSpPr/>
          <p:nvPr/>
        </p:nvSpPr>
        <p:spPr>
          <a:xfrm>
            <a:off x="5003640" y="1413000"/>
            <a:ext cx="3600720" cy="3097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435640" y="206064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This explains w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fructose  disapp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from blood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rapidly than glucos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diabetic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http://www.dreamstime.com/cartoon-lamp-thumb16049222.jpg"/>
          <p:cNvPicPr/>
          <p:nvPr/>
        </p:nvPicPr>
        <p:blipFill>
          <a:blip r:embed="rId1"/>
          <a:stretch/>
        </p:blipFill>
        <p:spPr>
          <a:xfrm>
            <a:off x="5076720" y="4869000"/>
            <a:ext cx="10130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0" t="0" r="1565" b="12277"/>
          <a:stretch/>
        </p:blipFill>
        <p:spPr>
          <a:xfrm>
            <a:off x="4932360" y="1844640"/>
            <a:ext cx="3695760" cy="3909960"/>
          </a:xfrm>
          <a:prstGeom prst="rect">
            <a:avLst/>
          </a:prstGeom>
          <a:ln w="1908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95280" y="191628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e affinity of </a:t>
            </a:r>
            <a:r>
              <a:rPr b="1" lang="en-US" sz="2400" spc="-1" strike="noStrike">
                <a:solidFill>
                  <a:srgbClr val="4f81bd"/>
                </a:solidFill>
                <a:latin typeface="Cambria"/>
                <a:ea typeface="Times New Roman"/>
              </a:rPr>
              <a:t>aldolase B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for fructose-1-P is much poorer than that of fructose-1,6-biphosphate, thus fructose-1-P accumulates in fructokinase-expressing t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Thus, aldolase B is the rate-limiting enzyme for fructose metabolism (not glucos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Fructose metabolism- Mus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0920" y="1700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ambria"/>
              </a:rPr>
              <a:t>Muscle</a:t>
            </a:r>
            <a:r>
              <a:rPr b="1" lang="en-GB" sz="2400" spc="-1" strike="noStrike">
                <a:solidFill>
                  <a:srgbClr val="cc0099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hich contains only </a:t>
            </a: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hexokinase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phosphorylate fructose to </a:t>
            </a: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F6P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which is a direct glycolytic intermedi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However, </a:t>
            </a:r>
            <a:r>
              <a:rPr b="0" lang="en-GB" sz="2400" spc="-1" strike="noStrike">
                <a:solidFill>
                  <a:srgbClr val="df25c4"/>
                </a:solidFill>
                <a:latin typeface="Cambria"/>
              </a:rPr>
              <a:t>hexokinase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has a very low affinity to fructose compared to glucose, So it is not a significant pathway for fructose metabolism. Unless it is present in very high concentration in bl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44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530600" cy="3711600"/>
          </a:xfrm>
          <a:prstGeom prst="rect">
            <a:avLst/>
          </a:prstGeom>
          <a:ln w="1260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3" name="Rectangle 11"/>
          <p:cNvSpPr/>
          <p:nvPr/>
        </p:nvSpPr>
        <p:spPr>
          <a:xfrm>
            <a:off x="611280" y="5373720"/>
            <a:ext cx="806436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Fructose-6-P can be converted to </a:t>
            </a:r>
            <a:r>
              <a:rPr b="0" lang="en-US" sz="2400" spc="-1" strike="noStrike">
                <a:solidFill>
                  <a:srgbClr val="c00000"/>
                </a:solidFill>
                <a:latin typeface="Cambria"/>
                <a:ea typeface="Times New Roman"/>
              </a:rPr>
              <a:t>glucosamine-6-P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which is the precursor of all other amino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7631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ambria"/>
                <a:ea typeface="Times New Roman"/>
              </a:rPr>
              <a:t>In the teste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(seminal vesicles), fructose is converted into glucose through sorbitol formation by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aldolase reductase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and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Times New Roman"/>
              </a:rPr>
              <a:t>sorbitol dehydrogenase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f25c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Deficiency of fructose correlates with male infert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Continue</a:t>
            </a:r>
            <a:r>
              <a:rPr b="0" i="1" lang="en-US" sz="3600" spc="-1" strike="noStrike">
                <a:solidFill>
                  <a:srgbClr val="df25c4"/>
                </a:solidFill>
                <a:latin typeface="Cambria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16:18:25Z</dcterms:created>
  <dc:creator>Sooad</dc:creator>
  <dc:description/>
  <dc:language>en-US</dc:language>
  <cp:lastModifiedBy>Sooad</cp:lastModifiedBy>
  <dcterms:modified xsi:type="dcterms:W3CDTF">2012-03-19T03:48:49Z</dcterms:modified>
  <cp:revision>2</cp:revision>
  <dc:subject/>
  <dc:title>Metabolism of disaccharides: Fructose and Galactose </dc:title>
</cp:coreProperties>
</file>