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540-D5C0-4225-B9E7-2DF24902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EEC-AE0C-4845-9099-A797FDC3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34A-7BED-466E-ADAD-44563827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A92-6DB3-435D-BB56-C6264C6F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D58-D8D4-4FB6-B266-09435254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A91-D801-40F5-99AE-09986EB2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6C5-C998-44C3-AD79-DB408060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077-E1E6-483D-A74B-5C13CF8F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151-6A4D-4F9C-A8A3-B3CC3DBB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855-AC52-4254-9FD5-AA9B83C3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8F7-9845-41E7-A3FD-421D75C1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F36-DFC2-4BF3-BC23-4589E5C7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DEAA-02E6-49E4-9D96-5D188E406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 from Igneous Phas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snapshot of all compositions at given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remains at same point but diagram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+ F = C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 = 2, then P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hases = number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=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T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nO, BaO, SrO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,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plot a maximum of three components using triangl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ss)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excess or 0)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cess 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into apatite,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nto albite, T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rutile or ilmenite, 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to chromite, F into fluorite or apatite, Cl into h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MnO with FeO, BaO and SrO with CaO,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eO, Cl with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major elements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reduced to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O, (FeO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K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(FeO + MgO)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M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n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aO – MgO used for carbonat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Molar amounts, no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s denote two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subfields denote three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is snapshot of mineral combinations under given T,P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tracked by changes i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nterested in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450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rb450"/>
          <p:cNvPicPr/>
          <p:nvPr/>
        </p:nvPicPr>
        <p:blipFill>
          <a:blip r:embed="rId1"/>
          <a:stretch/>
        </p:blipFill>
        <p:spPr>
          <a:xfrm>
            <a:off x="1371600" y="1133640"/>
            <a:ext cx="66294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F = 2, C = 3, P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reaction curve, F = 1, P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et 4 Phases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in Middle of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on Ti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 Breaks and New One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Meta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inerals 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Minerals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ilities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Low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arb100"/>
          <p:cNvPicPr/>
          <p:nvPr/>
        </p:nvPicPr>
        <p:blipFill>
          <a:blip r:embed="rId1"/>
          <a:stretch/>
        </p:blipFill>
        <p:spPr>
          <a:xfrm>
            <a:off x="1295280" y="936720"/>
            <a:ext cx="6858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 C: New Phase on Tie Li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Quartz + Brucite -&gt; Tal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MPDEV1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 C: One Tie Line Replaced by An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Dolomite -&gt; Calcite + Ta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MPDEV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C: New Phase in Middle of Fie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Talc + Calcite -&gt; Tremol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MPDEV3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H2OPhase"/>
          <p:cNvPicPr/>
          <p:nvPr/>
        </p:nvPicPr>
        <p:blipFill>
          <a:blip r:embed="rId1"/>
          <a:stretch/>
        </p:blipFill>
        <p:spPr>
          <a:xfrm>
            <a:off x="2362320" y="9144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most versatile and instructiv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K-spar and alb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CaO - 3.3 *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Ca in apa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cf000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 – variable Ca (epidote, garnet, anorth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 – amount in diopside or horn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K-feldspar and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KF000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and A’KF Diagrams are often pa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section through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re MgO and FeO don’t fully sub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includ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ecause of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/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+FeO+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Mg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fm000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fm001"/>
          <p:cNvPicPr/>
          <p:nvPr/>
        </p:nvPicPr>
        <p:blipFill>
          <a:blip r:embed="rId1"/>
          <a:stretch/>
        </p:blipFill>
        <p:spPr>
          <a:xfrm>
            <a:off x="1600200" y="1600200"/>
            <a:ext cx="6172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O-MgO-Si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arb000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se Rule (Gibbs, 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(Distinct Materials or St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(Independent Vari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Rule and Phas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2OPhase1"/>
          <p:cNvPicPr/>
          <p:nvPr/>
        </p:nvPicPr>
        <p:blipFill>
          <a:blip r:embed="rId1"/>
          <a:stretch/>
        </p:blipFill>
        <p:spPr>
          <a:xfrm>
            <a:off x="228600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A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l2SiO5Phase1"/>
          <p:cNvPicPr/>
          <p:nvPr/>
        </p:nvPicPr>
        <p:blipFill>
          <a:blip r:embed="rId1"/>
          <a:stretch/>
        </p:blipFill>
        <p:spPr>
          <a:xfrm>
            <a:off x="76212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IcePhase"/>
          <p:cNvPicPr/>
          <p:nvPr/>
        </p:nvPicPr>
        <p:blipFill>
          <a:blip r:embed="rId1"/>
          <a:stretch/>
        </p:blipFill>
        <p:spPr>
          <a:xfrm>
            <a:off x="1981080" y="1066680"/>
            <a:ext cx="4867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of Si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SiO2Phase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fug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ignore pH, Eh, Oxygen fugacity for most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sulfid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care about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 and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39:59Z</dcterms:created>
  <dc:creator>New User</dc:creator>
  <dc:description/>
  <dc:language>en-US</dc:language>
  <cp:lastModifiedBy>Dell</cp:lastModifiedBy>
  <dcterms:modified xsi:type="dcterms:W3CDTF">2011-10-05T23:46:01Z</dcterms:modified>
  <cp:revision>6</cp:revision>
  <dc:subject/>
  <dc:title>Metamorphic Phase Diagrams</dc:title>
</cp:coreProperties>
</file>