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E8A8-195B-461D-83CE-0FE2B93A0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DB22-C54E-44E8-8D7D-E9A9613F2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B24F-43DB-4A42-A9CC-DBBF49EA8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546A-E28A-4D89-9612-25F918712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EF73-9E5F-4DDB-884F-426E680EB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BB25-5075-4CA4-ADEA-028922D11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773E-4E18-4A89-95AA-58CB2C523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BCD6-1179-4D16-8B4E-A3628896B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D0C4-BD48-4746-91DD-1415F4F8D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33D3-ACA1-45FC-901E-0CDBA0992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B33C-23F1-4357-A58F-19DBB73F5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A5FB-7F40-49B7-9E8D-15DF5E304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0546-19F7-4434-9676-C218208C8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6318-B476-465A-90DA-A262FE1E9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38C3-A8B5-4C70-82B8-550ABF313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3430-AC93-4F30-A634-9605FCE41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F4C0-3A42-4B41-B42F-07F2B5146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31B2-4A1D-4FC4-8AF2-04DA68F56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41DE-3077-45C1-8380-2FA7C0BAB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0039-5DB6-4B69-B7FB-8BD9974CB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7D0A-3A63-4229-97ED-5051AB9B5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679C-5959-4955-8671-196AA2AB8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FE7B-0E45-4529-B58D-0C254E005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EAB7-F4BF-4343-8AD1-44F92054F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451C-A610-4E60-9307-7AE5AED33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6142-8E3A-45B4-8756-2EEE460B7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3CE7-376F-4769-A8A6-7324B260B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70E-975D-491D-B2E5-8B0E1EA3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155-8391-45B7-8A95-3DEAB24D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E22-9E3B-4BBE-AD50-4835779E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D71-27E5-4BEF-A11E-D6022AE8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850-673E-4CB6-B6F6-94C48DB8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F5B-8F44-4807-A0EC-6A4AE38F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E2C-F70A-4016-8AAC-34F3F3C5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E5D-3222-4990-8860-1EDAF08F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17E-6058-4655-AC9A-80C5A2B8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7055-F908-488F-9D65-E3492702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BEA-7306-4784-8957-C0BC1B1B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D00-1591-4354-B3B3-96E4E3E6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2B76-7B16-44DD-9BED-8041A0B07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metamorphism occ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) CONTACT META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rphism in contact with a bathol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gneous intrusion will “bake” the rocks it comes in contact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pens over a much smaller area than regional meta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meta_contact2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457200" y="5707080"/>
            <a:ext cx="434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windows.ucar.edu/earth/geology/images/meta_contact2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828800" y="6095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Metamorphis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eol.umd.edu/~jmerck/geol100/lectures/16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KE UP! This is C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metamorphism work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is the most important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heat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kinetic Energy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hemical reactio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is is NOT melting! This is NOT melting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ineralization (Metamorphis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ock was originally a shale, but has been subjected to HEAT and pressure to for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dimenta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amorph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457200" y="2503440"/>
            <a:ext cx="4038480" cy="271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167652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metamorphism work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 will confine the rock in one or mo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an alignment of flat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its most intense, can cause “zonation” of mafic and felsic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as the direction of greatest 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r_8"/>
          <p:cNvPicPr/>
          <p:nvPr/>
        </p:nvPicPr>
        <p:blipFill>
          <a:blip r:embed="rId1"/>
          <a:stretch/>
        </p:blipFill>
        <p:spPr>
          <a:xfrm>
            <a:off x="1676520" y="1523880"/>
            <a:ext cx="5257800" cy="4624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2362320" y="6248520"/>
            <a:ext cx="46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sorrel.humboldt.edu/~jdl1/web.page.images/rocks/r_8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57200" y="431640"/>
            <a:ext cx="8229600" cy="5535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2743200" y="6019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neiss Central WI, M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you say about this r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195560" y="1600200"/>
            <a:ext cx="675144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3962520" y="617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erms you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Protol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parent” rock of a metamorphic rock (what it was before it metamorpho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 = “earliest form of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 =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ck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bury a rock deep enough, it will melt (IGNEO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o deep, a rock will become lithified (SEDIMENT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nditions (Pressures and Temperatures) just right, metamorphism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erms you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grade = low P and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grade = high P and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erms you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Fo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ts upon sheets upon 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n schist (can be called schisto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D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also say a metamorphic rock is nonfolia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lith: sedimentary rock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le (mudsto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to R (low grade to high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te (low gr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st (foli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eiss (high gr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4648320" y="2505240"/>
            <a:ext cx="4038480" cy="2716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6019920" y="5334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lith: Igneous ro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i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571680" y="2309760"/>
            <a:ext cx="3809880" cy="3105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ite goes to gne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you want to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ol, you would call this an orthognei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at red miner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foli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lith: sedimentar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rtz sand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z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i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lith: Sedimentar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i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04920" y="2417760"/>
            <a:ext cx="41907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572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rock-cycle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5916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1905120" y="617220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voyagerstories.files.wordpress.com/2009/02/rock-cycl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“metamorphic”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” =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” = change i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Metamorphic rocks are rocks that have changed from their original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they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minerals (someti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metamorphism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Temperatur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in depth = increase in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Pressure (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in depth = increase i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thermal fluids that are rich in ions that can make new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00"/>
          <p:cNvPicPr/>
          <p:nvPr/>
        </p:nvPicPr>
        <p:blipFill>
          <a:blip r:embed="rId1"/>
          <a:stretch/>
        </p:blipFill>
        <p:spPr>
          <a:xfrm>
            <a:off x="457200" y="22860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2362320" y="62485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jamstec.go.jp/chikyu/image_files/C0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metamorphism occur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main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) REGIONAL META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 building (subduction of plates = com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se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pens over large regions (for instance, sever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subduction"/>
          <p:cNvPicPr/>
          <p:nvPr/>
        </p:nvPicPr>
        <p:blipFill>
          <a:blip r:embed="rId1"/>
          <a:stretch/>
        </p:blipFill>
        <p:spPr>
          <a:xfrm>
            <a:off x="4952880" y="2590920"/>
            <a:ext cx="3514680" cy="2276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4648320" y="5105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emporia.edu/earthsci/student/geller2/subducti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274680"/>
            <a:ext cx="5029200" cy="5851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666880" y="6172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Metamorphism: Triumph, SW Face, J Scur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8:22:19Z</dcterms:created>
  <dc:creator>David Lewis</dc:creator>
  <dc:description/>
  <dc:language>en-US</dc:language>
  <cp:lastModifiedBy>ksu</cp:lastModifiedBy>
  <dcterms:modified xsi:type="dcterms:W3CDTF">2011-11-01T02:25:59Z</dcterms:modified>
  <cp:revision>47</cp:revision>
  <dc:subject/>
  <dc:title>Metamorphic Rocks</dc:title>
</cp:coreProperties>
</file>