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8FFE-3CC6-442F-98AE-7FB1FA66F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850A-60FF-4DF3-AA0F-2F89E199E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9F45-905B-4D93-A654-81CEF5FFB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1AE0-1334-4E62-991F-42E43EEF1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81D2-9FE8-493D-A171-F51808643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C84F-216A-4E6F-AB54-6EE8ED425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B3E1-8959-4159-B117-F0B6FA49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152A-670E-4292-8585-89202062C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BAAC-D5B7-4654-AB33-A556C4479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CAB7-8EF0-4E0A-A247-5BE44FC78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4CAA-1131-4EDD-9F90-AC428C157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BC6C-7792-4396-B0A0-C1795F78E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EBCF-2E9C-49AB-9E2C-2B497DA53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ED94-803E-4FB3-98E6-0BE573EAC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717A-47B8-4D31-B140-52DC68389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223E-C449-424A-8168-528B8BF4F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8E10-4B64-480A-AA8A-94B75E9A2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0EE8-EE72-4DDF-8327-CB90E8C81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2B08-C789-462B-A9F8-97324C10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8F9E-416D-4F58-8D8F-49D8B2DEA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1489-74CB-44D1-AFF7-B60BC1F5C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DF97-2257-4CA0-BFB6-621B5ECE8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9779-E1BD-4F96-9762-B99D87308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6526-00B2-4F03-B8A5-B4A7EBA5B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49C4-DA84-4B58-85F1-C02E7CB8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CA87-CEC7-401D-A496-FECFD2856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1B96-6CC2-40C4-ABC4-E9A7C0C39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3B2-0497-4894-B682-8B4BCD04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994-B5B7-4F3B-905E-B5BB02F4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B6F-E9CE-484E-83A3-8A9A8ABE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F97-BD10-40BC-8218-420D352E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E2B-A038-4881-B2DB-F28AFAC9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D41-C30F-4CAD-8208-5937FEE4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C43-B238-4B0C-BEF7-14F7BE57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1C9-5838-495A-971D-79B9074D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86A-BF19-4309-9BF2-605864D7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C91-8058-4B36-8558-53C7E67F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9EC-378C-4D5A-BDC4-89E7B57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83D-4797-4B53-A0D9-06B80AE2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49D1-9BD0-4BEF-A84E-27E18EBD6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metamorphism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) CONTACT META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rphism in contact with a bathol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gneous intrusion will “bake” the rocks it comes in contac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over a much smaller area than regional meta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eta_contact2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57200" y="570708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windows.ucar.edu/earth/geology/images/meta_contact2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828800" y="6095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Metamorphis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eol.umd.edu/~jmerck/geol100/lectures/16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 UP! This is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work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is the most importan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hea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kinetic Energ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hemical reactio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is is NOT melting! This is NOT melt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neralization (Metamorphis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ock was originally a shale, but has been subjected to HEAT and pressure to fo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dimenta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morph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71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167652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work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 will confine the rock in one or mo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an alignment of flat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its most intense, can cause “zonation” of mafic and felsic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as the direction of greatest 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r_8"/>
          <p:cNvPicPr/>
          <p:nvPr/>
        </p:nvPicPr>
        <p:blipFill>
          <a:blip r:embed="rId1"/>
          <a:stretch/>
        </p:blipFill>
        <p:spPr>
          <a:xfrm>
            <a:off x="1676520" y="1523880"/>
            <a:ext cx="5257800" cy="4624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2362320" y="6248520"/>
            <a:ext cx="46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sorrel.humboldt.edu/~jdl1/web.page.images/rocks/r_8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7200" y="431640"/>
            <a:ext cx="8229600" cy="553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74320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neiss Central WI, M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you say about this 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195560" y="1600200"/>
            <a:ext cx="675144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962520" y="617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rotol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parent” rock of a metamorphic rock (what it was before it metamorpho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 = “earliest form o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 =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ck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bury a rock deep enough, it will melt (IGNE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o deep, a rock will become lithified (SEDIMENT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nditions (Pressures and Temperatures) just right, metamorphism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grade = low P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grade = high P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Fo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ts upon sheets upon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n schist (can be called schisto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lso say a metamorphic rock is nonfoli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 rock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le (mudsto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to R (low grade to high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te (low 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st (foli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eiss (high 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4648320" y="2505240"/>
            <a:ext cx="4038480" cy="2716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60199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Igneous ro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i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71680" y="2309760"/>
            <a:ext cx="3809880" cy="3105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ite goes to gne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you want to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ol, you would call this an orthognei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at red miner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foli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rtz sand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z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04920" y="2417760"/>
            <a:ext cx="41907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572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rock-cycle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916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1905120" y="617220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voyagerstories.files.wordpress.com/2009/02/rock-cycl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“metamorphic”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” =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” = change i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etamorphic rocks are rocks that have changed from their original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they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minerals (somet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Temperatur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depth = increase in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Pressure (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depth = increase i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thermal fluids that are rich in ions that can make new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00"/>
          <p:cNvPicPr/>
          <p:nvPr/>
        </p:nvPicPr>
        <p:blipFill>
          <a:blip r:embed="rId1"/>
          <a:stretch/>
        </p:blipFill>
        <p:spPr>
          <a:xfrm>
            <a:off x="457200" y="22860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2362320" y="62485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jamstec.go.jp/chikyu/image_files/C0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metamorphism occur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) REGIONAL META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 building (subduction of plates = com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e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over large regions (for instance, sever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subduction"/>
          <p:cNvPicPr/>
          <p:nvPr/>
        </p:nvPicPr>
        <p:blipFill>
          <a:blip r:embed="rId1"/>
          <a:stretch/>
        </p:blipFill>
        <p:spPr>
          <a:xfrm>
            <a:off x="4952880" y="2590920"/>
            <a:ext cx="3514680" cy="2276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4648320" y="5105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emporia.edu/earthsci/student/geller2/subduc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274680"/>
            <a:ext cx="5029200" cy="5851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666880" y="6172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Metamorphism: Triumph, SW Face, J Scur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8:22:19Z</dcterms:created>
  <dc:creator>David Lewis</dc:creator>
  <dc:description/>
  <dc:language>en-US</dc:language>
  <cp:lastModifiedBy>ksu</cp:lastModifiedBy>
  <dcterms:modified xsi:type="dcterms:W3CDTF">2011-11-01T02:25:59Z</dcterms:modified>
  <cp:revision>47</cp:revision>
  <dc:subject/>
  <dc:title>Metamorphic Rocks</dc:title>
</cp:coreProperties>
</file>