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D585-0B9F-43F6-84E9-F8E9B1453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9699-F348-482F-ADA5-835D74DF8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2EC9-346E-4395-9551-DF86E432A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D60B-78C5-4512-B19D-82ED7D2EF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F56A-1D00-48F4-BD03-B831F116A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1945-0049-49F9-B315-A72AC443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7F71-0569-474D-8108-00BB58C7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40DD-64CA-4BC8-94C9-4EC5120BC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CD2C-B0A1-42B9-AAEF-EA3B72318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28DD-25F4-4657-99A4-09FE69BD8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4DE1-6644-4AB4-B1F8-F4EDE5CB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BF6A-D1F9-4AAF-8F55-321EFFAA0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71C5-C122-42BB-9B55-EBFC11480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722B-F589-49DB-9542-654DA874A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1285-33D5-459E-A202-E9527B011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2C5C-BB6B-44E8-AC27-1715985AA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8A42-137D-4635-870C-D2F1434D7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8D5B-232A-4429-933B-D06CABE9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53DA-512A-4007-B298-C9FC741D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000B-D8D8-49BC-8335-E17BD6D7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0526-DE42-48D0-B33F-1D40E771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65BB-EFAA-4E77-B600-B68EA04F5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77E9-5DDB-4EE5-8653-7732B54B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FEBE-0D15-4E85-81BB-08F0EAC61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B5BB-DD18-4F15-9A2F-7703F231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B3CA-C0D8-4197-8F33-F38B1163E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544E-4C41-4053-A0EB-4B64E5D54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C86-5989-49EF-BDBD-0DEB1860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DE9-56BD-4055-B3B2-7A05E56C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E05-C959-4637-834D-716081C9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DDA-0772-4AFA-A61A-4318DB4E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ECF-E386-4603-A2C0-75BE7ABB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04D-F63E-4D1C-AA69-939AC3C9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CE0-D366-4846-9C2F-4662FAE1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E59-3622-4E5D-85D6-7B78CD8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19D-3ED7-474D-BE97-435ABD82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FC4-99B5-4190-8517-C3B35D1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70B-9DEB-4DD7-B463-E3B8F330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5AD-F559-440E-9867-FD17B51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4E2D-BC21-4501-98E0-C64E9F3E5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metamorphism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) CONTACT META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rphism in contact with a bathol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gneous intrusion will “bake” the rocks it comes in contact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over a much smaller area than regional meta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meta_contact2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57200" y="570708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windows.ucar.edu/earth/geology/images/meta_contact2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828800" y="6095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Metamorphis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eol.umd.edu/~jmerck/geol100/lectures/16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 UP! This is C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wor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is the most important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heat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kinetic Energ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hemical reactio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is is NOT melting! This is NOT melt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neralization (Metamorphi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ock was originally a shale, but has been subjected to HEAT and pressure to fo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dimenta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morph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71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167652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work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 will confine the rock in one or mo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an alignment of flat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its most intense, can cause “zonation” of mafic and felsic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as the direction of greatest 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r_8"/>
          <p:cNvPicPr/>
          <p:nvPr/>
        </p:nvPicPr>
        <p:blipFill>
          <a:blip r:embed="rId1"/>
          <a:stretch/>
        </p:blipFill>
        <p:spPr>
          <a:xfrm>
            <a:off x="1676520" y="1523880"/>
            <a:ext cx="5257800" cy="4624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2362320" y="6248520"/>
            <a:ext cx="46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sorrel.humboldt.edu/~jdl1/web.page.images/rocks/r_8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7200" y="431640"/>
            <a:ext cx="8229600" cy="553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74320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neiss Central WI, M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you say about this 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195560" y="1600200"/>
            <a:ext cx="675144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962520" y="617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Protol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parent” rock of a metamorphic rock (what it was before it metamorpho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 = “earliest form o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 =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ck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ury a rock deep enough, it will melt (IGNE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o deep, a rock will become lithified (SEDIMENT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nditions (Pressures and Temperatures) just right, metamorphism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grade = low P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ade = high P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erms you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Fo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s upon sheets upon 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in schist (can be called schisto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lso say a metamorphic rock is nonfoli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 rock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le (mudsto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to R (low grade to high gr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te (low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st (foli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eiss (high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4648320" y="2505240"/>
            <a:ext cx="4038480" cy="2716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60199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Igneous roc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i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71680" y="2309760"/>
            <a:ext cx="3809880" cy="3105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ite goes to gne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ou want to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ol, you would call this an orthognei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at red miner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is foli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rtz sand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z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olith: Sedimentar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i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04920" y="2417760"/>
            <a:ext cx="41907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572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ock-cycle"/>
          <p:cNvPicPr/>
          <p:nvPr/>
        </p:nvPicPr>
        <p:blipFill>
          <a:blip r:embed="rId1"/>
          <a:stretch/>
        </p:blipFill>
        <p:spPr>
          <a:xfrm>
            <a:off x="838080" y="228600"/>
            <a:ext cx="7543800" cy="5916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1905120" y="617220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voyagerstories.files.wordpress.com/2009/02/rock-cycl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“metamorphic”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” =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” = change i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Metamorphic rocks are rocks that have changed from their original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they chan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minerals (some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metamorphism hap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Temperatur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depth = increase in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Pressure (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in depth = increase i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thermal fluids that are rich in ions that can make new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00"/>
          <p:cNvPicPr/>
          <p:nvPr/>
        </p:nvPicPr>
        <p:blipFill>
          <a:blip r:embed="rId1"/>
          <a:stretch/>
        </p:blipFill>
        <p:spPr>
          <a:xfrm>
            <a:off x="457200" y="22860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2362320" y="62485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jamstec.go.jp/chikyu/image_files/C0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metamorphism occur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) REGIONAL METAMORP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 building (subduction of plates = com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e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over large regions (for instance, sever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subduction"/>
          <p:cNvPicPr/>
          <p:nvPr/>
        </p:nvPicPr>
        <p:blipFill>
          <a:blip r:embed="rId1"/>
          <a:stretch/>
        </p:blipFill>
        <p:spPr>
          <a:xfrm>
            <a:off x="4952880" y="2590920"/>
            <a:ext cx="3514680" cy="2276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4648320" y="5105520"/>
            <a:ext cx="380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emporia.edu/earthsci/student/geller2/subduc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274680"/>
            <a:ext cx="5029200" cy="5851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666880" y="6172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onal Metamorphism: Triumph, SW Face, J Scur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8:22:19Z</dcterms:created>
  <dc:creator>David Lewis</dc:creator>
  <dc:description/>
  <dc:language>en-US</dc:language>
  <cp:lastModifiedBy>ksu</cp:lastModifiedBy>
  <dcterms:modified xsi:type="dcterms:W3CDTF">2011-11-01T02:25:59Z</dcterms:modified>
  <cp:revision>47</cp:revision>
  <dc:subject/>
  <dc:title>Metamorphic Rocks</dc:title>
</cp:coreProperties>
</file>