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4493-380C-4613-A7A6-8A01202F9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E945-389B-4729-8B49-C839141FA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524-3E9E-4E39-BED7-EFFB3B3A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398F-799A-4C42-A25B-F632DE28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E4D-B978-4AB6-8527-683B533A7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FCA6-5FFC-4F97-AEC8-869BB34C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0B0D-954D-45E5-93E5-D4983F64C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5F08-FE91-4EF0-A995-1A5F9F1E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B75E-6FF2-4E18-875D-C044BDD07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FADB-DAAF-4CCE-BFB8-8548FE72A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C05A-8C28-4D0C-98CE-644ACCCAD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9554-40ED-4862-926C-384F8B91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6B22-99D2-45E1-BBBC-1F882152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9726-EAC3-40F8-980E-50895E6DE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809B-BF60-49F6-B076-FA94A727A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A7A4-4032-429F-B87F-CAC8978A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213D-30EB-4423-B06A-EC046579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5B24-8206-4A3D-A337-69DF1CAE3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AFBC-3A24-4934-8236-02CE50C3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7455-C76E-438C-AFC6-2A3C7A1E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A368-26D6-40F1-AB45-791978A8E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25EF-FEAC-4FA3-BD52-F599FB0AC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949A-8B39-4BE9-A1C1-2DE12963F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B17E-0886-4BAE-BAB6-80DCD3E2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4DA1-085E-4DA5-B28F-0CDC6FD4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9049-C9B5-406D-AB62-91489F6BD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B35-E2A9-4487-8BEE-EB97A05D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CAA-B104-471C-96FF-BF462E90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2E3-9BEA-47A5-B5AA-9858E2BA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1EC-E325-432F-A05D-97D899DB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DBB-CF73-4E29-A8CA-FFF5040A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A8F-884B-4521-9CD9-993D796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ECC-70AF-4B54-A01F-45F41AE8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B7D-6289-4378-855C-4D3DD2B7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176-A61E-49F8-AC65-671DBB82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295-0AA8-4D28-8FEB-9939EACC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D53-CDBB-43E0-821C-E7FA7AD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257-3A2E-495B-BB96-730AB772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690-7CB7-4BEC-9D40-965F2B73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CDC8-BC73-456E-92FC-6E18FFF3C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metamorphism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) CONTACT META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rphism in contact with a bathol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gneous intrusion will “bake” the rocks it comes in contac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over a much smaller area than regional meta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eta_contact2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57200" y="570708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windows.ucar.edu/earth/geology/images/meta_contact2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828800" y="6095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Metamorphis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eol.umd.edu/~jmerck/geol100/lectures/16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 UP! This is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wor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is the most importan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hea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kinetic Energ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hemical reactio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is is NOT melting! This is NOT melt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neralization (Metamorphi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ock was originally a shale, but has been subjected to HEAT and pressure to fo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dimenta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morph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71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167652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wor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 will confine the rock in one or mo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n alignment of flat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its most intense, can cause “zonation” of mafic and felsic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as the direction of greatest 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r_8"/>
          <p:cNvPicPr/>
          <p:nvPr/>
        </p:nvPicPr>
        <p:blipFill>
          <a:blip r:embed="rId1"/>
          <a:stretch/>
        </p:blipFill>
        <p:spPr>
          <a:xfrm>
            <a:off x="1676520" y="1523880"/>
            <a:ext cx="5257800" cy="4624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2362320" y="6248520"/>
            <a:ext cx="46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sorrel.humboldt.edu/~jdl1/web.page.images/rocks/r_8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7200" y="431640"/>
            <a:ext cx="8229600" cy="553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74320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neiss Central WI, M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you say about this 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195560" y="1600200"/>
            <a:ext cx="675144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962520" y="617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rotol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parent” rock of a metamorphic rock (what it was before it metamorpho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 = “earliest form o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 =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ck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ury a rock deep enough, it will melt (IGNE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o deep, a rock will become lithified (SEDIMENT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nditions (Pressures and Temperatures) just right, metamorphism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grade = low P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ade = high P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Fo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s upon sheets upon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n schist (can be called schisto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lso say a metamorphic rock is nonfoli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 roc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le (mudsto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to R (low grade to high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te (low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st (foli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eiss (high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4648320" y="2505240"/>
            <a:ext cx="4038480" cy="2716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60199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Igneous ro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i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71680" y="2309760"/>
            <a:ext cx="3809880" cy="3105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ite goes to gne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ou want to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ol, you would call this an orthognei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at red mine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foli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rtz sand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z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04920" y="2417760"/>
            <a:ext cx="41907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572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ock-cycle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916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1905120" y="61722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voyagerstories.files.wordpress.com/2009/02/rock-cycl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“metamorphic”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” =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” = change i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etamorphic rocks are rocks that have changed from their original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they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minerals (some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Temperatur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depth = increase in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Pressure (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depth = increase i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thermal fluids that are rich in ions that can make new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00"/>
          <p:cNvPicPr/>
          <p:nvPr/>
        </p:nvPicPr>
        <p:blipFill>
          <a:blip r:embed="rId1"/>
          <a:stretch/>
        </p:blipFill>
        <p:spPr>
          <a:xfrm>
            <a:off x="457200" y="22860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2362320" y="62485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amstec.go.jp/chikyu/image_files/C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metamorphism occur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) REGIONAL META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 building (subduction of plates = co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e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over large regions (for instance, sever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subduction"/>
          <p:cNvPicPr/>
          <p:nvPr/>
        </p:nvPicPr>
        <p:blipFill>
          <a:blip r:embed="rId1"/>
          <a:stretch/>
        </p:blipFill>
        <p:spPr>
          <a:xfrm>
            <a:off x="4952880" y="2590920"/>
            <a:ext cx="3514680" cy="2276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4648320" y="5105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emporia.edu/earthsci/student/geller2/subduc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274680"/>
            <a:ext cx="5029200" cy="5851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666880" y="6172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Metamorphism: Triumph, SW Face, J Scur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8:22:19Z</dcterms:created>
  <dc:creator>David Lewis</dc:creator>
  <dc:description/>
  <dc:language>en-US</dc:language>
  <cp:lastModifiedBy>ksu</cp:lastModifiedBy>
  <dcterms:modified xsi:type="dcterms:W3CDTF">2011-11-01T02:25:59Z</dcterms:modified>
  <cp:revision>47</cp:revision>
  <dc:subject/>
  <dc:title>Metamorphic Rocks</dc:title>
</cp:coreProperties>
</file>