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5D871-AFAA-428F-B4F5-85FA78AF4267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1CF0E-C591-49B3-AA89-F41A3D82DE27}" type="slidenum">
              <a:rPr b="0" lang="en-US" sz="1200" spc="-1" strike="noStrike">
                <a:solidFill>
                  <a:srgbClr val="ffff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26E77-9C0B-4C00-A26A-7E1853D71552}" type="slidenum">
              <a:rPr b="0" lang="en-US" sz="1200" spc="-1" strike="noStrike">
                <a:solidFill>
                  <a:srgbClr val="ffff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6D2BE-1B47-49B4-965A-C9CEA94E4D57}" type="slidenum">
              <a:rPr b="0" lang="en-US" sz="1200" spc="-1" strike="noStrike">
                <a:solidFill>
                  <a:srgbClr val="ffff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34397-0D7B-49A8-AB84-9E3284449F3C}" type="slidenum">
              <a:rPr b="0" lang="en-US" sz="1200" spc="-1" strike="noStrike">
                <a:solidFill>
                  <a:srgbClr val="ffff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F8E5E-B58B-4494-8807-522E8E3826E5}" type="slidenum">
              <a:rPr b="0" lang="en-US" sz="1200" spc="-1" strike="noStrike">
                <a:solidFill>
                  <a:srgbClr val="ffff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BE2C0-EA27-45AA-80C6-9DBDC19E9928}" type="slidenum">
              <a:rPr b="0" lang="en-US" sz="1200" spc="-1" strike="noStrike">
                <a:solidFill>
                  <a:srgbClr val="ffff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BD30D-1130-4CED-A3A3-78047B10B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C66C8-DC11-40DA-95C5-4D8E01AF5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3EFA1-DD05-43A9-B8B4-768D29B6E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0DB01-41F1-4343-89B8-F0FD06345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B9244-C584-4343-BCC7-F445A12D3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24499-21E8-4317-B38A-69CAED0AB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7FD95-FD49-4F65-9B6E-1267C0991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BAA73-F2C1-4161-B559-C53E535D7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44E1A-F258-4229-BB16-6918999B6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388FB-BD9B-4F7D-B6F0-1483AC9DE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BCA46-8806-42D5-8ABB-8B8A85051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427B3-CFB2-483A-817C-9AB9A370C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cc"/>
            </a:gs>
            <a:gs pos="100000">
              <a:srgbClr val="7618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ffff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5EA19-E1BF-4F1F-B463-9A6215014C25}" type="slidenum">
              <a:rPr b="0" lang="en-US" sz="1400" spc="-1" strike="noStrike">
                <a:solidFill>
                  <a:srgbClr val="ffff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1371600" y="2209680"/>
            <a:ext cx="64008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Metamorphic Rocks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1050840" y="379440"/>
            <a:ext cx="7042320" cy="60976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3"/>
          <p:cNvSpPr/>
          <p:nvPr/>
        </p:nvSpPr>
        <p:spPr>
          <a:xfrm>
            <a:off x="2971800" y="4419720"/>
            <a:ext cx="685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150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1523880" y="533520"/>
            <a:ext cx="502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Confining Pressure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3" name="Text Box 3"/>
          <p:cNvSpPr/>
          <p:nvPr/>
        </p:nvSpPr>
        <p:spPr>
          <a:xfrm>
            <a:off x="1752480" y="1371600"/>
            <a:ext cx="6477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onfining pressure is the same in all directions (incl. 3rd dimension)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4" name="AutoShape 4"/>
          <p:cNvSpPr/>
          <p:nvPr/>
        </p:nvSpPr>
        <p:spPr>
          <a:xfrm>
            <a:off x="3581280" y="2514600"/>
            <a:ext cx="76320" cy="685800"/>
          </a:xfrm>
          <a:prstGeom prst="downArrow">
            <a:avLst>
              <a:gd name="adj1" fmla="val 50000"/>
              <a:gd name="adj2" fmla="val 224646"/>
            </a:avLst>
          </a:prstGeom>
          <a:solidFill>
            <a:srgbClr val="bbe0e3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5" name="AutoShape 5"/>
          <p:cNvSpPr/>
          <p:nvPr/>
        </p:nvSpPr>
        <p:spPr>
          <a:xfrm>
            <a:off x="3581280" y="3429000"/>
            <a:ext cx="76320" cy="838080"/>
          </a:xfrm>
          <a:prstGeom prst="upArrow">
            <a:avLst>
              <a:gd name="adj1" fmla="val 50000"/>
              <a:gd name="adj2" fmla="val 274528"/>
            </a:avLst>
          </a:prstGeom>
          <a:solidFill>
            <a:srgbClr val="bbe0e3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6" name="AutoShape 6"/>
          <p:cNvSpPr/>
          <p:nvPr/>
        </p:nvSpPr>
        <p:spPr>
          <a:xfrm>
            <a:off x="3657600" y="3276720"/>
            <a:ext cx="914400" cy="75960"/>
          </a:xfrm>
          <a:prstGeom prst="leftArrow">
            <a:avLst>
              <a:gd name="adj1" fmla="val 50000"/>
              <a:gd name="adj2" fmla="val 300948"/>
            </a:avLst>
          </a:prstGeom>
          <a:solidFill>
            <a:srgbClr val="bbe0e3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7" name="AutoShape 7"/>
          <p:cNvSpPr/>
          <p:nvPr/>
        </p:nvSpPr>
        <p:spPr>
          <a:xfrm>
            <a:off x="2743200" y="3276720"/>
            <a:ext cx="838080" cy="75960"/>
          </a:xfrm>
          <a:prstGeom prst="rightArrow">
            <a:avLst>
              <a:gd name="adj1" fmla="val 50000"/>
              <a:gd name="adj2" fmla="val 275829"/>
            </a:avLst>
          </a:prstGeom>
          <a:solidFill>
            <a:srgbClr val="bbe0e3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8" name="Text Box 8"/>
          <p:cNvSpPr/>
          <p:nvPr/>
        </p:nvSpPr>
        <p:spPr>
          <a:xfrm>
            <a:off x="1613160" y="5029200"/>
            <a:ext cx="747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onfining pressure implies that there is little more 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in one direction that in the other directions.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9" name="Text Box 12"/>
          <p:cNvSpPr/>
          <p:nvPr/>
        </p:nvSpPr>
        <p:spPr>
          <a:xfrm>
            <a:off x="4724280" y="2438280"/>
            <a:ext cx="36576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In water, that is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ne ton per m2 each meter of depth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10 m ~ 1 atm or 10 tons of pressure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2"/>
          <p:cNvSpPr/>
          <p:nvPr/>
        </p:nvSpPr>
        <p:spPr>
          <a:xfrm>
            <a:off x="1523880" y="533520"/>
            <a:ext cx="502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irected Pressure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1" name="Text Box 3"/>
          <p:cNvSpPr/>
          <p:nvPr/>
        </p:nvSpPr>
        <p:spPr>
          <a:xfrm>
            <a:off x="1752480" y="1371600"/>
            <a:ext cx="6477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hen one pressure is greater than the other three (incl. 3rd dimension)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2" name="AutoShape 4"/>
          <p:cNvSpPr/>
          <p:nvPr/>
        </p:nvSpPr>
        <p:spPr>
          <a:xfrm>
            <a:off x="3581280" y="2514600"/>
            <a:ext cx="76320" cy="685800"/>
          </a:xfrm>
          <a:prstGeom prst="downArrow">
            <a:avLst>
              <a:gd name="adj1" fmla="val 50000"/>
              <a:gd name="adj2" fmla="val 224646"/>
            </a:avLst>
          </a:prstGeom>
          <a:solidFill>
            <a:srgbClr val="bbe0e3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3" name="AutoShape 5"/>
          <p:cNvSpPr/>
          <p:nvPr/>
        </p:nvSpPr>
        <p:spPr>
          <a:xfrm>
            <a:off x="3581280" y="3429000"/>
            <a:ext cx="76320" cy="838080"/>
          </a:xfrm>
          <a:prstGeom prst="upArrow">
            <a:avLst>
              <a:gd name="adj1" fmla="val 50000"/>
              <a:gd name="adj2" fmla="val 274528"/>
            </a:avLst>
          </a:prstGeom>
          <a:solidFill>
            <a:srgbClr val="bbe0e3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4" name="AutoShape 6"/>
          <p:cNvSpPr/>
          <p:nvPr/>
        </p:nvSpPr>
        <p:spPr>
          <a:xfrm>
            <a:off x="3657600" y="3276720"/>
            <a:ext cx="380880" cy="75960"/>
          </a:xfrm>
          <a:prstGeom prst="leftArrow">
            <a:avLst>
              <a:gd name="adj1" fmla="val 50000"/>
              <a:gd name="adj2" fmla="val 125355"/>
            </a:avLst>
          </a:prstGeom>
          <a:solidFill>
            <a:srgbClr val="bbe0e3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5" name="AutoShape 7"/>
          <p:cNvSpPr/>
          <p:nvPr/>
        </p:nvSpPr>
        <p:spPr>
          <a:xfrm>
            <a:off x="3276720" y="3276720"/>
            <a:ext cx="304560" cy="75960"/>
          </a:xfrm>
          <a:prstGeom prst="rightArrow">
            <a:avLst>
              <a:gd name="adj1" fmla="val 50000"/>
              <a:gd name="adj2" fmla="val 100237"/>
            </a:avLst>
          </a:prstGeom>
          <a:solidFill>
            <a:srgbClr val="bbe0e3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6" name="Line 10"/>
          <p:cNvSpPr/>
          <p:nvPr/>
        </p:nvSpPr>
        <p:spPr>
          <a:xfrm>
            <a:off x="2971800" y="2438280"/>
            <a:ext cx="2057400" cy="29718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7" name="Line 11"/>
          <p:cNvSpPr/>
          <p:nvPr/>
        </p:nvSpPr>
        <p:spPr>
          <a:xfrm>
            <a:off x="4495680" y="4191120"/>
            <a:ext cx="609840" cy="76176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8" name="Line 12"/>
          <p:cNvSpPr/>
          <p:nvPr/>
        </p:nvSpPr>
        <p:spPr>
          <a:xfrm flipH="1" flipV="1">
            <a:off x="4114440" y="4495320"/>
            <a:ext cx="609480" cy="83844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9" name="Text Box 13"/>
          <p:cNvSpPr/>
          <p:nvPr/>
        </p:nvSpPr>
        <p:spPr>
          <a:xfrm>
            <a:off x="4876920" y="2819520"/>
            <a:ext cx="2666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If directed pressure is great enough rocks can break and/or fold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2"/>
          <p:cNvSpPr/>
          <p:nvPr/>
        </p:nvSpPr>
        <p:spPr>
          <a:xfrm>
            <a:off x="1523880" y="1066680"/>
            <a:ext cx="502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Fluids 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1447920" y="2514600"/>
            <a:ext cx="647676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Accelerate chemical reactions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Dissolve ions and move them from one mineral to another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(A change in rock composition by fluid transport is </a:t>
            </a:r>
            <a:r>
              <a:rPr b="0" lang="en-US" sz="2400" spc="-1" strike="noStrike" u="sng">
                <a:solidFill>
                  <a:srgbClr val="ffff00"/>
                </a:solidFill>
                <a:uFillTx/>
                <a:latin typeface="Comic Sans MS"/>
              </a:rPr>
              <a:t>metasomatism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303120" y="471600"/>
            <a:ext cx="8535960" cy="59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"/>
          <p:cNvPicPr/>
          <p:nvPr/>
        </p:nvPicPr>
        <p:blipFill>
          <a:blip r:embed="rId1"/>
          <a:stretch/>
        </p:blipFill>
        <p:spPr>
          <a:xfrm>
            <a:off x="806400" y="379440"/>
            <a:ext cx="7529400" cy="609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AutoShape 2"/>
          <p:cNvSpPr/>
          <p:nvPr/>
        </p:nvSpPr>
        <p:spPr>
          <a:xfrm>
            <a:off x="1295280" y="914400"/>
            <a:ext cx="5410440" cy="5105520"/>
          </a:xfrm>
          <a:prstGeom prst="triangle">
            <a:avLst>
              <a:gd name="adj" fmla="val 49472"/>
            </a:avLst>
          </a:prstGeom>
          <a:solidFill>
            <a:srgbClr val="ff33cc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5" name="Text Box 3"/>
          <p:cNvSpPr/>
          <p:nvPr/>
        </p:nvSpPr>
        <p:spPr>
          <a:xfrm>
            <a:off x="3581280" y="457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ressure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6" name="Text Box 5"/>
          <p:cNvSpPr/>
          <p:nvPr/>
        </p:nvSpPr>
        <p:spPr>
          <a:xfrm>
            <a:off x="6781680" y="5943600"/>
            <a:ext cx="205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mperature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7" name="Text Box 6"/>
          <p:cNvSpPr/>
          <p:nvPr/>
        </p:nvSpPr>
        <p:spPr>
          <a:xfrm>
            <a:off x="0" y="5791320"/>
            <a:ext cx="2971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Fluids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metasomatism)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8" name="Text Box 8"/>
          <p:cNvSpPr/>
          <p:nvPr/>
        </p:nvSpPr>
        <p:spPr>
          <a:xfrm>
            <a:off x="5105520" y="4572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Comic Sans MS"/>
              </a:rPr>
              <a:t>(Impacts)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9" name="Text Box 9"/>
          <p:cNvSpPr/>
          <p:nvPr/>
        </p:nvSpPr>
        <p:spPr>
          <a:xfrm>
            <a:off x="6781680" y="54864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Comic Sans MS"/>
              </a:rPr>
              <a:t>Contact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0" name="Text Box 10"/>
          <p:cNvSpPr/>
          <p:nvPr/>
        </p:nvSpPr>
        <p:spPr>
          <a:xfrm>
            <a:off x="2971800" y="3733920"/>
            <a:ext cx="16002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Comic Sans MS"/>
              </a:rPr>
              <a:t>Burial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(low-P, low-T),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Comic Sans MS"/>
              </a:rPr>
              <a:t>low-grade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1" name="Text Box 11"/>
          <p:cNvSpPr/>
          <p:nvPr/>
        </p:nvSpPr>
        <p:spPr>
          <a:xfrm>
            <a:off x="0" y="0"/>
            <a:ext cx="327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00"/>
                </a:solidFill>
                <a:uFillTx/>
                <a:latin typeface="Comic Sans MS"/>
              </a:rPr>
              <a:t>TYPES OF METAMORPHISM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2" name="Line 12"/>
          <p:cNvSpPr/>
          <p:nvPr/>
        </p:nvSpPr>
        <p:spPr>
          <a:xfrm flipV="1">
            <a:off x="4114800" y="3200040"/>
            <a:ext cx="1752480" cy="114300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3" name="Text Box 13"/>
          <p:cNvSpPr/>
          <p:nvPr/>
        </p:nvSpPr>
        <p:spPr>
          <a:xfrm rot="19449600">
            <a:off x="3734280" y="281916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Increasing grade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4" name="Text Box 14"/>
          <p:cNvSpPr/>
          <p:nvPr/>
        </p:nvSpPr>
        <p:spPr>
          <a:xfrm>
            <a:off x="6095880" y="2286000"/>
            <a:ext cx="3353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Regional Metamorphism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5" name="Text Box 15"/>
          <p:cNvSpPr/>
          <p:nvPr/>
        </p:nvSpPr>
        <p:spPr>
          <a:xfrm>
            <a:off x="4495680" y="160020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Subduction Zones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6" name="Text Box 16"/>
          <p:cNvSpPr/>
          <p:nvPr/>
        </p:nvSpPr>
        <p:spPr>
          <a:xfrm>
            <a:off x="5257800" y="373392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Mountain belts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4"/>
          <p:cNvSpPr/>
          <p:nvPr/>
        </p:nvSpPr>
        <p:spPr>
          <a:xfrm>
            <a:off x="1371960" y="6095880"/>
            <a:ext cx="568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shock, contact, regional, and burial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pic>
        <p:nvPicPr>
          <p:cNvPr id="98" name="Picture 5" descr=""/>
          <p:cNvPicPr/>
          <p:nvPr/>
        </p:nvPicPr>
        <p:blipFill>
          <a:blip r:embed="rId1"/>
          <a:stretch/>
        </p:blipFill>
        <p:spPr>
          <a:xfrm>
            <a:off x="380880" y="762120"/>
            <a:ext cx="8535960" cy="5432400"/>
          </a:xfrm>
          <a:prstGeom prst="rect">
            <a:avLst/>
          </a:prstGeom>
          <a:ln w="0">
            <a:noFill/>
          </a:ln>
        </p:spPr>
      </p:pic>
      <p:sp>
        <p:nvSpPr>
          <p:cNvPr id="99" name="Text Box 6"/>
          <p:cNvSpPr/>
          <p:nvPr/>
        </p:nvSpPr>
        <p:spPr>
          <a:xfrm>
            <a:off x="2209680" y="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ypes of metamorphism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303120" y="712800"/>
            <a:ext cx="8535960" cy="543240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3"/>
          <p:cNvSpPr/>
          <p:nvPr/>
        </p:nvSpPr>
        <p:spPr>
          <a:xfrm>
            <a:off x="178920" y="2317680"/>
            <a:ext cx="68976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Verdana"/>
                <a:ea typeface="Arial"/>
              </a:rPr>
              <a:t>Depth,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Verdana"/>
                <a:ea typeface="Arial"/>
              </a:rPr>
              <a:t>km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509040" y="2678040"/>
            <a:ext cx="26748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Verdana"/>
                <a:ea typeface="Arial"/>
              </a:rPr>
              <a:t>0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3" name="Rectangle 5"/>
          <p:cNvSpPr/>
          <p:nvPr/>
        </p:nvSpPr>
        <p:spPr>
          <a:xfrm>
            <a:off x="411480" y="3067200"/>
            <a:ext cx="3546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Verdana"/>
                <a:ea typeface="Arial"/>
              </a:rPr>
              <a:t>35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4" name="Rectangle 6"/>
          <p:cNvSpPr/>
          <p:nvPr/>
        </p:nvSpPr>
        <p:spPr>
          <a:xfrm>
            <a:off x="411480" y="3559320"/>
            <a:ext cx="3546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Verdana"/>
                <a:ea typeface="Arial"/>
              </a:rPr>
              <a:t>75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5" name="Rectangle 7"/>
          <p:cNvSpPr/>
          <p:nvPr/>
        </p:nvSpPr>
        <p:spPr>
          <a:xfrm rot="1385400">
            <a:off x="986400" y="4173480"/>
            <a:ext cx="133452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Verdana"/>
                <a:ea typeface="Arial"/>
              </a:rPr>
              <a:t>Asthenosphere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6" name="Rectangle 8"/>
          <p:cNvSpPr/>
          <p:nvPr/>
        </p:nvSpPr>
        <p:spPr>
          <a:xfrm rot="1191600">
            <a:off x="760320" y="3614760"/>
            <a:ext cx="2581200" cy="258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Verdana"/>
                <a:ea typeface="Arial"/>
              </a:rPr>
              <a:t>Continental mantle lithosphere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7" name="Rectangle 9"/>
          <p:cNvSpPr/>
          <p:nvPr/>
        </p:nvSpPr>
        <p:spPr>
          <a:xfrm rot="1122000">
            <a:off x="706320" y="3095640"/>
            <a:ext cx="1509480" cy="258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Verdana"/>
                <a:ea typeface="Arial"/>
              </a:rPr>
              <a:t>Continental crust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8" name="Rectangle 10"/>
          <p:cNvSpPr/>
          <p:nvPr/>
        </p:nvSpPr>
        <p:spPr>
          <a:xfrm>
            <a:off x="4047480" y="2244600"/>
            <a:ext cx="135864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Verdana"/>
                <a:ea typeface="Arial"/>
              </a:rPr>
              <a:t>Regional 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Verdana"/>
                <a:ea typeface="Arial"/>
              </a:rPr>
              <a:t>metamorphism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9" name="Rectangle 11"/>
          <p:cNvSpPr/>
          <p:nvPr/>
        </p:nvSpPr>
        <p:spPr>
          <a:xfrm>
            <a:off x="6028560" y="2320920"/>
            <a:ext cx="78732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Verdana"/>
                <a:ea typeface="Arial"/>
              </a:rPr>
              <a:t>Oceanic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Verdana"/>
                <a:ea typeface="Arial"/>
              </a:rPr>
              <a:t>crust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0" name="Rectangle 12"/>
          <p:cNvSpPr/>
          <p:nvPr/>
        </p:nvSpPr>
        <p:spPr>
          <a:xfrm>
            <a:off x="6500880" y="3478320"/>
            <a:ext cx="105696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Verdana"/>
                <a:ea typeface="Arial"/>
              </a:rPr>
              <a:t>Oceanic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Verdana"/>
                <a:ea typeface="Arial"/>
              </a:rPr>
              <a:t>lithosphere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1" name="Line 13"/>
          <p:cNvSpPr/>
          <p:nvPr/>
        </p:nvSpPr>
        <p:spPr>
          <a:xfrm flipV="1">
            <a:off x="4152960" y="2626920"/>
            <a:ext cx="243000" cy="48564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2" name="Line 14"/>
          <p:cNvSpPr/>
          <p:nvPr/>
        </p:nvSpPr>
        <p:spPr>
          <a:xfrm flipV="1">
            <a:off x="6818400" y="2890440"/>
            <a:ext cx="233280" cy="62388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3" name="Line 15"/>
          <p:cNvSpPr/>
          <p:nvPr/>
        </p:nvSpPr>
        <p:spPr>
          <a:xfrm flipH="1" flipV="1">
            <a:off x="6620040" y="2579400"/>
            <a:ext cx="249120" cy="19692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4" name="Rectangle 16"/>
          <p:cNvSpPr/>
          <p:nvPr/>
        </p:nvSpPr>
        <p:spPr>
          <a:xfrm>
            <a:off x="193680" y="266760"/>
            <a:ext cx="200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Shock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metamorphism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5" name="Line 17"/>
          <p:cNvSpPr/>
          <p:nvPr/>
        </p:nvSpPr>
        <p:spPr>
          <a:xfrm flipH="1" flipV="1">
            <a:off x="966960" y="891720"/>
            <a:ext cx="720720" cy="150660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6" name="Oval 18"/>
          <p:cNvSpPr/>
          <p:nvPr/>
        </p:nvSpPr>
        <p:spPr>
          <a:xfrm>
            <a:off x="1654200" y="2352600"/>
            <a:ext cx="92160" cy="921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  <a:effectLst>
            <a:outerShdw dist="12600" dir="5400000" blurRad="0" rotWithShape="0">
              <a:srgbClr val="ff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"/>
          <p:cNvPicPr/>
          <p:nvPr/>
        </p:nvPicPr>
        <p:blipFill>
          <a:blip r:embed="rId1"/>
          <a:stretch/>
        </p:blipFill>
        <p:spPr>
          <a:xfrm>
            <a:off x="303120" y="712800"/>
            <a:ext cx="8535960" cy="543240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3"/>
          <p:cNvSpPr/>
          <p:nvPr/>
        </p:nvSpPr>
        <p:spPr>
          <a:xfrm>
            <a:off x="178920" y="2317680"/>
            <a:ext cx="68976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Verdana"/>
                <a:ea typeface="Arial"/>
              </a:rPr>
              <a:t>Depth,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Verdana"/>
                <a:ea typeface="Arial"/>
              </a:rPr>
              <a:t>km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9" name="Rectangle 4"/>
          <p:cNvSpPr/>
          <p:nvPr/>
        </p:nvSpPr>
        <p:spPr>
          <a:xfrm>
            <a:off x="509040" y="2678040"/>
            <a:ext cx="26748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Verdana"/>
                <a:ea typeface="Arial"/>
              </a:rPr>
              <a:t>0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20" name="Rectangle 5"/>
          <p:cNvSpPr/>
          <p:nvPr/>
        </p:nvSpPr>
        <p:spPr>
          <a:xfrm>
            <a:off x="411480" y="3067200"/>
            <a:ext cx="3546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Verdana"/>
                <a:ea typeface="Arial"/>
              </a:rPr>
              <a:t>35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21" name="Rectangle 6"/>
          <p:cNvSpPr/>
          <p:nvPr/>
        </p:nvSpPr>
        <p:spPr>
          <a:xfrm>
            <a:off x="411480" y="3559320"/>
            <a:ext cx="3546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Verdana"/>
                <a:ea typeface="Arial"/>
              </a:rPr>
              <a:t>75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22" name="Rectangle 7"/>
          <p:cNvSpPr/>
          <p:nvPr/>
        </p:nvSpPr>
        <p:spPr>
          <a:xfrm rot="1385400">
            <a:off x="986400" y="4173480"/>
            <a:ext cx="133452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Verdana"/>
                <a:ea typeface="Arial"/>
              </a:rPr>
              <a:t>Asthenosphere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23" name="Rectangle 8"/>
          <p:cNvSpPr/>
          <p:nvPr/>
        </p:nvSpPr>
        <p:spPr>
          <a:xfrm rot="1191600">
            <a:off x="760320" y="3614760"/>
            <a:ext cx="2581200" cy="258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Verdana"/>
                <a:ea typeface="Arial"/>
              </a:rPr>
              <a:t>Continental mantle lithosphere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24" name="Rectangle 9"/>
          <p:cNvSpPr/>
          <p:nvPr/>
        </p:nvSpPr>
        <p:spPr>
          <a:xfrm rot="1122000">
            <a:off x="706320" y="3095640"/>
            <a:ext cx="1509480" cy="258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Verdana"/>
                <a:ea typeface="Arial"/>
              </a:rPr>
              <a:t>Continental crust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25" name="Rectangle 10"/>
          <p:cNvSpPr/>
          <p:nvPr/>
        </p:nvSpPr>
        <p:spPr>
          <a:xfrm>
            <a:off x="4047480" y="2244600"/>
            <a:ext cx="135864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Verdana"/>
                <a:ea typeface="Arial"/>
              </a:rPr>
              <a:t>Regional 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Verdana"/>
                <a:ea typeface="Arial"/>
              </a:rPr>
              <a:t>metamorphism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26" name="Rectangle 11"/>
          <p:cNvSpPr/>
          <p:nvPr/>
        </p:nvSpPr>
        <p:spPr>
          <a:xfrm>
            <a:off x="6028560" y="2320920"/>
            <a:ext cx="78732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Verdana"/>
                <a:ea typeface="Arial"/>
              </a:rPr>
              <a:t>Oceanic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Verdana"/>
                <a:ea typeface="Arial"/>
              </a:rPr>
              <a:t>crust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27" name="Rectangle 12"/>
          <p:cNvSpPr/>
          <p:nvPr/>
        </p:nvSpPr>
        <p:spPr>
          <a:xfrm>
            <a:off x="6500880" y="3478320"/>
            <a:ext cx="105696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Verdana"/>
                <a:ea typeface="Arial"/>
              </a:rPr>
              <a:t>Oceanic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Verdana"/>
                <a:ea typeface="Arial"/>
              </a:rPr>
              <a:t>lithosphere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28" name="Line 13"/>
          <p:cNvSpPr/>
          <p:nvPr/>
        </p:nvSpPr>
        <p:spPr>
          <a:xfrm flipV="1">
            <a:off x="4152960" y="2626920"/>
            <a:ext cx="243000" cy="48564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29" name="Line 14"/>
          <p:cNvSpPr/>
          <p:nvPr/>
        </p:nvSpPr>
        <p:spPr>
          <a:xfrm flipV="1">
            <a:off x="6818400" y="2890440"/>
            <a:ext cx="233280" cy="62388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30" name="Line 15"/>
          <p:cNvSpPr/>
          <p:nvPr/>
        </p:nvSpPr>
        <p:spPr>
          <a:xfrm flipH="1" flipV="1">
            <a:off x="6620040" y="2579400"/>
            <a:ext cx="249120" cy="19692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31" name="Rectangle 16"/>
          <p:cNvSpPr/>
          <p:nvPr/>
        </p:nvSpPr>
        <p:spPr>
          <a:xfrm>
            <a:off x="193680" y="266760"/>
            <a:ext cx="200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Shock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metamorphism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32" name="Line 17"/>
          <p:cNvSpPr/>
          <p:nvPr/>
        </p:nvSpPr>
        <p:spPr>
          <a:xfrm flipH="1" flipV="1">
            <a:off x="966960" y="891720"/>
            <a:ext cx="720720" cy="150660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33" name="Oval 18"/>
          <p:cNvSpPr/>
          <p:nvPr/>
        </p:nvSpPr>
        <p:spPr>
          <a:xfrm>
            <a:off x="1654200" y="2352600"/>
            <a:ext cx="92160" cy="921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  <a:effectLst>
            <a:outerShdw dist="12600" dir="5400000" blurRad="0" rotWithShape="0">
              <a:srgbClr val="ff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34" name="AutoShape 19"/>
          <p:cNvSpPr/>
          <p:nvPr/>
        </p:nvSpPr>
        <p:spPr>
          <a:xfrm>
            <a:off x="3308400" y="3086280"/>
            <a:ext cx="176040" cy="880920"/>
          </a:xfrm>
          <a:custGeom>
            <a:avLst/>
            <a:gdLst>
              <a:gd name="textAreaLeft" fmla="*/ 112680 w 176040"/>
              <a:gd name="textAreaRight" fmla="*/ 176400 w 176040"/>
              <a:gd name="textAreaTop" fmla="*/ 22680 h 880920"/>
              <a:gd name="textAreaBottom" fmla="*/ 858240 h 880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33cc"/>
            </a:solidFill>
            <a:miter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35" name="Rectangle 20"/>
          <p:cNvSpPr/>
          <p:nvPr/>
        </p:nvSpPr>
        <p:spPr>
          <a:xfrm>
            <a:off x="2550960" y="262080"/>
            <a:ext cx="200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Regional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metamorphism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36" name="Line 21"/>
          <p:cNvSpPr/>
          <p:nvPr/>
        </p:nvSpPr>
        <p:spPr>
          <a:xfrm flipV="1">
            <a:off x="3238560" y="887040"/>
            <a:ext cx="85680" cy="263700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37" name="Oval 22"/>
          <p:cNvSpPr/>
          <p:nvPr/>
        </p:nvSpPr>
        <p:spPr>
          <a:xfrm>
            <a:off x="3187800" y="3470400"/>
            <a:ext cx="91800" cy="918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  <a:effectLst>
            <a:outerShdw dist="12600" dir="5400000" blurRad="0" rotWithShape="0">
              <a:srgbClr val="ff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Concepts you will need to know for the exams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CHAPTER 6</a:t>
            </a:r>
            <a:br>
              <a:rPr sz="4000"/>
            </a:b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METAMORPHIC ROCKS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ontrols on metamorphism by: P,T, fluids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Isotherm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othermal gradient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onfining pressure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Directed pressure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Regional metamorphism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ontact metamorphism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igh-P metamorphism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urial or low-grade metamorphism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Foliated texture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rystal Growth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ressure-Temperature Paths (pro-grade and retrograde metamorphism)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"/>
          <p:cNvPicPr/>
          <p:nvPr/>
        </p:nvPicPr>
        <p:blipFill>
          <a:blip r:embed="rId1"/>
          <a:stretch/>
        </p:blipFill>
        <p:spPr>
          <a:xfrm>
            <a:off x="303120" y="712800"/>
            <a:ext cx="8535960" cy="543240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3"/>
          <p:cNvSpPr/>
          <p:nvPr/>
        </p:nvSpPr>
        <p:spPr>
          <a:xfrm>
            <a:off x="178920" y="2317680"/>
            <a:ext cx="68976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Verdana"/>
                <a:ea typeface="Arial"/>
              </a:rPr>
              <a:t>Depth,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Verdana"/>
                <a:ea typeface="Arial"/>
              </a:rPr>
              <a:t>km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40" name="Rectangle 4"/>
          <p:cNvSpPr/>
          <p:nvPr/>
        </p:nvSpPr>
        <p:spPr>
          <a:xfrm>
            <a:off x="509040" y="2678040"/>
            <a:ext cx="26748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Verdana"/>
                <a:ea typeface="Arial"/>
              </a:rPr>
              <a:t>0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41" name="Rectangle 5"/>
          <p:cNvSpPr/>
          <p:nvPr/>
        </p:nvSpPr>
        <p:spPr>
          <a:xfrm>
            <a:off x="411480" y="3067200"/>
            <a:ext cx="3546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Verdana"/>
                <a:ea typeface="Arial"/>
              </a:rPr>
              <a:t>35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42" name="Rectangle 6"/>
          <p:cNvSpPr/>
          <p:nvPr/>
        </p:nvSpPr>
        <p:spPr>
          <a:xfrm>
            <a:off x="411480" y="3559320"/>
            <a:ext cx="3546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Verdana"/>
                <a:ea typeface="Arial"/>
              </a:rPr>
              <a:t>75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43" name="Rectangle 7"/>
          <p:cNvSpPr/>
          <p:nvPr/>
        </p:nvSpPr>
        <p:spPr>
          <a:xfrm rot="1385400">
            <a:off x="986400" y="4173480"/>
            <a:ext cx="133452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Verdana"/>
                <a:ea typeface="Arial"/>
              </a:rPr>
              <a:t>Asthenosphere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44" name="Rectangle 8"/>
          <p:cNvSpPr/>
          <p:nvPr/>
        </p:nvSpPr>
        <p:spPr>
          <a:xfrm rot="1191600">
            <a:off x="760320" y="3614760"/>
            <a:ext cx="2581200" cy="258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Verdana"/>
                <a:ea typeface="Arial"/>
              </a:rPr>
              <a:t>Continental mantle lithosphere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45" name="Rectangle 9"/>
          <p:cNvSpPr/>
          <p:nvPr/>
        </p:nvSpPr>
        <p:spPr>
          <a:xfrm rot="1122000">
            <a:off x="706320" y="3095640"/>
            <a:ext cx="1509480" cy="258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Verdana"/>
                <a:ea typeface="Arial"/>
              </a:rPr>
              <a:t>Continental crust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46" name="Rectangle 10"/>
          <p:cNvSpPr/>
          <p:nvPr/>
        </p:nvSpPr>
        <p:spPr>
          <a:xfrm>
            <a:off x="4047480" y="2244600"/>
            <a:ext cx="135864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Verdana"/>
                <a:ea typeface="Arial"/>
              </a:rPr>
              <a:t>Regional 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Verdana"/>
                <a:ea typeface="Arial"/>
              </a:rPr>
              <a:t>metamorphism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47" name="Rectangle 11"/>
          <p:cNvSpPr/>
          <p:nvPr/>
        </p:nvSpPr>
        <p:spPr>
          <a:xfrm>
            <a:off x="6028560" y="2320920"/>
            <a:ext cx="78732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Verdana"/>
                <a:ea typeface="Arial"/>
              </a:rPr>
              <a:t>Oceanic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Verdana"/>
                <a:ea typeface="Arial"/>
              </a:rPr>
              <a:t>crust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48" name="Rectangle 12"/>
          <p:cNvSpPr/>
          <p:nvPr/>
        </p:nvSpPr>
        <p:spPr>
          <a:xfrm>
            <a:off x="6500880" y="3478320"/>
            <a:ext cx="105696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Verdana"/>
                <a:ea typeface="Arial"/>
              </a:rPr>
              <a:t>Oceanic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Verdana"/>
                <a:ea typeface="Arial"/>
              </a:rPr>
              <a:t>lithosphere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49" name="Line 13"/>
          <p:cNvSpPr/>
          <p:nvPr/>
        </p:nvSpPr>
        <p:spPr>
          <a:xfrm flipV="1">
            <a:off x="4152960" y="2626920"/>
            <a:ext cx="243000" cy="48564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50" name="Line 14"/>
          <p:cNvSpPr/>
          <p:nvPr/>
        </p:nvSpPr>
        <p:spPr>
          <a:xfrm flipV="1">
            <a:off x="6818400" y="2890440"/>
            <a:ext cx="233280" cy="62388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51" name="Line 15"/>
          <p:cNvSpPr/>
          <p:nvPr/>
        </p:nvSpPr>
        <p:spPr>
          <a:xfrm flipH="1" flipV="1">
            <a:off x="6620040" y="2579400"/>
            <a:ext cx="249120" cy="19692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52" name="Rectangle 16"/>
          <p:cNvSpPr/>
          <p:nvPr/>
        </p:nvSpPr>
        <p:spPr>
          <a:xfrm>
            <a:off x="193680" y="266760"/>
            <a:ext cx="200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Shock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metamorphism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53" name="Line 17"/>
          <p:cNvSpPr/>
          <p:nvPr/>
        </p:nvSpPr>
        <p:spPr>
          <a:xfrm flipH="1" flipV="1">
            <a:off x="966960" y="891720"/>
            <a:ext cx="720720" cy="150660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54" name="Oval 18"/>
          <p:cNvSpPr/>
          <p:nvPr/>
        </p:nvSpPr>
        <p:spPr>
          <a:xfrm>
            <a:off x="1654200" y="2352600"/>
            <a:ext cx="92160" cy="921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  <a:effectLst>
            <a:outerShdw dist="12600" dir="5400000" blurRad="0" rotWithShape="0">
              <a:srgbClr val="ff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55" name="AutoShape 19"/>
          <p:cNvSpPr/>
          <p:nvPr/>
        </p:nvSpPr>
        <p:spPr>
          <a:xfrm>
            <a:off x="3308400" y="3086280"/>
            <a:ext cx="176040" cy="880920"/>
          </a:xfrm>
          <a:custGeom>
            <a:avLst/>
            <a:gdLst>
              <a:gd name="textAreaLeft" fmla="*/ 112680 w 176040"/>
              <a:gd name="textAreaRight" fmla="*/ 176400 w 176040"/>
              <a:gd name="textAreaTop" fmla="*/ 22680 h 880920"/>
              <a:gd name="textAreaBottom" fmla="*/ 858240 h 880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33cc"/>
            </a:solidFill>
            <a:miter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56" name="Rectangle 20"/>
          <p:cNvSpPr/>
          <p:nvPr/>
        </p:nvSpPr>
        <p:spPr>
          <a:xfrm>
            <a:off x="2550960" y="262080"/>
            <a:ext cx="200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Regional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metamorphism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57" name="Line 21"/>
          <p:cNvSpPr/>
          <p:nvPr/>
        </p:nvSpPr>
        <p:spPr>
          <a:xfrm flipV="1">
            <a:off x="3238560" y="887040"/>
            <a:ext cx="85680" cy="263700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58" name="Oval 22"/>
          <p:cNvSpPr/>
          <p:nvPr/>
        </p:nvSpPr>
        <p:spPr>
          <a:xfrm>
            <a:off x="3187800" y="3470400"/>
            <a:ext cx="91800" cy="918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  <a:effectLst>
            <a:outerShdw dist="12600" dir="5400000" blurRad="0" rotWithShape="0">
              <a:srgbClr val="ff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59" name="Rectangle 23"/>
          <p:cNvSpPr/>
          <p:nvPr/>
        </p:nvSpPr>
        <p:spPr>
          <a:xfrm>
            <a:off x="5197320" y="136440"/>
            <a:ext cx="2003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Regional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high-pressure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metamorphism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60" name="Line 24"/>
          <p:cNvSpPr/>
          <p:nvPr/>
        </p:nvSpPr>
        <p:spPr>
          <a:xfrm flipH="1" flipV="1">
            <a:off x="6091200" y="1030320"/>
            <a:ext cx="1666800" cy="162720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61" name="Oval 25"/>
          <p:cNvSpPr/>
          <p:nvPr/>
        </p:nvSpPr>
        <p:spPr>
          <a:xfrm>
            <a:off x="7713720" y="2612880"/>
            <a:ext cx="92160" cy="921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  <a:effectLst>
            <a:outerShdw dist="12600" dir="5400000" blurRad="0" rotWithShape="0">
              <a:srgbClr val="ff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2" descr=""/>
          <p:cNvPicPr/>
          <p:nvPr/>
        </p:nvPicPr>
        <p:blipFill>
          <a:blip r:embed="rId1"/>
          <a:stretch/>
        </p:blipFill>
        <p:spPr>
          <a:xfrm>
            <a:off x="303120" y="712800"/>
            <a:ext cx="8535960" cy="543240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3"/>
          <p:cNvSpPr/>
          <p:nvPr/>
        </p:nvSpPr>
        <p:spPr>
          <a:xfrm>
            <a:off x="178920" y="2317680"/>
            <a:ext cx="68976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Verdana"/>
                <a:ea typeface="Arial"/>
              </a:rPr>
              <a:t>Depth,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Verdana"/>
                <a:ea typeface="Arial"/>
              </a:rPr>
              <a:t>km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64" name="Rectangle 4"/>
          <p:cNvSpPr/>
          <p:nvPr/>
        </p:nvSpPr>
        <p:spPr>
          <a:xfrm>
            <a:off x="509040" y="2678040"/>
            <a:ext cx="26748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Verdana"/>
                <a:ea typeface="Arial"/>
              </a:rPr>
              <a:t>0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65" name="Rectangle 5"/>
          <p:cNvSpPr/>
          <p:nvPr/>
        </p:nvSpPr>
        <p:spPr>
          <a:xfrm>
            <a:off x="411480" y="3067200"/>
            <a:ext cx="3546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Verdana"/>
                <a:ea typeface="Arial"/>
              </a:rPr>
              <a:t>35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66" name="Rectangle 6"/>
          <p:cNvSpPr/>
          <p:nvPr/>
        </p:nvSpPr>
        <p:spPr>
          <a:xfrm>
            <a:off x="411480" y="3559320"/>
            <a:ext cx="3546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Verdana"/>
                <a:ea typeface="Arial"/>
              </a:rPr>
              <a:t>75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67" name="Rectangle 7"/>
          <p:cNvSpPr/>
          <p:nvPr/>
        </p:nvSpPr>
        <p:spPr>
          <a:xfrm rot="1385400">
            <a:off x="986400" y="4173480"/>
            <a:ext cx="133452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Verdana"/>
                <a:ea typeface="Arial"/>
              </a:rPr>
              <a:t>Asthenosphere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68" name="Rectangle 8"/>
          <p:cNvSpPr/>
          <p:nvPr/>
        </p:nvSpPr>
        <p:spPr>
          <a:xfrm rot="1191600">
            <a:off x="760320" y="3614760"/>
            <a:ext cx="2581200" cy="258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Verdana"/>
                <a:ea typeface="Arial"/>
              </a:rPr>
              <a:t>Continental mantle lithosphere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69" name="Rectangle 9"/>
          <p:cNvSpPr/>
          <p:nvPr/>
        </p:nvSpPr>
        <p:spPr>
          <a:xfrm rot="1122000">
            <a:off x="706320" y="3095640"/>
            <a:ext cx="1509480" cy="258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Verdana"/>
                <a:ea typeface="Arial"/>
              </a:rPr>
              <a:t>Continental crust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70" name="Rectangle 10"/>
          <p:cNvSpPr/>
          <p:nvPr/>
        </p:nvSpPr>
        <p:spPr>
          <a:xfrm>
            <a:off x="4047480" y="2244600"/>
            <a:ext cx="135864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Verdana"/>
                <a:ea typeface="Arial"/>
              </a:rPr>
              <a:t>Regional 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Verdana"/>
                <a:ea typeface="Arial"/>
              </a:rPr>
              <a:t>metamorphism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71" name="Rectangle 11"/>
          <p:cNvSpPr/>
          <p:nvPr/>
        </p:nvSpPr>
        <p:spPr>
          <a:xfrm>
            <a:off x="6028560" y="2320920"/>
            <a:ext cx="78732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Verdana"/>
                <a:ea typeface="Arial"/>
              </a:rPr>
              <a:t>Oceanic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Verdana"/>
                <a:ea typeface="Arial"/>
              </a:rPr>
              <a:t>crust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72" name="Rectangle 12"/>
          <p:cNvSpPr/>
          <p:nvPr/>
        </p:nvSpPr>
        <p:spPr>
          <a:xfrm>
            <a:off x="6500880" y="3478320"/>
            <a:ext cx="105696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Verdana"/>
                <a:ea typeface="Arial"/>
              </a:rPr>
              <a:t>Oceanic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Verdana"/>
                <a:ea typeface="Arial"/>
              </a:rPr>
              <a:t>lithosphere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73" name="Line 13"/>
          <p:cNvSpPr/>
          <p:nvPr/>
        </p:nvSpPr>
        <p:spPr>
          <a:xfrm flipV="1">
            <a:off x="4152960" y="2626920"/>
            <a:ext cx="243000" cy="48564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74" name="Line 14"/>
          <p:cNvSpPr/>
          <p:nvPr/>
        </p:nvSpPr>
        <p:spPr>
          <a:xfrm flipV="1">
            <a:off x="6818400" y="2890440"/>
            <a:ext cx="233280" cy="62388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75" name="Line 15"/>
          <p:cNvSpPr/>
          <p:nvPr/>
        </p:nvSpPr>
        <p:spPr>
          <a:xfrm flipH="1" flipV="1">
            <a:off x="6620040" y="2579400"/>
            <a:ext cx="249120" cy="19692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76" name="Rectangle 16"/>
          <p:cNvSpPr/>
          <p:nvPr/>
        </p:nvSpPr>
        <p:spPr>
          <a:xfrm>
            <a:off x="193680" y="266760"/>
            <a:ext cx="200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Shock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metamorphism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77" name="Line 17"/>
          <p:cNvSpPr/>
          <p:nvPr/>
        </p:nvSpPr>
        <p:spPr>
          <a:xfrm flipH="1" flipV="1">
            <a:off x="966960" y="891720"/>
            <a:ext cx="720720" cy="150660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78" name="Oval 18"/>
          <p:cNvSpPr/>
          <p:nvPr/>
        </p:nvSpPr>
        <p:spPr>
          <a:xfrm>
            <a:off x="1654200" y="2352600"/>
            <a:ext cx="92160" cy="921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  <a:effectLst>
            <a:outerShdw dist="12600" dir="5400000" blurRad="0" rotWithShape="0">
              <a:srgbClr val="ff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79" name="AutoShape 19"/>
          <p:cNvSpPr/>
          <p:nvPr/>
        </p:nvSpPr>
        <p:spPr>
          <a:xfrm>
            <a:off x="3308400" y="3086280"/>
            <a:ext cx="176040" cy="880920"/>
          </a:xfrm>
          <a:custGeom>
            <a:avLst/>
            <a:gdLst>
              <a:gd name="textAreaLeft" fmla="*/ 112680 w 176040"/>
              <a:gd name="textAreaRight" fmla="*/ 176400 w 176040"/>
              <a:gd name="textAreaTop" fmla="*/ 22680 h 880920"/>
              <a:gd name="textAreaBottom" fmla="*/ 858240 h 880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33cc"/>
            </a:solidFill>
            <a:miter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80" name="Rectangle 20"/>
          <p:cNvSpPr/>
          <p:nvPr/>
        </p:nvSpPr>
        <p:spPr>
          <a:xfrm>
            <a:off x="2550960" y="262080"/>
            <a:ext cx="200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Regional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metamorphism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81" name="Line 21"/>
          <p:cNvSpPr/>
          <p:nvPr/>
        </p:nvSpPr>
        <p:spPr>
          <a:xfrm flipV="1">
            <a:off x="3238560" y="887040"/>
            <a:ext cx="85680" cy="263700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82" name="Oval 22"/>
          <p:cNvSpPr/>
          <p:nvPr/>
        </p:nvSpPr>
        <p:spPr>
          <a:xfrm>
            <a:off x="3187800" y="3470400"/>
            <a:ext cx="91800" cy="918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  <a:effectLst>
            <a:outerShdw dist="12600" dir="5400000" blurRad="0" rotWithShape="0">
              <a:srgbClr val="ff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83" name="Rectangle 23"/>
          <p:cNvSpPr/>
          <p:nvPr/>
        </p:nvSpPr>
        <p:spPr>
          <a:xfrm>
            <a:off x="5197320" y="136440"/>
            <a:ext cx="2003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Regional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high-pressure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metamorphism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84" name="Line 24"/>
          <p:cNvSpPr/>
          <p:nvPr/>
        </p:nvSpPr>
        <p:spPr>
          <a:xfrm flipH="1" flipV="1">
            <a:off x="6091200" y="1030320"/>
            <a:ext cx="1666800" cy="162720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85" name="Oval 25"/>
          <p:cNvSpPr/>
          <p:nvPr/>
        </p:nvSpPr>
        <p:spPr>
          <a:xfrm>
            <a:off x="7713720" y="2612880"/>
            <a:ext cx="92160" cy="921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  <a:effectLst>
            <a:outerShdw dist="12600" dir="5400000" blurRad="0" rotWithShape="0">
              <a:srgbClr val="ff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86" name="Rectangle 26"/>
          <p:cNvSpPr/>
          <p:nvPr/>
        </p:nvSpPr>
        <p:spPr>
          <a:xfrm>
            <a:off x="6683400" y="1054080"/>
            <a:ext cx="200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Contact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metamorphism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87" name="Line 27"/>
          <p:cNvSpPr/>
          <p:nvPr/>
        </p:nvSpPr>
        <p:spPr>
          <a:xfrm flipH="1" flipV="1">
            <a:off x="7661160" y="1646280"/>
            <a:ext cx="333360" cy="82080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88" name="Oval 28"/>
          <p:cNvSpPr/>
          <p:nvPr/>
        </p:nvSpPr>
        <p:spPr>
          <a:xfrm>
            <a:off x="7940520" y="2432160"/>
            <a:ext cx="92160" cy="918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  <a:effectLst>
            <a:outerShdw dist="12600" dir="5400000" blurRad="0" rotWithShape="0">
              <a:srgbClr val="ff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"/>
          <p:cNvPicPr/>
          <p:nvPr/>
        </p:nvPicPr>
        <p:blipFill>
          <a:blip r:embed="rId1"/>
          <a:stretch/>
        </p:blipFill>
        <p:spPr>
          <a:xfrm>
            <a:off x="303120" y="712800"/>
            <a:ext cx="8535960" cy="5432400"/>
          </a:xfrm>
          <a:prstGeom prst="rect">
            <a:avLst/>
          </a:prstGeom>
          <a:ln w="0">
            <a:noFill/>
          </a:ln>
        </p:spPr>
      </p:pic>
      <p:sp>
        <p:nvSpPr>
          <p:cNvPr id="190" name="Rectangle 3"/>
          <p:cNvSpPr/>
          <p:nvPr/>
        </p:nvSpPr>
        <p:spPr>
          <a:xfrm>
            <a:off x="178920" y="2317680"/>
            <a:ext cx="68976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Verdana"/>
                <a:ea typeface="Arial"/>
              </a:rPr>
              <a:t>Depth,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Verdana"/>
                <a:ea typeface="Arial"/>
              </a:rPr>
              <a:t>km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91" name="Rectangle 4"/>
          <p:cNvSpPr/>
          <p:nvPr/>
        </p:nvSpPr>
        <p:spPr>
          <a:xfrm>
            <a:off x="509040" y="2678040"/>
            <a:ext cx="26748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Verdana"/>
                <a:ea typeface="Arial"/>
              </a:rPr>
              <a:t>0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92" name="Rectangle 5"/>
          <p:cNvSpPr/>
          <p:nvPr/>
        </p:nvSpPr>
        <p:spPr>
          <a:xfrm>
            <a:off x="411480" y="3067200"/>
            <a:ext cx="3546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Verdana"/>
                <a:ea typeface="Arial"/>
              </a:rPr>
              <a:t>35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93" name="Rectangle 6"/>
          <p:cNvSpPr/>
          <p:nvPr/>
        </p:nvSpPr>
        <p:spPr>
          <a:xfrm>
            <a:off x="411480" y="3559320"/>
            <a:ext cx="3546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Verdana"/>
                <a:ea typeface="Arial"/>
              </a:rPr>
              <a:t>75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94" name="Rectangle 7"/>
          <p:cNvSpPr/>
          <p:nvPr/>
        </p:nvSpPr>
        <p:spPr>
          <a:xfrm rot="1385400">
            <a:off x="986400" y="4173480"/>
            <a:ext cx="133452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Verdana"/>
                <a:ea typeface="Arial"/>
              </a:rPr>
              <a:t>Asthenosphere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95" name="Rectangle 8"/>
          <p:cNvSpPr/>
          <p:nvPr/>
        </p:nvSpPr>
        <p:spPr>
          <a:xfrm rot="1122000">
            <a:off x="706320" y="3095640"/>
            <a:ext cx="1509480" cy="258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Verdana"/>
                <a:ea typeface="Arial"/>
              </a:rPr>
              <a:t>Continental crust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96" name="Rectangle 9"/>
          <p:cNvSpPr/>
          <p:nvPr/>
        </p:nvSpPr>
        <p:spPr>
          <a:xfrm>
            <a:off x="4047480" y="2244600"/>
            <a:ext cx="135864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Verdana"/>
                <a:ea typeface="Arial"/>
              </a:rPr>
              <a:t>Regional 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Verdana"/>
                <a:ea typeface="Arial"/>
              </a:rPr>
              <a:t>metamorphism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97" name="Rectangle 10"/>
          <p:cNvSpPr/>
          <p:nvPr/>
        </p:nvSpPr>
        <p:spPr>
          <a:xfrm>
            <a:off x="6028560" y="2320920"/>
            <a:ext cx="78732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Verdana"/>
                <a:ea typeface="Arial"/>
              </a:rPr>
              <a:t>Oceanic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Verdana"/>
                <a:ea typeface="Arial"/>
              </a:rPr>
              <a:t>crust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98" name="Rectangle 11"/>
          <p:cNvSpPr/>
          <p:nvPr/>
        </p:nvSpPr>
        <p:spPr>
          <a:xfrm>
            <a:off x="6500880" y="3478320"/>
            <a:ext cx="105696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Verdana"/>
                <a:ea typeface="Arial"/>
              </a:rPr>
              <a:t>Oceanic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Verdana"/>
                <a:ea typeface="Arial"/>
              </a:rPr>
              <a:t>lithosphere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99" name="Line 12"/>
          <p:cNvSpPr/>
          <p:nvPr/>
        </p:nvSpPr>
        <p:spPr>
          <a:xfrm flipV="1">
            <a:off x="4152960" y="2626920"/>
            <a:ext cx="243000" cy="48564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00" name="Line 13"/>
          <p:cNvSpPr/>
          <p:nvPr/>
        </p:nvSpPr>
        <p:spPr>
          <a:xfrm flipV="1">
            <a:off x="6818400" y="2890440"/>
            <a:ext cx="233280" cy="62388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01" name="Line 14"/>
          <p:cNvSpPr/>
          <p:nvPr/>
        </p:nvSpPr>
        <p:spPr>
          <a:xfrm flipH="1" flipV="1">
            <a:off x="6620040" y="2579400"/>
            <a:ext cx="249120" cy="19692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02" name="Rectangle 15"/>
          <p:cNvSpPr/>
          <p:nvPr/>
        </p:nvSpPr>
        <p:spPr>
          <a:xfrm>
            <a:off x="193680" y="266760"/>
            <a:ext cx="200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Shock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metamorphism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03" name="Line 16"/>
          <p:cNvSpPr/>
          <p:nvPr/>
        </p:nvSpPr>
        <p:spPr>
          <a:xfrm flipH="1" flipV="1">
            <a:off x="966960" y="891720"/>
            <a:ext cx="720720" cy="150660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04" name="Oval 17"/>
          <p:cNvSpPr/>
          <p:nvPr/>
        </p:nvSpPr>
        <p:spPr>
          <a:xfrm>
            <a:off x="1654200" y="2352600"/>
            <a:ext cx="92160" cy="921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  <a:effectLst>
            <a:outerShdw dist="12600" dir="5400000" blurRad="0" rotWithShape="0">
              <a:srgbClr val="ff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05" name="AutoShape 18"/>
          <p:cNvSpPr/>
          <p:nvPr/>
        </p:nvSpPr>
        <p:spPr>
          <a:xfrm>
            <a:off x="3308400" y="3086280"/>
            <a:ext cx="176040" cy="880920"/>
          </a:xfrm>
          <a:custGeom>
            <a:avLst/>
            <a:gdLst>
              <a:gd name="textAreaLeft" fmla="*/ 112680 w 176040"/>
              <a:gd name="textAreaRight" fmla="*/ 176400 w 176040"/>
              <a:gd name="textAreaTop" fmla="*/ 22680 h 880920"/>
              <a:gd name="textAreaBottom" fmla="*/ 858240 h 880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33cc"/>
            </a:solidFill>
            <a:miter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06" name="Rectangle 19"/>
          <p:cNvSpPr/>
          <p:nvPr/>
        </p:nvSpPr>
        <p:spPr>
          <a:xfrm>
            <a:off x="2550960" y="262080"/>
            <a:ext cx="200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Regional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metamorphism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07" name="Line 20"/>
          <p:cNvSpPr/>
          <p:nvPr/>
        </p:nvSpPr>
        <p:spPr>
          <a:xfrm flipV="1">
            <a:off x="3238560" y="887040"/>
            <a:ext cx="85680" cy="263700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08" name="Oval 21"/>
          <p:cNvSpPr/>
          <p:nvPr/>
        </p:nvSpPr>
        <p:spPr>
          <a:xfrm>
            <a:off x="3187800" y="3470400"/>
            <a:ext cx="91800" cy="918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  <a:effectLst>
            <a:outerShdw dist="12600" dir="5400000" blurRad="0" rotWithShape="0">
              <a:srgbClr val="ff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09" name="Rectangle 22"/>
          <p:cNvSpPr/>
          <p:nvPr/>
        </p:nvSpPr>
        <p:spPr>
          <a:xfrm>
            <a:off x="5197320" y="136440"/>
            <a:ext cx="2003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Regional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high-pressure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metamorphism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10" name="Line 23"/>
          <p:cNvSpPr/>
          <p:nvPr/>
        </p:nvSpPr>
        <p:spPr>
          <a:xfrm flipH="1" flipV="1">
            <a:off x="6091200" y="1030320"/>
            <a:ext cx="1666800" cy="162720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11" name="Oval 24"/>
          <p:cNvSpPr/>
          <p:nvPr/>
        </p:nvSpPr>
        <p:spPr>
          <a:xfrm>
            <a:off x="7713720" y="2612880"/>
            <a:ext cx="92160" cy="921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  <a:effectLst>
            <a:outerShdw dist="12600" dir="5400000" blurRad="0" rotWithShape="0">
              <a:srgbClr val="ff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12" name="Rectangle 25"/>
          <p:cNvSpPr/>
          <p:nvPr/>
        </p:nvSpPr>
        <p:spPr>
          <a:xfrm>
            <a:off x="6683400" y="1054080"/>
            <a:ext cx="200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Contact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metamorphism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13" name="Line 26"/>
          <p:cNvSpPr/>
          <p:nvPr/>
        </p:nvSpPr>
        <p:spPr>
          <a:xfrm flipH="1" flipV="1">
            <a:off x="7661160" y="1646280"/>
            <a:ext cx="333360" cy="82080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14" name="Oval 27"/>
          <p:cNvSpPr/>
          <p:nvPr/>
        </p:nvSpPr>
        <p:spPr>
          <a:xfrm>
            <a:off x="7940520" y="2432160"/>
            <a:ext cx="92160" cy="918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  <a:effectLst>
            <a:outerShdw dist="12600" dir="5400000" blurRad="0" rotWithShape="0">
              <a:srgbClr val="ff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15" name="Rectangle 28"/>
          <p:cNvSpPr/>
          <p:nvPr/>
        </p:nvSpPr>
        <p:spPr>
          <a:xfrm>
            <a:off x="1932120" y="5788080"/>
            <a:ext cx="200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Burial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metamorphism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16" name="Line 29"/>
          <p:cNvSpPr/>
          <p:nvPr/>
        </p:nvSpPr>
        <p:spPr>
          <a:xfrm flipH="1" flipV="1">
            <a:off x="2195640" y="3578400"/>
            <a:ext cx="333360" cy="220176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17" name="Oval 30"/>
          <p:cNvSpPr/>
          <p:nvPr/>
        </p:nvSpPr>
        <p:spPr>
          <a:xfrm>
            <a:off x="2151000" y="3540240"/>
            <a:ext cx="92160" cy="918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  <a:effectLst>
            <a:outerShdw dist="12600" dir="10800000" blurRad="0" rotWithShape="0">
              <a:srgbClr val="ff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18" name="Rectangle 31"/>
          <p:cNvSpPr/>
          <p:nvPr/>
        </p:nvSpPr>
        <p:spPr>
          <a:xfrm rot="1191600">
            <a:off x="760320" y="3614760"/>
            <a:ext cx="2581200" cy="258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Verdana"/>
                <a:ea typeface="Arial"/>
              </a:rPr>
              <a:t>Continental mantle lithosphere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2" descr=""/>
          <p:cNvPicPr/>
          <p:nvPr/>
        </p:nvPicPr>
        <p:blipFill>
          <a:blip r:embed="rId1"/>
          <a:stretch/>
        </p:blipFill>
        <p:spPr>
          <a:xfrm>
            <a:off x="303120" y="712800"/>
            <a:ext cx="8535960" cy="5432400"/>
          </a:xfrm>
          <a:prstGeom prst="rect">
            <a:avLst/>
          </a:prstGeom>
          <a:ln w="0">
            <a:noFill/>
          </a:ln>
        </p:spPr>
      </p:pic>
      <p:sp>
        <p:nvSpPr>
          <p:cNvPr id="220" name="Rectangle 3"/>
          <p:cNvSpPr/>
          <p:nvPr/>
        </p:nvSpPr>
        <p:spPr>
          <a:xfrm>
            <a:off x="178920" y="2317680"/>
            <a:ext cx="68976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Verdana"/>
                <a:ea typeface="Arial"/>
              </a:rPr>
              <a:t>Depth,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Verdana"/>
                <a:ea typeface="Arial"/>
              </a:rPr>
              <a:t>km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21" name="Rectangle 4"/>
          <p:cNvSpPr/>
          <p:nvPr/>
        </p:nvSpPr>
        <p:spPr>
          <a:xfrm>
            <a:off x="509040" y="2678040"/>
            <a:ext cx="26748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Verdana"/>
                <a:ea typeface="Arial"/>
              </a:rPr>
              <a:t>0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22" name="Rectangle 5"/>
          <p:cNvSpPr/>
          <p:nvPr/>
        </p:nvSpPr>
        <p:spPr>
          <a:xfrm>
            <a:off x="411480" y="3067200"/>
            <a:ext cx="3546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Verdana"/>
                <a:ea typeface="Arial"/>
              </a:rPr>
              <a:t>35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23" name="Rectangle 6"/>
          <p:cNvSpPr/>
          <p:nvPr/>
        </p:nvSpPr>
        <p:spPr>
          <a:xfrm>
            <a:off x="411480" y="3559320"/>
            <a:ext cx="3546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Verdana"/>
                <a:ea typeface="Arial"/>
              </a:rPr>
              <a:t>75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24" name="Rectangle 7"/>
          <p:cNvSpPr/>
          <p:nvPr/>
        </p:nvSpPr>
        <p:spPr>
          <a:xfrm rot="1385400">
            <a:off x="986400" y="4173480"/>
            <a:ext cx="133452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Verdana"/>
                <a:ea typeface="Arial"/>
              </a:rPr>
              <a:t>Asthenosphere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25" name="Rectangle 8"/>
          <p:cNvSpPr/>
          <p:nvPr/>
        </p:nvSpPr>
        <p:spPr>
          <a:xfrm rot="1122000">
            <a:off x="706320" y="3095640"/>
            <a:ext cx="1509480" cy="258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Verdana"/>
                <a:ea typeface="Arial"/>
              </a:rPr>
              <a:t>Continental crust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26" name="Rectangle 9"/>
          <p:cNvSpPr/>
          <p:nvPr/>
        </p:nvSpPr>
        <p:spPr>
          <a:xfrm>
            <a:off x="4047480" y="2244600"/>
            <a:ext cx="135864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Verdana"/>
                <a:ea typeface="Arial"/>
              </a:rPr>
              <a:t>Regional 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Verdana"/>
                <a:ea typeface="Arial"/>
              </a:rPr>
              <a:t>metamorphism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27" name="Rectangle 10"/>
          <p:cNvSpPr/>
          <p:nvPr/>
        </p:nvSpPr>
        <p:spPr>
          <a:xfrm>
            <a:off x="6028560" y="2320920"/>
            <a:ext cx="78732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Verdana"/>
                <a:ea typeface="Arial"/>
              </a:rPr>
              <a:t>Oceanic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Verdana"/>
                <a:ea typeface="Arial"/>
              </a:rPr>
              <a:t>crust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28" name="Rectangle 11"/>
          <p:cNvSpPr/>
          <p:nvPr/>
        </p:nvSpPr>
        <p:spPr>
          <a:xfrm>
            <a:off x="6500880" y="3478320"/>
            <a:ext cx="105696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Verdana"/>
                <a:ea typeface="Arial"/>
              </a:rPr>
              <a:t>Oceanic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Verdana"/>
                <a:ea typeface="Arial"/>
              </a:rPr>
              <a:t>lithosphere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29" name="Line 12"/>
          <p:cNvSpPr/>
          <p:nvPr/>
        </p:nvSpPr>
        <p:spPr>
          <a:xfrm flipV="1">
            <a:off x="4152960" y="2626920"/>
            <a:ext cx="243000" cy="48564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30" name="Line 13"/>
          <p:cNvSpPr/>
          <p:nvPr/>
        </p:nvSpPr>
        <p:spPr>
          <a:xfrm flipV="1">
            <a:off x="6818400" y="2890440"/>
            <a:ext cx="233280" cy="62388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31" name="Line 14"/>
          <p:cNvSpPr/>
          <p:nvPr/>
        </p:nvSpPr>
        <p:spPr>
          <a:xfrm flipH="1" flipV="1">
            <a:off x="6620040" y="2579400"/>
            <a:ext cx="249120" cy="19692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32" name="Rectangle 15"/>
          <p:cNvSpPr/>
          <p:nvPr/>
        </p:nvSpPr>
        <p:spPr>
          <a:xfrm>
            <a:off x="193680" y="266760"/>
            <a:ext cx="200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Shock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metamorphism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33" name="Line 16"/>
          <p:cNvSpPr/>
          <p:nvPr/>
        </p:nvSpPr>
        <p:spPr>
          <a:xfrm flipH="1" flipV="1">
            <a:off x="966960" y="891720"/>
            <a:ext cx="720720" cy="150660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34" name="Oval 17"/>
          <p:cNvSpPr/>
          <p:nvPr/>
        </p:nvSpPr>
        <p:spPr>
          <a:xfrm>
            <a:off x="1654200" y="2352600"/>
            <a:ext cx="92160" cy="921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  <a:effectLst>
            <a:outerShdw dist="12600" dir="5400000" blurRad="0" rotWithShape="0">
              <a:srgbClr val="ff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35" name="AutoShape 18"/>
          <p:cNvSpPr/>
          <p:nvPr/>
        </p:nvSpPr>
        <p:spPr>
          <a:xfrm>
            <a:off x="3308400" y="3086280"/>
            <a:ext cx="176040" cy="880920"/>
          </a:xfrm>
          <a:custGeom>
            <a:avLst/>
            <a:gdLst>
              <a:gd name="textAreaLeft" fmla="*/ 112680 w 176040"/>
              <a:gd name="textAreaRight" fmla="*/ 176400 w 176040"/>
              <a:gd name="textAreaTop" fmla="*/ 22680 h 880920"/>
              <a:gd name="textAreaBottom" fmla="*/ 858240 h 880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33cc"/>
            </a:solidFill>
            <a:miter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36" name="Rectangle 19"/>
          <p:cNvSpPr/>
          <p:nvPr/>
        </p:nvSpPr>
        <p:spPr>
          <a:xfrm>
            <a:off x="2550960" y="262080"/>
            <a:ext cx="200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Regional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metamorphism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37" name="Line 20"/>
          <p:cNvSpPr/>
          <p:nvPr/>
        </p:nvSpPr>
        <p:spPr>
          <a:xfrm flipV="1">
            <a:off x="3238560" y="887040"/>
            <a:ext cx="85680" cy="263700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38" name="Oval 21"/>
          <p:cNvSpPr/>
          <p:nvPr/>
        </p:nvSpPr>
        <p:spPr>
          <a:xfrm>
            <a:off x="3187800" y="3470400"/>
            <a:ext cx="91800" cy="918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  <a:effectLst>
            <a:outerShdw dist="12600" dir="5400000" blurRad="0" rotWithShape="0">
              <a:srgbClr val="ff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39" name="Rectangle 22"/>
          <p:cNvSpPr/>
          <p:nvPr/>
        </p:nvSpPr>
        <p:spPr>
          <a:xfrm>
            <a:off x="5197320" y="136440"/>
            <a:ext cx="2003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Regional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high-pressure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metamorphism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40" name="Line 23"/>
          <p:cNvSpPr/>
          <p:nvPr/>
        </p:nvSpPr>
        <p:spPr>
          <a:xfrm flipH="1" flipV="1">
            <a:off x="6091200" y="1030320"/>
            <a:ext cx="1666800" cy="162720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41" name="Oval 24"/>
          <p:cNvSpPr/>
          <p:nvPr/>
        </p:nvSpPr>
        <p:spPr>
          <a:xfrm>
            <a:off x="7713720" y="2612880"/>
            <a:ext cx="92160" cy="921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  <a:effectLst>
            <a:outerShdw dist="12600" dir="5400000" blurRad="0" rotWithShape="0">
              <a:srgbClr val="ff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42" name="Rectangle 25"/>
          <p:cNvSpPr/>
          <p:nvPr/>
        </p:nvSpPr>
        <p:spPr>
          <a:xfrm>
            <a:off x="6683400" y="1054080"/>
            <a:ext cx="200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Contact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metamorphism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43" name="Line 26"/>
          <p:cNvSpPr/>
          <p:nvPr/>
        </p:nvSpPr>
        <p:spPr>
          <a:xfrm flipH="1" flipV="1">
            <a:off x="7661160" y="1646280"/>
            <a:ext cx="333360" cy="82080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44" name="Oval 27"/>
          <p:cNvSpPr/>
          <p:nvPr/>
        </p:nvSpPr>
        <p:spPr>
          <a:xfrm>
            <a:off x="7940520" y="2432160"/>
            <a:ext cx="92160" cy="918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  <a:effectLst>
            <a:outerShdw dist="12600" dir="5400000" blurRad="0" rotWithShape="0">
              <a:srgbClr val="ff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45" name="Oval 30"/>
          <p:cNvSpPr/>
          <p:nvPr/>
        </p:nvSpPr>
        <p:spPr>
          <a:xfrm>
            <a:off x="2151000" y="3540240"/>
            <a:ext cx="92160" cy="918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  <a:effectLst>
            <a:outerShdw dist="12600" dir="10800000" blurRad="0" rotWithShape="0">
              <a:srgbClr val="ff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46" name="Rectangle 31"/>
          <p:cNvSpPr/>
          <p:nvPr/>
        </p:nvSpPr>
        <p:spPr>
          <a:xfrm rot="1191600">
            <a:off x="760320" y="3614760"/>
            <a:ext cx="2581200" cy="258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Verdana"/>
                <a:ea typeface="Arial"/>
              </a:rPr>
              <a:t>Continental mantle lithosphere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47" name="Rectangle 32"/>
          <p:cNvSpPr/>
          <p:nvPr/>
        </p:nvSpPr>
        <p:spPr>
          <a:xfrm>
            <a:off x="5783400" y="4910040"/>
            <a:ext cx="64404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Verdana"/>
                <a:ea typeface="Arial"/>
              </a:rPr>
              <a:t>Water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48" name="Line 33"/>
          <p:cNvSpPr/>
          <p:nvPr/>
        </p:nvSpPr>
        <p:spPr>
          <a:xfrm flipH="1" flipV="1">
            <a:off x="5601960" y="5167080"/>
            <a:ext cx="1103400" cy="19044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49" name="Oval 34"/>
          <p:cNvSpPr/>
          <p:nvPr/>
        </p:nvSpPr>
        <p:spPr>
          <a:xfrm>
            <a:off x="5575320" y="5138640"/>
            <a:ext cx="92160" cy="921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  <a:effectLst>
            <a:outerShdw dist="12600" dir="10800000" blurRad="0" rotWithShape="0">
              <a:srgbClr val="ff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50" name="Rectangle 35"/>
          <p:cNvSpPr/>
          <p:nvPr/>
        </p:nvSpPr>
        <p:spPr>
          <a:xfrm>
            <a:off x="6640560" y="5241960"/>
            <a:ext cx="200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Seafloor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metamorphism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Textures to distinguish metamorphic rocks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2" descr=""/>
          <p:cNvPicPr/>
          <p:nvPr/>
        </p:nvPicPr>
        <p:blipFill>
          <a:blip r:embed="rId1"/>
          <a:stretch/>
        </p:blipFill>
        <p:spPr>
          <a:xfrm>
            <a:off x="1677960" y="379440"/>
            <a:ext cx="5786640" cy="609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Picture 2" descr=""/>
          <p:cNvPicPr/>
          <p:nvPr/>
        </p:nvPicPr>
        <p:blipFill>
          <a:blip r:embed="rId1"/>
          <a:stretch/>
        </p:blipFill>
        <p:spPr>
          <a:xfrm>
            <a:off x="809640" y="379440"/>
            <a:ext cx="7524720" cy="609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Picture 3" descr=""/>
          <p:cNvPicPr/>
          <p:nvPr/>
        </p:nvPicPr>
        <p:blipFill>
          <a:blip r:embed="rId1"/>
          <a:stretch/>
        </p:blipFill>
        <p:spPr>
          <a:xfrm>
            <a:off x="2706840" y="379440"/>
            <a:ext cx="3730320" cy="609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2" descr=""/>
          <p:cNvPicPr/>
          <p:nvPr/>
        </p:nvPicPr>
        <p:blipFill>
          <a:blip r:embed="rId1"/>
          <a:stretch/>
        </p:blipFill>
        <p:spPr>
          <a:xfrm>
            <a:off x="1635120" y="379440"/>
            <a:ext cx="5872320" cy="609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2" descr=""/>
          <p:cNvPicPr/>
          <p:nvPr/>
        </p:nvPicPr>
        <p:blipFill>
          <a:blip r:embed="rId1"/>
          <a:stretch/>
        </p:blipFill>
        <p:spPr>
          <a:xfrm>
            <a:off x="1379520" y="379440"/>
            <a:ext cx="6383520" cy="609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3" descr=""/>
          <p:cNvPicPr/>
          <p:nvPr/>
        </p:nvPicPr>
        <p:blipFill>
          <a:blip r:embed="rId1"/>
          <a:stretch/>
        </p:blipFill>
        <p:spPr>
          <a:xfrm>
            <a:off x="1135080" y="379440"/>
            <a:ext cx="6872400" cy="609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2" descr=""/>
          <p:cNvPicPr/>
          <p:nvPr/>
        </p:nvPicPr>
        <p:blipFill>
          <a:blip r:embed="rId1"/>
          <a:stretch/>
        </p:blipFill>
        <p:spPr>
          <a:xfrm>
            <a:off x="1273320" y="379440"/>
            <a:ext cx="6597360" cy="609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"/>
          <p:cNvSpPr/>
          <p:nvPr/>
        </p:nvSpPr>
        <p:spPr>
          <a:xfrm>
            <a:off x="1295280" y="114300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Factors that control the type and and degree Metamorphism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3048120" y="2971800"/>
            <a:ext cx="190476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Heat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>
              <a:spcBef>
                <a:spcPts val="174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Pressure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>
              <a:spcBef>
                <a:spcPts val="174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luids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1295280" y="914400"/>
            <a:ext cx="6858000" cy="39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mperature increases with depth A typical continental geothermal gradient is 30 degrees C per kilometer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Comic Sans MS"/>
              </a:rPr>
              <a:t>Where is the 1300 degree isotherm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?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ld lithosphere - 150 km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w lithosphere (Divergent) - 30 km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Volcanic regions (Convergent)- 50 km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1090440" y="379440"/>
            <a:ext cx="6963120" cy="609768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3"/>
          <p:cNvSpPr/>
          <p:nvPr/>
        </p:nvSpPr>
        <p:spPr>
          <a:xfrm>
            <a:off x="6019920" y="5638680"/>
            <a:ext cx="2286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303120" y="1087560"/>
            <a:ext cx="8535960" cy="46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858960" y="379440"/>
            <a:ext cx="7426080" cy="609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909720" y="379440"/>
            <a:ext cx="7323120" cy="609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24T01:08:46Z</dcterms:created>
  <dc:creator>t w</dc:creator>
  <dc:description/>
  <dc:language>en-US</dc:language>
  <cp:lastModifiedBy>Dell</cp:lastModifiedBy>
  <dcterms:modified xsi:type="dcterms:W3CDTF">2011-10-10T04:48:39Z</dcterms:modified>
  <cp:revision>64</cp:revision>
  <dc:subject/>
  <dc:title>PowerPoint Presentation</dc:title>
</cp:coreProperties>
</file>