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2C52-C4F5-4269-B06F-A22A12259C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6C47-B55B-408F-BF5A-A89B6AE1A73E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2CA9-26D6-4FA8-BC08-B127298444CC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76CA-2A41-4DEA-BD2C-5BBF05D5A326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84EC-AC9F-46B4-9D56-4880320DEDF1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50B4-3FA2-4DF5-9340-F0B2C37F0599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4858-5173-45C7-9416-4EAC872D6281}" type="slidenum">
              <a:rPr b="0" lang="en-US" sz="12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539-5E67-49E2-A12B-6F5EF90B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C9C-0DE4-45E7-8413-C80EC0F6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D1E-F012-43D9-8863-0564FD2D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005-9E17-4CCC-A454-BB87602A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B0C-7004-4876-A80B-1F201CB2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2B8-9CA7-41BC-8BBB-837F1483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8F8-2C95-4D30-BE8F-9D2F5A97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59B-709E-4CA8-9B97-D9A8BE35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A98-6172-46D2-9406-EB6A3890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268-8CF7-4ED5-9330-7A0038B9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260-E2D0-4A98-8D54-0CE3F143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DBE-368B-4A96-8C7E-4C3584C2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7618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FF6B-928F-47EB-BC96-4DA69A7B609F}" type="slidenum">
              <a:rPr b="0" lang="en-US" sz="14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371600" y="22096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tamorphic Roc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50840" y="379440"/>
            <a:ext cx="7042320" cy="6097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971800" y="4419720"/>
            <a:ext cx="685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50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fining Pressur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fining pressure is the same in all directions (incl. 3rd dimension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657600" y="3276720"/>
            <a:ext cx="914400" cy="75960"/>
          </a:xfrm>
          <a:prstGeom prst="leftArrow">
            <a:avLst>
              <a:gd name="adj1" fmla="val 50000"/>
              <a:gd name="adj2" fmla="val 300948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2743200" y="3276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13160" y="5029200"/>
            <a:ext cx="74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fining pressure implies that there is little more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one direction that in the other direction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4724280" y="243828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 water, that i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ne ton per m2 each meter of depth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0 m ~ 1 atm or 10 tons of 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irected Pressur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hen one pressure is greater than the other three (incl. 3rd dimension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3657600" y="32767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3276720" y="3276720"/>
            <a:ext cx="304560" cy="75960"/>
          </a:xfrm>
          <a:prstGeom prst="rightArrow">
            <a:avLst>
              <a:gd name="adj1" fmla="val 50000"/>
              <a:gd name="adj2" fmla="val 100237"/>
            </a:avLst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2971800" y="2438280"/>
            <a:ext cx="2057400" cy="297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4495680" y="4191120"/>
            <a:ext cx="609840" cy="761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Line 12"/>
          <p:cNvSpPr/>
          <p:nvPr/>
        </p:nvSpPr>
        <p:spPr>
          <a:xfrm flipH="1" flipV="1">
            <a:off x="4114440" y="4495320"/>
            <a:ext cx="609480" cy="838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876920" y="2819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f directed pressure is great enough rocks can break and/or fol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523880" y="10666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luids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47920" y="2514600"/>
            <a:ext cx="6476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ccelerate chemical react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ssolve ions and move them from one mineral to anoth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A change in rock composition by fluid transport i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metasomatis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3120" y="471600"/>
            <a:ext cx="8535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806400" y="379440"/>
            <a:ext cx="7529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1295280" y="914400"/>
            <a:ext cx="5410440" cy="5105520"/>
          </a:xfrm>
          <a:prstGeom prst="triangle">
            <a:avLst>
              <a:gd name="adj" fmla="val 49472"/>
            </a:avLst>
          </a:prstGeom>
          <a:solidFill>
            <a:srgbClr val="ff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581280" y="457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781680" y="5943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mperat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57913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luid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tasomatism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105520" y="457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Impacts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7816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Contac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971800" y="3733920"/>
            <a:ext cx="1600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Buria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low-P, low-T),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low-grad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0" y="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TYPES OF METAMORPH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Line 12"/>
          <p:cNvSpPr/>
          <p:nvPr/>
        </p:nvSpPr>
        <p:spPr>
          <a:xfrm flipV="1">
            <a:off x="4114800" y="3200040"/>
            <a:ext cx="1752480" cy="1143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Text Box 13"/>
          <p:cNvSpPr/>
          <p:nvPr/>
        </p:nvSpPr>
        <p:spPr>
          <a:xfrm rot="19449600">
            <a:off x="3734280" y="28191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creasing grad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095880" y="2286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gional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49568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bduction Zone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257800" y="3733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untain bel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371960" y="609588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ock, contact, regional, and burial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2096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ypes of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cepts you will need to know for the exam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HAPTER 6</a:t>
            </a:r>
            <a:br>
              <a:rPr sz="4000"/>
            </a:b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TAMORPHIC ROCK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trols on metamorphism by: P,T, fluid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sother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othermal gradien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fining 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rected press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gional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tact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gh-P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urial or low-grade metamorphis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liated textur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ystal Growth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essure-Temperature Paths (pro-grade and retrograde metamorphism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2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Line 27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Oval 28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1932120" y="5788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uri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Line 29"/>
          <p:cNvSpPr/>
          <p:nvPr/>
        </p:nvSpPr>
        <p:spPr>
          <a:xfrm flipH="1" flipV="1">
            <a:off x="2195640" y="3578400"/>
            <a:ext cx="333360" cy="2201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108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1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6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54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108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Rectangle 32"/>
          <p:cNvSpPr/>
          <p:nvPr/>
        </p:nvSpPr>
        <p:spPr>
          <a:xfrm>
            <a:off x="5783400" y="4910040"/>
            <a:ext cx="64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  <a:ea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Line 33"/>
          <p:cNvSpPr/>
          <p:nvPr/>
        </p:nvSpPr>
        <p:spPr>
          <a:xfrm flipH="1" flipV="1">
            <a:off x="5601960" y="5167080"/>
            <a:ext cx="1103400" cy="190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5575320" y="5138640"/>
            <a:ext cx="92160" cy="92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2600" dir="108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Rectangle 35"/>
          <p:cNvSpPr/>
          <p:nvPr/>
        </p:nvSpPr>
        <p:spPr>
          <a:xfrm>
            <a:off x="6640560" y="52419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eafloor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extures to distinguish metamorphic rock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677960" y="379440"/>
            <a:ext cx="57866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809640" y="379440"/>
            <a:ext cx="75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2706840" y="379440"/>
            <a:ext cx="3730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635120" y="379440"/>
            <a:ext cx="5872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379520" y="379440"/>
            <a:ext cx="6383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135080" y="379440"/>
            <a:ext cx="6872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273320" y="379440"/>
            <a:ext cx="65973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95280" y="114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actors that control the type and and degree Metamorphis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8120" y="2971800"/>
            <a:ext cx="1904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at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essu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luid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295280" y="914400"/>
            <a:ext cx="6858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mperature increases with depth A typical continental geothermal gradient is 30 degrees C per kilome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Where is the 1300 degree isother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ld lithosphere - 150 k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w lithosphere (Divergent) - 30 k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Volcanic regions (Convergent)- 50 k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90440" y="379440"/>
            <a:ext cx="6963120" cy="6097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6019920" y="56386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03120" y="1087560"/>
            <a:ext cx="853596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58960" y="379440"/>
            <a:ext cx="74260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09720" y="379440"/>
            <a:ext cx="73231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t w</dc:creator>
  <dc:description/>
  <dc:language>en-US</dc:language>
  <cp:lastModifiedBy>Dell</cp:lastModifiedBy>
  <dcterms:modified xsi:type="dcterms:W3CDTF">2011-10-10T04:48:39Z</dcterms:modified>
  <cp:revision>64</cp:revision>
  <dc:subject/>
  <dc:title>PowerPoint Presentation</dc:title>
</cp:coreProperties>
</file>