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8F9-EFC6-4F71-9AEF-4BEF58B55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B796-B793-4923-B72E-ECB54CC23645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CC18-C8CF-43D4-8A22-7379AFB49AB9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385-22A6-4AE0-AAF0-A921A417A7C4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BB5-BC81-45AE-A4CA-EA229E741FA5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8E0F-EA2F-4BB9-B2A5-11086CA5AA6E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57F4-3DB8-4835-8C7B-4E7218D65920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C32-99BF-49D4-95C3-1014F8F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559-FD71-4FDD-9350-2DB333F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739-C86E-4E17-B7FF-BFA0BAB3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A80-D343-4FB5-9D39-3236ED4C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3C4-BA7C-4CE7-8E71-98A1FA8B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37D-E640-4463-A8C5-DB0C1DF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93B-8BE2-4216-9EA2-7C4C7DBD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653-5E5C-40E1-BC82-65F7466A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9C3-D8AD-403C-91C8-A74363F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29C-0E0A-49C4-9F77-FA3227C0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76F-60DB-4B30-AF86-7DC3042B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5DD-0912-42D8-8854-0B0ADCE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6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BE5-9232-406D-A765-9019A74EBA32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71600" y="22096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epts you will need to know for the exam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6</a:t>
            </a:r>
            <a:br>
              <a:rPr sz="40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rols on metamorphism by: P,T, 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other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othermal gradi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act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-P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rial or low-grade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liated tex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ystal Grow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extures to distinguish metamorphic rock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77960" y="379440"/>
            <a:ext cx="5786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10T04:48:39Z</dcterms:modified>
  <cp:revision>64</cp:revision>
  <dc:subject/>
  <dc:title>PowerPoint Presentation</dc:title>
</cp:coreProperties>
</file>