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8B6B-68A0-4D8A-AD7C-4D63B1CBE26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F2C2-5907-485C-AB6F-D3C60E67B5CE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5C32-BB30-41C7-8E78-B348C922B143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3645-7E28-4106-8EDD-5FEB85CC54F2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5628-88EE-480B-BB46-3A995FC0B148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6899-2C82-405F-B4BC-F5CEDDD5613B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13E1-129A-44AC-924D-9125A9BBF1E1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F08D-F5C7-4B48-9D1E-5694FF45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905C-8A25-4C45-9214-DAA3D59B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8293-167B-4596-8B2A-EC4CC63B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670-47B7-40D8-A6DE-72251A7B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4331-2831-416C-9EC9-60317A6C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F19-8066-4F5F-B13A-37A0F806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A4A-BE00-4898-8CD1-6F44AE00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717-551B-43FC-A041-4ED41D76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F33-DD0C-4032-8BAB-6BD80F9D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35B-2C7E-447F-AC41-E568D339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E116-1673-4715-A12C-BDFDDFB1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C146-A4A0-4D47-B1E2-510561EB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76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79C6-0981-461A-A305-E7EB12246899}" type="slidenum">
              <a:rPr b="0" lang="en-US" sz="14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371600" y="2209680"/>
            <a:ext cx="6400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etamorphic Rock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50840" y="379440"/>
            <a:ext cx="7042320" cy="60976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2971800" y="441972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50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52388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nfining Pressur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752480" y="1371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fining pressure is the same in all directions (incl. 3rd dimension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3581280" y="251460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3581280" y="3429000"/>
            <a:ext cx="76320" cy="83808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657600" y="3276720"/>
            <a:ext cx="914400" cy="75960"/>
          </a:xfrm>
          <a:prstGeom prst="leftArrow">
            <a:avLst>
              <a:gd name="adj1" fmla="val 50000"/>
              <a:gd name="adj2" fmla="val 300948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2743200" y="3276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613160" y="5029200"/>
            <a:ext cx="747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fining pressure implies that there is little more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 one direction that in the other directions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4724280" y="2438280"/>
            <a:ext cx="3657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 water, that i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ne ton per m2 each meter of depth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0 m ~ 1 atm or 10 tons of press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2388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irected Pressur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752480" y="1371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hen one pressure is greater than the other three (incl. 3rd dimension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3581280" y="251460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3581280" y="3429000"/>
            <a:ext cx="76320" cy="83808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3657600" y="32767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AutoShape 7"/>
          <p:cNvSpPr/>
          <p:nvPr/>
        </p:nvSpPr>
        <p:spPr>
          <a:xfrm>
            <a:off x="3276720" y="3276720"/>
            <a:ext cx="304560" cy="75960"/>
          </a:xfrm>
          <a:prstGeom prst="rightArrow">
            <a:avLst>
              <a:gd name="adj1" fmla="val 50000"/>
              <a:gd name="adj2" fmla="val 100237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2971800" y="2438280"/>
            <a:ext cx="2057400" cy="297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4495680" y="4191120"/>
            <a:ext cx="609840" cy="7617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Line 12"/>
          <p:cNvSpPr/>
          <p:nvPr/>
        </p:nvSpPr>
        <p:spPr>
          <a:xfrm flipH="1" flipV="1">
            <a:off x="4114440" y="4495320"/>
            <a:ext cx="609480" cy="838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876920" y="281952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f directed pressure is great enough rocks can break and/or fol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523880" y="10666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luids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447920" y="2514600"/>
            <a:ext cx="64767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ccelerate chemical reaction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ssolve ions and move them from one mineral to another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A change in rock composition by fluid transport i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metasomatis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03120" y="471600"/>
            <a:ext cx="85359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806400" y="379440"/>
            <a:ext cx="75294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1295280" y="914400"/>
            <a:ext cx="5410440" cy="5105520"/>
          </a:xfrm>
          <a:prstGeom prst="triangle">
            <a:avLst>
              <a:gd name="adj" fmla="val 49472"/>
            </a:avLst>
          </a:prstGeom>
          <a:solidFill>
            <a:srgbClr val="ff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581280" y="457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ess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781680" y="59436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mperat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579132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luid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etasomatism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105520" y="457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(Impacts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781680" y="5486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Contac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971800" y="3733920"/>
            <a:ext cx="1600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Buria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low-P, low-T)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low-grad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0" y="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TYPES OF METAMORPHIS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Line 12"/>
          <p:cNvSpPr/>
          <p:nvPr/>
        </p:nvSpPr>
        <p:spPr>
          <a:xfrm flipV="1">
            <a:off x="4114800" y="3200040"/>
            <a:ext cx="1752480" cy="1143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Text Box 13"/>
          <p:cNvSpPr/>
          <p:nvPr/>
        </p:nvSpPr>
        <p:spPr>
          <a:xfrm rot="19449600">
            <a:off x="3734280" y="28191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creasing grad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095880" y="22860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gional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4495680" y="1600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ubduction Zone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5257800" y="3733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untain belt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371960" y="6095880"/>
            <a:ext cx="56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hock, contact, regional, and burial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220968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ypes of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5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0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cepts you will need to know for the exams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HAPTER 6</a:t>
            </a:r>
            <a:br>
              <a:rPr sz="4000"/>
            </a:b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ETAMORPHIC ROCK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trols on metamorphism by: P,T, fluid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other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othermal gradien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fining press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rected press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gional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tact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igh-P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urial or low-grade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liated text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rystal Growth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essure-Temperature Paths (pro-grade and retrograde metamorphism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4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5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7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Rectangle 23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Line 24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8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4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2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Line 24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Oval 25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Line 27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8" name="Oval 28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4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Rectangle 8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Line 12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Line 13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" name="Line 14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3" name="Line 16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Oval 17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8" name="Oval 21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Rectangle 22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0" name="Line 23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Oval 24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Rectangle 25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3" name="Line 26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Oval 27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1932120" y="5788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Buri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Line 29"/>
          <p:cNvSpPr/>
          <p:nvPr/>
        </p:nvSpPr>
        <p:spPr>
          <a:xfrm flipH="1" flipV="1">
            <a:off x="2195640" y="3578400"/>
            <a:ext cx="333360" cy="22017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Oval 30"/>
          <p:cNvSpPr/>
          <p:nvPr/>
        </p:nvSpPr>
        <p:spPr>
          <a:xfrm>
            <a:off x="2151000" y="3540240"/>
            <a:ext cx="9216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108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8" name="Rectangle 31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4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5" name="Rectangle 8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Line 12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Line 13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1" name="Line 14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3" name="Line 16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4" name="Oval 17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5" name="AutoShape 18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6" name="Rectangle 19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7" name="Line 20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8" name="Oval 21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0" name="Line 23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Oval 24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2" name="Rectangle 25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Line 26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4" name="Oval 27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5" name="Oval 30"/>
          <p:cNvSpPr/>
          <p:nvPr/>
        </p:nvSpPr>
        <p:spPr>
          <a:xfrm>
            <a:off x="2151000" y="3540240"/>
            <a:ext cx="9216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108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Rectangle 31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7" name="Rectangle 32"/>
          <p:cNvSpPr/>
          <p:nvPr/>
        </p:nvSpPr>
        <p:spPr>
          <a:xfrm>
            <a:off x="5783400" y="4910040"/>
            <a:ext cx="64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Wate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8" name="Line 33"/>
          <p:cNvSpPr/>
          <p:nvPr/>
        </p:nvSpPr>
        <p:spPr>
          <a:xfrm flipH="1" flipV="1">
            <a:off x="5601960" y="5167080"/>
            <a:ext cx="1103400" cy="190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9" name="Oval 34"/>
          <p:cNvSpPr/>
          <p:nvPr/>
        </p:nvSpPr>
        <p:spPr>
          <a:xfrm>
            <a:off x="5575320" y="513864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108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0" name="Rectangle 35"/>
          <p:cNvSpPr/>
          <p:nvPr/>
        </p:nvSpPr>
        <p:spPr>
          <a:xfrm>
            <a:off x="6640560" y="52419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eafloor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extures to distinguish metamorphic rock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677960" y="379440"/>
            <a:ext cx="578664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809640" y="379440"/>
            <a:ext cx="7524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2706840" y="379440"/>
            <a:ext cx="37303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635120" y="379440"/>
            <a:ext cx="58723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379520" y="379440"/>
            <a:ext cx="63835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135080" y="379440"/>
            <a:ext cx="68724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273320" y="379440"/>
            <a:ext cx="65973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295280" y="1143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actors that control the type and and degree Metamorphis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48120" y="2971800"/>
            <a:ext cx="19047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eat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essur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luid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295280" y="914400"/>
            <a:ext cx="6858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mperature increases with depth A typical continental geothermal gradient is 30 degrees C per kilometer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Where is the 1300 degree isother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ld lithosphere - 150 k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w lithosphere (Divergent) - 30 k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olcanic regions (Convergent)- 50 k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090440" y="379440"/>
            <a:ext cx="6963120" cy="6097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6019920" y="56386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03120" y="1087560"/>
            <a:ext cx="853596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58960" y="379440"/>
            <a:ext cx="74260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09720" y="379440"/>
            <a:ext cx="73231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t w</dc:creator>
  <dc:description/>
  <dc:language>en-US</dc:language>
  <cp:lastModifiedBy>Dell</cp:lastModifiedBy>
  <dcterms:modified xsi:type="dcterms:W3CDTF">2011-10-10T04:48:39Z</dcterms:modified>
  <cp:revision>64</cp:revision>
  <dc:subject/>
  <dc:title>PowerPoint Presentation</dc:title>
</cp:coreProperties>
</file>