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51EE-05F4-4B26-9C3F-FD7D470FBD4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19B9-1204-4335-879E-E0A3DC5E9469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3D29-5787-49B5-B15B-B0EB4FAB81E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17ED-CF03-4D61-9F11-7348C4AA0169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1FD1-234E-4789-937D-103E91842E7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DBCB-E0E8-423F-9B5D-47DF88DAC5B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94AC-B542-4AA1-9834-F0E454D14CF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5B83-7CB6-43E7-AA9B-482B8DA3634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182B-057D-4725-9357-AD72260A01F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3035-E57C-4740-9F89-F30B0517F57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4248-4044-414D-BA76-B975422C703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46C6-5B49-4504-83E1-23D3A20159F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E67C-8522-4512-A824-A537A47C6B6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91E5-BA8D-4573-8514-62C51991C34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2042-A72B-4F91-B8D4-2945123011F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3353-E1D6-4691-9F7E-BC5AB601F8E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366B-B82D-4D86-80FC-88DAF36890F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3B6-249E-46F8-AAE6-1130A0551239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031-44ED-4ACA-BA84-C5DA4A098D5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9B8B-9035-47FF-9096-6EA6A0B1AC3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AB37-7E85-45CB-9BE8-721AC262330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7296-A99D-4CAF-99E9-B3B99924A09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A4AA-0662-471A-87E3-CA3F5FB4113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C102-2B30-406B-9B01-8FE984F8834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B4F-D3D7-45A5-926C-112F474C0DF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68DE-E1DF-44E7-9E7F-149869BDEB7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89BB-242A-4A7C-81F5-CDF827F9FA0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0142-432F-4F6E-BB6C-FBD895C29CE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2ECD-8C95-490E-9E07-4CDE3BAEB9A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8A75-7124-44E1-B53B-7DD73438BD3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9011-7E9E-4F86-938A-4F6064F24405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BD69-BA8E-46B3-9B65-630A9BAD5D6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521-283D-4182-A440-FCC75E21D7B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06E5-EF99-48C4-9B52-A0F38D066D6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C2C-52FF-4271-B73A-F6297069B72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014D-1E5F-4BAA-B9FD-B455A805814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C916-1FA9-460B-98A2-B40EAB1ED951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384-DCD9-4A86-806D-C5EBEB3A52B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D8C-00C8-44DF-A006-A965492B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F0D-F3E7-4C1C-97E7-0E96ADD9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89C-0A82-4DA4-9BF1-6E0A3418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D01-BDBC-411C-90BC-A2902A36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C01-6DD6-4B63-8304-5E32D63C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E25-0470-403D-A8D0-ED315D0C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2B3-2616-4C6B-BABB-290DF2E6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56B-0699-4E06-AB3C-71218BB4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C81-9FF3-4F67-996E-98CB06B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FB0-094E-45DF-84F2-85BB2B8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D24-5046-48B1-B4F5-B52E1A1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6E0-1ED5-4AC4-830E-0A96717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66E4-6432-4E7C-9B35-C48EB9D89C0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3640" y="3123720"/>
            <a:ext cx="6410160" cy="4921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 fontScale="23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scription and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roduction to Lab MR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sse Ch. 11, p. 194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anual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troduction p. 30-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R-1 p. 50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etamorphic Rocks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38080" y="360360"/>
            <a:ext cx="76438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360360"/>
            <a:ext cx="76438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y be inherited from protolith and/or developed du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ormation and (re)crystallis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38080" y="552600"/>
            <a:ext cx="80247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order to reduce the number of possible variabl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be considered, Labs 4 and 5 will focus on specific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lk compositions (and corresponding protolith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s the range of possible mineral assemblages and textur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38080" y="552600"/>
            <a:ext cx="8075880" cy="63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4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Metabas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afic/intermediate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5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Pel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udstones, shales, silt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6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felsic and ultramafic igneous rocks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mestones, sand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33520" y="958680"/>
            <a:ext cx="807552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afic or intermediate igneous rocks (basalts, gabbros,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esites, diorites) and their pyroclastic or volcano-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astic equivalents (mafic tuff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rich in Mg, Fe, Ca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poor in Si, Al, 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amphibole + plagioclase ubiquitous except for unusual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-T conditions; compositions vary with grad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arnet, biotite, quartz, epidote, chlorite, pyroxene (cpx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+/- opx), titanite,  ilmenite, apatite (depends on 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nges from massive to foliat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ct features may be well preser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952880" y="2622600"/>
            <a:ext cx="3996000" cy="2997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7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25600" y="2629080"/>
            <a:ext cx="386064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6000" y="55339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969080" y="554688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1" name="Picture 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584280" y="2603520"/>
            <a:ext cx="3593880" cy="28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3300"/>
                </a:solidFill>
                <a:latin typeface="Lucida Sans"/>
              </a:rPr>
              <a:t>protolith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368280" y="806400"/>
            <a:ext cx="840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83160" y="2247840"/>
            <a:ext cx="717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assification based on bulk composition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find appropriate special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modify textural root term with compositional ter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68280" y="806400"/>
            <a:ext cx="84060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some special rock names that apply specifically to metabasit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57720" y="2413080"/>
            <a:ext cx="80157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metabasite with 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distinct foliation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, containing some combination o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ton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metabasite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ypically preserving some relict features, contain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some combination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mphibo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sisting largely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hornblende + plagiocl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anu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taining metamorphic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opx + cpx + pla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others (e.g., blueschist, eclogite) will not be encountered this ter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2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68280" y="806400"/>
            <a:ext cx="8406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greenschist? greenstone? amphibolite? granuli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984400" y="1981080"/>
            <a:ext cx="1067040" cy="482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3060720" y="1942920"/>
            <a:ext cx="888840" cy="507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80880" y="3035160"/>
            <a:ext cx="421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icking appropriat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quires knowing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rsely, special rock nam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y information abou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oth 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590256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154520" y="303120"/>
            <a:ext cx="500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Lucida Sans"/>
              </a:rPr>
              <a:t>Rock-Mineral Associations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373800" y="6324480"/>
            <a:ext cx="1546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Lucida Sans"/>
              </a:rPr>
              <a:t>Nesse, Fig. 5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353640" y="2606760"/>
            <a:ext cx="2611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mineral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a function of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437520" y="3429000"/>
            <a:ext cx="2472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ss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temperat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T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omposition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X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064040" y="4483080"/>
            <a:ext cx="218448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depends on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093320" y="3251160"/>
            <a:ext cx="193932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amphibol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ctinoli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hornblend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lue-green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gree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row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572000" y="367020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866760" y="320040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798000" y="5423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825880" y="3429000"/>
            <a:ext cx="275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plagioclas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lbit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0-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ligoclas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20-3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desin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30-5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5"/>
          <p:cNvSpPr/>
          <p:nvPr/>
        </p:nvSpPr>
        <p:spPr>
          <a:xfrm>
            <a:off x="1397160" y="332748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91560" y="2857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3160" y="50799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600280" y="2693880"/>
            <a:ext cx="6365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eenschist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hlorite ± epido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albit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0-1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± actinolite + quartz + tita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amphibo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hornblende 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20-4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+ quartz ± bioti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garnet ± titanite ± ilme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anu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rthopyroxene +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linopyroxene + 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30-5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+ quartz + ilmenite  ± rutile  ±  garne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 hornblende ±  biotit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055880" y="5954760"/>
            <a:ext cx="69195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metamorphic faci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: a set of mineral assemblag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indicative of metamorphic P-T conditions (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phibole + plagioclase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E:\Documents and Settings\Rebecca  Jamieson\My Documents\MinTeach\MetRx_Labs\MR_TS_photos\MR-1\26205955.JPG"/>
          <p:cNvPicPr/>
          <p:nvPr/>
        </p:nvPicPr>
        <p:blipFill>
          <a:blip r:embed="rId1"/>
          <a:stretch/>
        </p:blipFill>
        <p:spPr>
          <a:xfrm>
            <a:off x="469800" y="2895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4902120" y="288936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969080" y="570384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+ gnt + px + amph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6920" y="5691240"/>
            <a:ext cx="39128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 + plag + qtz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3520" y="958680"/>
            <a:ext cx="80755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lan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line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ongated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coarser-grained metamorph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in a finer-grained matrix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replacement of one (or mor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 by another mineral (or mineral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seudomorphs, reaction rims, corona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889520" y="2343240"/>
            <a:ext cx="3995640" cy="2997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00040" y="2374920"/>
            <a:ext cx="386100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50440" y="52801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902120" y="5267160"/>
            <a:ext cx="41036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09480" y="903240"/>
            <a:ext cx="85345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 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Picture 13" descr="E:\Documents and Settings\Rebecca  Jamieson\My Documents\MinTeach\ERTH2002\Mineral of the Week\foliations3.jpg"/>
          <p:cNvPicPr/>
          <p:nvPr/>
        </p:nvPicPr>
        <p:blipFill>
          <a:blip r:embed="rId1"/>
          <a:stretch/>
        </p:blipFill>
        <p:spPr>
          <a:xfrm>
            <a:off x="163440" y="2328840"/>
            <a:ext cx="4146480" cy="3533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5" name="Picture 7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355680" y="236520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483120" y="5241960"/>
            <a:ext cx="362952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60240" y="4330800"/>
            <a:ext cx="3086280" cy="2793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749240" y="4518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Lucida Sans"/>
              </a:rPr>
              <a:t>S</a:t>
            </a:r>
            <a:r>
              <a:rPr b="1" lang="en-CA" sz="1800" spc="-1" strike="noStrike">
                <a:solidFill>
                  <a:srgbClr val="ffff00"/>
                </a:solidFill>
                <a:latin typeface="Lucida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280" y="865080"/>
            <a:ext cx="8991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 = line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elongated minerals,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368960" y="2209680"/>
            <a:ext cx="47750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line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tretching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stretched minerals or mineral aggrega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mineral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 alignment of long ax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elongated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intersection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intersection of two planar fabric ele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10" descr="E:\Documents and Settings\Rebecca  Jamieson\My Documents\MinTeach\MetRx_Labs\lineations2.jpg"/>
          <p:cNvPicPr/>
          <p:nvPr/>
        </p:nvPicPr>
        <p:blipFill>
          <a:blip r:embed="rId1"/>
          <a:stretch/>
        </p:blipFill>
        <p:spPr>
          <a:xfrm>
            <a:off x="473040" y="1730520"/>
            <a:ext cx="3727440" cy="4970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arser-grained minerals in a finer-grained matrix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s in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31640" y="5305320"/>
            <a:ext cx="37594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porphyroblasts in finer-grained foliated matrix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8" name="Picture 8" descr="E:\Documents and Settings\Rebecca  Jamieson\My Documents\MinTeach\MetRx_Labs\MR_TS_photos\MR-1\26210637.JPG"/>
          <p:cNvPicPr/>
          <p:nvPr/>
        </p:nvPicPr>
        <p:blipFill>
          <a:blip r:embed="rId1"/>
          <a:stretch/>
        </p:blipFill>
        <p:spPr>
          <a:xfrm>
            <a:off x="236520" y="2184480"/>
            <a:ext cx="4183200" cy="3136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78476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724280" y="2220840"/>
            <a:ext cx="415152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orphyroblast 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hap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can b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described a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eu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ub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sub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n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xen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ecause porphyroblasts g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rom a solid matrix, the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enerally contain </a:t>
            </a: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inclusion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hat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may preserve an earlie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stage of the metamorph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history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(minerals +/- textur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poikiloblastic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tex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ment of one (or more)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reactant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y one (or more) new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t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25520" y="5153040"/>
            <a:ext cx="379548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(corona) betwe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ioclase + another miner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Picture 7" descr="E:\Documents and Settings\Rebecca  Jamieson\My Documents\MinTeach\MetRx_Labs\MR_TS_photos\MR-5\26224704.JPG"/>
          <p:cNvPicPr/>
          <p:nvPr/>
        </p:nvPicPr>
        <p:blipFill>
          <a:blip r:embed="rId1"/>
          <a:stretch/>
        </p:blipFill>
        <p:spPr>
          <a:xfrm>
            <a:off x="406440" y="22683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4453560" y="2332080"/>
            <a:ext cx="44402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action textures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pseudomorph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placement b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ne or more minerals, where shap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the original grain is preser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reaction rim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ant rimm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y one or more product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orona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wher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products form concentric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zones around/between origin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reactant)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39840" y="2168640"/>
            <a:ext cx="846432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.... any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dominantly solid-st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process that produ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the physical, mineralogical, textural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or chemical character o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re-exist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gneous, sedimentary, 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metamorphic rock, in response 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press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temperat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chemic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environment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or stress field (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153520" y="560520"/>
            <a:ext cx="48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3300"/>
                </a:solidFill>
                <a:latin typeface="Lucida Sans"/>
              </a:rPr>
              <a:t>What is metamorphism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03920" y="130824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(meta = change;  morph = for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81080" y="936720"/>
            <a:ext cx="872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81080" y="936720"/>
            <a:ext cx="872172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81080" y="936720"/>
            <a:ext cx="87217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81080" y="936720"/>
            <a:ext cx="8721720" cy="58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textur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textur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f not.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foliated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no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ranofel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es the rock have a foliation defined by alignment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heet silicates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schis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medium- to coarse-grained, with pronounced cm-scale compositional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anding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neis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  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= metabasit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4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gnt-px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2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29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30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1031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1033"/>
          <p:cNvSpPr/>
          <p:nvPr/>
        </p:nvSpPr>
        <p:spPr>
          <a:xfrm>
            <a:off x="2959200" y="5041800"/>
            <a:ext cx="1828800" cy="1613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1034"/>
          <p:cNvSpPr/>
          <p:nvPr/>
        </p:nvSpPr>
        <p:spPr>
          <a:xfrm>
            <a:off x="5753160" y="6146640"/>
            <a:ext cx="3060720" cy="520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1035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 Box 1036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nt-px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426240" y="1181160"/>
            <a:ext cx="8553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1. Fill in mineral compositions on p.50 of lab manu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2. Work through MR-1, MR-5 with partner us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etrographic description shee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3. Fill in checklist for all 5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ve this checked before you leav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4. Fill out petrographic description sheets f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y 1 of the other 3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nd this in with your checklist at th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           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beginning of the next la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48160" y="32004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description, classif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691280" y="469908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interpret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33000" y="5283360"/>
            <a:ext cx="62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gneous or sedimentary (or metamorphic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cursor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referred to as the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552600"/>
            <a:ext cx="74660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ock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pends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ich feature(s) domin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at the observer wants to emphasi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.e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ore than one name may be appropriat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38080" y="552600"/>
            <a:ext cx="7466040" cy="61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 led to considerable inconsistency/confusion in classifying and naming metamorphic r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ly, an IUGS subcommittee has addressed this   problem and proposed some possible solu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k still in progress, no general consensus (ye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results on poster in lab and in handou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38080" y="360360"/>
            <a:ext cx="764388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38080" y="360360"/>
            <a:ext cx="76438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4:55:14Z</dcterms:created>
  <dc:creator>Rebecca Jamieson</dc:creator>
  <dc:description/>
  <dc:language>en-US</dc:language>
  <cp:lastModifiedBy>Dell</cp:lastModifiedBy>
  <dcterms:modified xsi:type="dcterms:W3CDTF">2011-10-07T19:17:00Z</dcterms:modified>
  <cp:revision>307</cp:revision>
  <dc:subject/>
  <dc:title>PowerPoint Presentation</dc:title>
</cp:coreProperties>
</file>