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3B05-464F-4D47-A064-C7D5F3910A9C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C1E1-E95C-4F4C-8AB3-95F06EDABC3C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096D-A804-4229-B318-49A80F9DB898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8A18-114A-42B0-88FE-DA5C373F5390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843B-BA93-4352-AC49-185B8661D489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9781-6FBB-4D59-B28A-1A7C3A4CBA46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CCD1-E5E0-4F5A-98AB-5B1F5AAC782A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6EE0-5BC5-4367-A35C-3C3F0C25A05B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CBC6-276F-4706-865B-C03493064119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4477-E116-4B40-972A-FC67EB115601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BE63-9A6E-41ED-B223-344A20050E3C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CDB0-20E6-40A0-B52B-EAB7AB7BCF8B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67C3-7D3A-4ED4-A4B6-20A63451BCF0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C133-F34D-4D97-80C4-7DC3008AC877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0661-35A9-4E00-BB95-F9077AFD0F0F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2E8A-018E-4FFB-AB0D-078EC905ED5F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1080-791F-40DA-B6B5-54E692947248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A423-8C19-40C7-9544-17213740D748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6035-F53C-4349-8BF4-850A39A6B61B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B2FD-FA73-41E1-9854-FEE168D76B23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A2F9-1B7D-42C8-ABB8-1DFD7B08AEAF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21E3-FC98-467E-9C3A-E9EEE74ACC51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867B-5192-4B8B-A75D-2BCCC6E539B7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AB24-AE96-4B2B-8671-A9789BF6420B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A25B-F876-4E4B-BB6C-EB0BC00CC071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6554-2E9B-4275-9D4D-EAF3376DCA0D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CB14-4125-4E32-B773-C0CC0E07FFEA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8027-01A9-4A49-A86F-41C856F56AA3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65EB-1EBC-4FF3-BBC3-B0AEC00DEEAB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07F0-4A17-4FC0-A3A8-E7FEB5ED4DE8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1129-AB6A-4EA5-8E34-CA54DEF2F570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77A1-6E75-4FBE-A0B2-7574BEEC4A48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4BF2-B684-4719-B7C6-FBBBE4B2F44B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183D-055E-420C-84C0-6AE74EAFD127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3515-EF7B-44E6-9247-630732BAB116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B41A-9202-46BA-BA43-805E7480E9A8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A1F6-0787-46BE-A74F-E4463C334454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F5A1-0D9A-448A-A1B7-B86696FCB0E3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73C8-E9D4-404E-8D0E-DE90938F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568-875A-4BF0-A223-538BD22E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CFCE-BE28-4329-AAD9-C02DDF6C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FFB1-C2F0-4E55-B0B0-54079BA7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0F9-451A-435C-B846-6282D1D2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4FE-E717-425C-83D6-737AB4FC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330-D16D-4A49-872C-203F40D4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D7E-5378-4964-8C4C-0DF98677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31E-33F0-4BCA-8C63-BC0DDFFC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1BFA-272F-4728-94DA-1E379696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2F4-7CB6-49BE-8C5B-EDFB410E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6158-9810-4E71-89AE-4E648FD1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60F3-2CDE-44C1-9D25-64DCC59DA0D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33640" y="3123720"/>
            <a:ext cx="6410160" cy="4921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 fontScale="23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escription and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troduction to Lab MR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sse Ch. 11, p. 194-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b Manual: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troduction p. 30-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b MR-1 p. 50-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Metamorphic Rocks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38080" y="360360"/>
            <a:ext cx="764388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relict featur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herited from protolith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rved during metamorphism and deform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bulk composition of ro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by/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minerals pres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 rock (types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ositions, modal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chemical analys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s bulk composition and metamorphic grad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P-T condition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etermined by petrographic observ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838080" y="360360"/>
            <a:ext cx="7643880" cy="61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relict featur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herited from protolith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rved during metamorphism and deform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bulk composition of ro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by/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minerals pres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 rock (types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ositions, modal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chemical analys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s bulk composition and metamorphic grad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P-T condition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etermined by petrographic observ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y be inherited from protolith and/or developed during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ormation and (re)crystallis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etermined by petrographic observ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838080" y="552600"/>
            <a:ext cx="80247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ms Rm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order to reduce the number of possible variabl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 be considered, Labs 4 and 5 will focus on specific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ulk compositions (and corresponding protoliths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imits the range of possible mineral assemblages and textur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838080" y="552600"/>
            <a:ext cx="8075880" cy="63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ms Rm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B 4: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Metabasit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rived from mafic/intermediate igneous rock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B 5: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Pelit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rived from mudstones, shales, siltston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B 6: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rived from felsic and ultramafic igneous rocks;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mestones, sandston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533520" y="958680"/>
            <a:ext cx="8075520" cy="55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) protolith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mafic or intermediate igneous rocks (basalts, gabbros,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desites, diorites) and their pyroclastic or volcano-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lastic equivalents (mafic tuff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b) bulk composition  (= metabasit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elatively rich in Mg, Fe, Ca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elatively poor in Si, Al, K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amphibole + plagioclase ubiquitous except for unusual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-T conditions; compositions vary with grad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garnet, biotite, quartz, epidote, chlorite, pyroxene (cpx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+/- opx), titanite,  ilmenite, apatite (depends on grade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anges from massive to foliate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elict features may be well preserve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E:\Documents and Settings\Rebecca  Jamieson\My Documents\MinTeach\MetRx_Labs\MR_TS_photos\MR-5\DSCN0706.JPG"/>
          <p:cNvPicPr/>
          <p:nvPr/>
        </p:nvPicPr>
        <p:blipFill>
          <a:blip r:embed="rId1"/>
          <a:stretch/>
        </p:blipFill>
        <p:spPr>
          <a:xfrm>
            <a:off x="4952880" y="2622600"/>
            <a:ext cx="3996000" cy="2997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368280" y="806400"/>
            <a:ext cx="8406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) protolith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fic or intermediate igneous rocks (basalts, gabbros, andesites, diorites) and their pyroclastic or volcano-clastic equivalents (mafic tuffs, volcanogenic sandstones etc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if protolith obvious, rock name =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meta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+ protolith na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7" name="Picture 4" descr="E:\Documents and Settings\Rebecca  Jamieson\My Documents\MinTeach\OpMin_TS_photos\IgPet_Lab2\19194332.JPG"/>
          <p:cNvPicPr/>
          <p:nvPr/>
        </p:nvPicPr>
        <p:blipFill>
          <a:blip r:embed="rId2"/>
          <a:stretch/>
        </p:blipFill>
        <p:spPr>
          <a:xfrm>
            <a:off x="525600" y="2629080"/>
            <a:ext cx="3860640" cy="28954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576000" y="5533920"/>
            <a:ext cx="378360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IR-3: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lag laths with interstitial cp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2.5 mm, PPL) ERTH 2002 Lab IR-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969080" y="5546880"/>
            <a:ext cx="40442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lict plag laths with relict cp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7"/>
          <p:cNvSpPr/>
          <p:nvPr/>
        </p:nvSpPr>
        <p:spPr>
          <a:xfrm>
            <a:off x="4969080" y="5521320"/>
            <a:ext cx="40442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???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mphibole in foliated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81" name="Picture 8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5003640" y="2631960"/>
            <a:ext cx="3873600" cy="29052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9"/>
          <p:cNvSpPr/>
          <p:nvPr/>
        </p:nvSpPr>
        <p:spPr>
          <a:xfrm>
            <a:off x="584280" y="2603520"/>
            <a:ext cx="3593880" cy="28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3300"/>
                </a:solidFill>
                <a:latin typeface="Lucida Sans"/>
              </a:rPr>
              <a:t>protolith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68280" y="806400"/>
            <a:ext cx="8406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) protolith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fic or intermediate igneous rocks (basalts, gabbros, andesites, diorites) and their pyroclastic or volcano-clastic equivalents (mafic tuffs, volcanogenic sandstones etc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if protolith obvious, rock name =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meta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+ protolith na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368280" y="806400"/>
            <a:ext cx="8406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b) bulk composition  (= metabasit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vely rich in Mg, Fe, Ca, relatively poor in Si, Al, 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ed in minerals present in rock (types, compositions,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83160" y="2247840"/>
            <a:ext cx="71758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classification based on bulk composition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- find appropriate special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- modify textural root term with compositional term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368280" y="806400"/>
            <a:ext cx="84060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b) bulk composition  (= metabasit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vely rich in Mg, Fe, Ca, relatively poor in Si, Al, 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ed in minerals present in rock (types, compositions,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some special rock names that apply specifically to metabasite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57720" y="2413080"/>
            <a:ext cx="80157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fine- to medium-grained metabasite with a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distinct foliation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, containing some combination o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chlorite +/- actinolite +/- epido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greenstone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fine- to medium-grained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assive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metabasite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ypically preserving some relict features, containing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some combination of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chlorite +/- actinolite +/- epido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amphibolite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edium- to coarse-grained,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assive to foli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etabasite consisting largely of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hornblende + plagiocl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granulite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edium- to coarse-grained,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assive to foli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etabasite containing metamorphic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opx + cpx + pla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others (e.g., blueschist, eclogite) will not be encountered this ter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4969080" y="5521320"/>
            <a:ext cx="40442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???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mphibole in foliated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2" name="Picture 4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5003640" y="2631960"/>
            <a:ext cx="3873600" cy="29052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368280" y="806400"/>
            <a:ext cx="84060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b) bulk composition  (= metabasit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vely rich in Mg, Fe, Ca, relatively poor in Si, Al, 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ed in minerals present in rock (types, compositions,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greenschist? greenstone? amphibolite? granulit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2984400" y="1981080"/>
            <a:ext cx="1067040" cy="482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Line 11"/>
          <p:cNvSpPr/>
          <p:nvPr/>
        </p:nvSpPr>
        <p:spPr>
          <a:xfrm flipV="1">
            <a:off x="3060720" y="1942920"/>
            <a:ext cx="888840" cy="5079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80880" y="3035160"/>
            <a:ext cx="4216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picking appropriat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special rock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requires knowing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mineralogy and textu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conversely, special rock nam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convey information abou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both mineralogy and textu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5902560" cy="5857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1154520" y="303120"/>
            <a:ext cx="500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Lucida Sans"/>
              </a:rPr>
              <a:t>Rock-Mineral Associations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373800" y="6324480"/>
            <a:ext cx="1546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Lucida Sans"/>
              </a:rPr>
              <a:t>Nesse, Fig. 5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353640" y="2606760"/>
            <a:ext cx="2611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mineral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is a function of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437520" y="3429000"/>
            <a:ext cx="2472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pressure (</a:t>
            </a:r>
            <a:r>
              <a:rPr b="1" lang="en-CA" sz="2800" spc="-1" strike="noStrike">
                <a:solidFill>
                  <a:srgbClr val="ff3300"/>
                </a:solidFill>
                <a:latin typeface="Lucida Sans"/>
              </a:rPr>
              <a:t>P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temperature (</a:t>
            </a:r>
            <a:r>
              <a:rPr b="1" lang="en-CA" sz="2800" spc="-1" strike="noStrike">
                <a:solidFill>
                  <a:srgbClr val="ff3300"/>
                </a:solidFill>
                <a:latin typeface="Lucida Sans"/>
              </a:rPr>
              <a:t>T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composition (</a:t>
            </a:r>
            <a:r>
              <a:rPr b="1" lang="en-CA" sz="2800" spc="-1" strike="noStrike">
                <a:solidFill>
                  <a:srgbClr val="ff3300"/>
                </a:solidFill>
                <a:latin typeface="Lucida Sans"/>
              </a:rPr>
              <a:t>X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" name="Oval 7"/>
          <p:cNvSpPr/>
          <p:nvPr/>
        </p:nvSpPr>
        <p:spPr>
          <a:xfrm>
            <a:off x="4064040" y="4483080"/>
            <a:ext cx="2184480" cy="6858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533520" y="844560"/>
            <a:ext cx="80755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) mineral assemblage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reflects bulk composition and grad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amphibole + plagiocl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ubiquitous except for unusual P-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ditions; compositions vary with grad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arnet, biotite, quartz, epidote, chlorite, pyroxene (cpx +/- opx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tanite, ilmenite, apatite (depends on grad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093320" y="3251160"/>
            <a:ext cx="1939320" cy="23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ff"/>
                </a:solidFill>
                <a:latin typeface="Lucida Sans"/>
              </a:rPr>
              <a:t>amphibol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actinoli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hornblend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blue-green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gree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brow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4572000" y="3670200"/>
            <a:ext cx="0" cy="16383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3866760" y="320040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3333ff"/>
                </a:solidFill>
                <a:latin typeface="Lucida Sans"/>
              </a:rPr>
              <a:t>lower P,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3798000" y="54230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3333ff"/>
                </a:solidFill>
                <a:latin typeface="Lucida Sans"/>
              </a:rPr>
              <a:t>higher P,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5825880" y="3429000"/>
            <a:ext cx="27594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ff"/>
                </a:solidFill>
                <a:latin typeface="Lucida Sans"/>
              </a:rPr>
              <a:t>plagioclas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albite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An0-10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oligoclase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An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20-30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andesine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An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30-50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5"/>
          <p:cNvSpPr/>
          <p:nvPr/>
        </p:nvSpPr>
        <p:spPr>
          <a:xfrm>
            <a:off x="1397160" y="3327480"/>
            <a:ext cx="0" cy="16383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91560" y="285768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3333ff"/>
                </a:solidFill>
                <a:latin typeface="Lucida Sans"/>
              </a:rPr>
              <a:t>lower P,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23160" y="50799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3333ff"/>
                </a:solidFill>
                <a:latin typeface="Lucida Sans"/>
              </a:rPr>
              <a:t>higher P,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600280" y="2693880"/>
            <a:ext cx="63658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greenschist facies</a:t>
            </a:r>
            <a:r>
              <a:rPr b="0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: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hlorite ± epidot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± albite (An</a:t>
            </a:r>
            <a:r>
              <a:rPr b="0" i="1" lang="en-CA" sz="1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0-10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) ± actinolite + quartz + titan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amphibolite facies</a:t>
            </a:r>
            <a:r>
              <a:rPr b="0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: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hornblende +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plagioclase (An</a:t>
            </a:r>
            <a:r>
              <a:rPr b="0" i="1" lang="en-CA" sz="1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20-40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) + quartz ± biotit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± garnet ± titanite ± ilmen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granulite facies</a:t>
            </a:r>
            <a:r>
              <a:rPr b="0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: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orthopyroxene +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linopyroxene + plagioclase (An</a:t>
            </a:r>
            <a:r>
              <a:rPr b="0" i="1" lang="en-CA" sz="1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30-50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+ quartz + ilmenite  ± rutile  ±  garnet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±  hornblende ±  biotite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055880" y="5954760"/>
            <a:ext cx="691956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3333ff"/>
                </a:solidFill>
                <a:latin typeface="Lucida Sans"/>
              </a:rPr>
              <a:t>metamorphic facies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: a set of mineral assemblag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indicative of metamorphic P-T conditions (grade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33520" y="844560"/>
            <a:ext cx="80755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) mineral assemblage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reflects bulk composition and grad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mphibole + plagioclase ubiquitous except for unusual P-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ditions;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compositions vary with grad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arnet, biotite, quartz, epidote, chlorite, pyroxene (cpx +/- opx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tanite, ilmenite, apatite (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epends on gr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E:\Documents and Settings\Rebecca  Jamieson\My Documents\MinTeach\MetRx_Labs\MR_TS_photos\MR-1\26205955.JPG"/>
          <p:cNvPicPr/>
          <p:nvPr/>
        </p:nvPicPr>
        <p:blipFill>
          <a:blip r:embed="rId1"/>
          <a:stretch/>
        </p:blipFill>
        <p:spPr>
          <a:xfrm>
            <a:off x="469800" y="28954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E:\Documents and Settings\Rebecca  Jamieson\My Documents\MinTeach\MetRx_Labs\MR_TS_photos\MR-5\26223022.JPG"/>
          <p:cNvPicPr/>
          <p:nvPr/>
        </p:nvPicPr>
        <p:blipFill>
          <a:blip r:embed="rId2"/>
          <a:stretch/>
        </p:blipFill>
        <p:spPr>
          <a:xfrm>
            <a:off x="4902120" y="2889360"/>
            <a:ext cx="3924360" cy="2943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4969080" y="5703840"/>
            <a:ext cx="40442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lag + gnt + px + amph + ..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66920" y="5691240"/>
            <a:ext cx="39128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???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mph + plag + qtz + ..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2.5 mm, PPL) ERTH 2002 Lab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33520" y="844560"/>
            <a:ext cx="80755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amphibole + plagiocl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ubiquitous except for unusual P-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ditions;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compositions vary with grad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arnet, biotite, quartz, epidote, chlorite, pyroxene (cpx +/- opx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tanite, ilmenite, apatite (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epends on gr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33520" y="958680"/>
            <a:ext cx="807552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eli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inherit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from protolith or earlier stage of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sm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fol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planar fabric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layering, alignment o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platy mineral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line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linear fabric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stretching, alignment of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longated mineral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porphyrobla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coarser-grained metamorphi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nerals in a finer-grained matrix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cf. phenocryst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eaction tex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replacement of one (or more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neral by another mineral (or mineral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pseudomorphs, reaction rims, corona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E:\Documents and Settings\Rebecca  Jamieson\My Documents\MinTeach\MetRx_Labs\MR_TS_photos\MR-5\DSCN0706.JPG"/>
          <p:cNvPicPr/>
          <p:nvPr/>
        </p:nvPicPr>
        <p:blipFill>
          <a:blip r:embed="rId1"/>
          <a:stretch/>
        </p:blipFill>
        <p:spPr>
          <a:xfrm>
            <a:off x="4889520" y="2343240"/>
            <a:ext cx="3995640" cy="2997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2" name="Picture 4" descr="E:\Documents and Settings\Rebecca  Jamieson\My Documents\MinTeach\OpMin_TS_photos\IgPet_Lab2\19194332.JPG"/>
          <p:cNvPicPr/>
          <p:nvPr/>
        </p:nvPicPr>
        <p:blipFill>
          <a:blip r:embed="rId2"/>
          <a:stretch/>
        </p:blipFill>
        <p:spPr>
          <a:xfrm>
            <a:off x="500040" y="2374920"/>
            <a:ext cx="3861000" cy="28954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50440" y="5280120"/>
            <a:ext cx="378360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IR-3: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lag laths with interstitial cp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2.5 mm, PPL) ERTH 2002 Lab IR-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902120" y="5267160"/>
            <a:ext cx="41036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lict plag laths with relict cp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609480" y="903240"/>
            <a:ext cx="853452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elict = inherit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from protolith or earlier stage of metamorphism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04920" y="865080"/>
            <a:ext cx="8839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foliation = planar fab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layering, alignment of platy mineral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4414680" y="2131920"/>
            <a:ext cx="4729320" cy="43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special types of foliation includ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cleavage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endency for rock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o split along closely spaced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arallel plan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schistosity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efined by parall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lignment of platy 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e.g., chlorite, mic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gneissosity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composi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layering in medium- to coarse-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grained rocks defined by variabl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roportions of light and dark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0" name="Picture 13" descr="E:\Documents and Settings\Rebecca  Jamieson\My Documents\MinTeach\ERTH2002\Mineral of the Week\foliations3.jpg"/>
          <p:cNvPicPr/>
          <p:nvPr/>
        </p:nvPicPr>
        <p:blipFill>
          <a:blip r:embed="rId1"/>
          <a:stretch/>
        </p:blipFill>
        <p:spPr>
          <a:xfrm>
            <a:off x="163440" y="2328840"/>
            <a:ext cx="4146480" cy="35337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04920" y="865080"/>
            <a:ext cx="8839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foliation = planar fab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layering, alignment of platy mineral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414680" y="2131920"/>
            <a:ext cx="4729320" cy="43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special types of foliation includ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cleavage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endency for rock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o split along closely spaced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arallel plan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schistosity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efined by parall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lignment of platy 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e.g., chlorite, mic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gneissosity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composi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layering in medium- to coarse-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grained rocks defined by variabl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roportions of light and dark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5" name="Picture 7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355680" y="2365200"/>
            <a:ext cx="3873600" cy="2905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483120" y="5241960"/>
            <a:ext cx="362952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mphibole in foliated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ERTH 2002 Lab 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660240" y="4330800"/>
            <a:ext cx="3086280" cy="27936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749240" y="45180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00"/>
                </a:solidFill>
                <a:latin typeface="Lucida Sans"/>
              </a:rPr>
              <a:t>S</a:t>
            </a:r>
            <a:r>
              <a:rPr b="1" lang="en-CA" sz="1800" spc="-1" strike="noStrike">
                <a:solidFill>
                  <a:srgbClr val="ffff00"/>
                </a:solidFill>
                <a:latin typeface="Lucida San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52280" y="865080"/>
            <a:ext cx="8991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lineation = linear fab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stretching, alignment of elongated minerals, etc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368960" y="2209680"/>
            <a:ext cx="477504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special types of lineation includ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stretching lineation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efined by stretched minerals or mineral aggregat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mineral lineation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efined by parallel alignment of long axe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of elongated 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intersection lineation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efined by intersection of two planar fabric ele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3" name="Picture 10" descr="E:\Documents and Settings\Rebecca  Jamieson\My Documents\MinTeach\MetRx_Labs\lineations2.jpg"/>
          <p:cNvPicPr/>
          <p:nvPr/>
        </p:nvPicPr>
        <p:blipFill>
          <a:blip r:embed="rId1"/>
          <a:stretch/>
        </p:blipFill>
        <p:spPr>
          <a:xfrm>
            <a:off x="473040" y="1730520"/>
            <a:ext cx="3727440" cy="49701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52280" y="865080"/>
            <a:ext cx="8991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porphyrobla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arser-grained minerals in a finer-grained matrix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cf. phenocrysts in igneous rock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31640" y="5305320"/>
            <a:ext cx="37594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mphibole porphyroblasts in finer-grained foliated matrix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8" name="Picture 8" descr="E:\Documents and Settings\Rebecca  Jamieson\My Documents\MinTeach\MetRx_Labs\MR_TS_photos\MR-1\26210637.JPG"/>
          <p:cNvPicPr/>
          <p:nvPr/>
        </p:nvPicPr>
        <p:blipFill>
          <a:blip r:embed="rId1"/>
          <a:stretch/>
        </p:blipFill>
        <p:spPr>
          <a:xfrm>
            <a:off x="236520" y="2184480"/>
            <a:ext cx="4183200" cy="31366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4784760" y="228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4724280" y="2220840"/>
            <a:ext cx="4151520" cy="43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porphyroblast </a:t>
            </a: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shapes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can b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described a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euhedral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i="1" lang="en-CA" sz="2200" spc="-1" strike="noStrike">
                <a:solidFill>
                  <a:srgbClr val="000000"/>
                </a:solidFill>
                <a:latin typeface="Lucida Sans"/>
              </a:rPr>
              <a:t>or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idioblastic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subhedral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i="1" lang="en-CA" sz="2200" spc="-1" strike="noStrike">
                <a:solidFill>
                  <a:srgbClr val="000000"/>
                </a:solidFill>
                <a:latin typeface="Lucida Sans"/>
              </a:rPr>
              <a:t>or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subidioblastic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anhedral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i="1" lang="en-CA" sz="2200" spc="-1" strike="noStrike">
                <a:solidFill>
                  <a:srgbClr val="000000"/>
                </a:solidFill>
                <a:latin typeface="Lucida Sans"/>
              </a:rPr>
              <a:t>or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xenoblastic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because porphyroblasts grow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from a solid matrix, the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generally contain </a:t>
            </a:r>
            <a:r>
              <a:rPr b="1" lang="en-CA" sz="2200" spc="-1" strike="noStrike">
                <a:solidFill>
                  <a:srgbClr val="3333ff"/>
                </a:solidFill>
                <a:latin typeface="Lucida Sans"/>
              </a:rPr>
              <a:t>inclusion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hat </a:t>
            </a:r>
            <a:r>
              <a:rPr b="0" lang="en-CA" sz="2000" spc="-1" strike="noStrike">
                <a:solidFill>
                  <a:srgbClr val="3333ff"/>
                </a:solidFill>
                <a:latin typeface="Lucida Sans"/>
              </a:rPr>
              <a:t>may preserve an earlier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ff"/>
                </a:solidFill>
                <a:latin typeface="Lucida Sans"/>
              </a:rPr>
              <a:t>stage of the metamorph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ff"/>
                </a:solidFill>
                <a:latin typeface="Lucida Sans"/>
              </a:rPr>
              <a:t>history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(minerals +/- textur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poikiloblastic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textu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52280" y="865080"/>
            <a:ext cx="8991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eaction tex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placement of one (or more) mineral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reactant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y one (or more) new mineral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products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25520" y="5153040"/>
            <a:ext cx="3795480" cy="12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action rim (corona) betwe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lagioclase + another mineral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5" name="Picture 7" descr="E:\Documents and Settings\Rebecca  Jamieson\My Documents\MinTeach\MetRx_Labs\MR_TS_photos\MR-5\26224704.JPG"/>
          <p:cNvPicPr/>
          <p:nvPr/>
        </p:nvPicPr>
        <p:blipFill>
          <a:blip r:embed="rId1"/>
          <a:stretch/>
        </p:blipFill>
        <p:spPr>
          <a:xfrm>
            <a:off x="406440" y="2268360"/>
            <a:ext cx="3873600" cy="2905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8"/>
          <p:cNvSpPr/>
          <p:nvPr/>
        </p:nvSpPr>
        <p:spPr>
          <a:xfrm>
            <a:off x="4453560" y="2332080"/>
            <a:ext cx="444024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reaction textures includ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pseudomorph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placement b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one or more minerals, where shap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of the original grain is preserv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reaction rim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actant rimm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by one or more product 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corona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action rim wher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action products form concentric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zones around/between original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reactant) 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339840" y="2168640"/>
            <a:ext cx="8464320" cy="32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..... any </a:t>
            </a:r>
            <a:r>
              <a:rPr b="0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dominantly solid-stat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process that produc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in the physical, mineralogical, textural,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or chemical character o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pre-existing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igneous, sedimentary, o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metamorphic rock, in response t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      </a:t>
            </a:r>
            <a:r>
              <a:rPr b="0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chang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in pressure (</a:t>
            </a: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), temperature (</a:t>
            </a: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), chemica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environment (</a:t>
            </a: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), or stress field (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153520" y="560520"/>
            <a:ext cx="48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3300"/>
                </a:solidFill>
                <a:latin typeface="Lucida Sans"/>
              </a:rPr>
              <a:t>What is metamorphism?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203920" y="1308240"/>
            <a:ext cx="47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(meta = change;  morph = for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181080" y="936720"/>
            <a:ext cx="8721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Classification/nomenclature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ccording to IUG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protolit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o features inherited from protolith dominate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add 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meta-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 to original rock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181080" y="936720"/>
            <a:ext cx="8721720" cy="27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Classification/nomenclature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ccording to IUG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protolit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o features inherited from protolith dominate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add 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meta-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 to original rock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b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bulk composit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re a special rock name that fits this bulk composition?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it!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(alternatively, modify textural root name with compositional term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181080" y="936720"/>
            <a:ext cx="8721720" cy="37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Classification/nomenclature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ccording to IUG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protolit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o features inherited from protolith dominate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add 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meta-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 to original rock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b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bulk composit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re a special rock name that fits this bulk composition?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it!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(alternatively, modify textural root name with compositional term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mineral assemblage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re one or two minerals in the rock particularly important? 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add mineral name(s) to root name based on texture </a:t>
            </a:r>
            <a:r>
              <a:rPr b="0" i="1" lang="en-US" sz="20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(see below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181080" y="936720"/>
            <a:ext cx="8721720" cy="58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Classification/nomenclature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ccording to IUG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protolit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o features inherited from protolith dominate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add 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meta-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 to original rock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b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bulk composit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re a special rock name that fits this bulk composition?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it!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(alternatively, modify textural root name with compositional term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mineral assemblage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re one or two minerals in the rock particularly important? 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add mineral name(s) to root name based on texture </a:t>
            </a:r>
            <a:r>
              <a:rPr b="0" i="1" lang="en-US" sz="20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(see below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texture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re a special rock name that fits this texture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it!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f not...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 rock foliated?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not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, use term “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granofels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oes the rock have a foliation defined by alignment of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sheet silicates?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term “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schist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”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 rock medium- to coarse-grained, with pronounced cm-scale compositional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banding? 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term “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gneiss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231840" y="885960"/>
            <a:ext cx="86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Classification/nomenclature of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1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5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based 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7" name="Picture 4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1854360" y="1504800"/>
            <a:ext cx="3340080" cy="2505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E:\Documents and Settings\Rebecca  Jamieson\My Documents\MinTeach\MetRx_Labs\MR_TS_photos\MR-5\26223022.JPG"/>
          <p:cNvPicPr/>
          <p:nvPr/>
        </p:nvPicPr>
        <p:blipFill>
          <a:blip r:embed="rId2"/>
          <a:stretch/>
        </p:blipFill>
        <p:spPr>
          <a:xfrm>
            <a:off x="5635800" y="1508040"/>
            <a:ext cx="3317760" cy="24894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733000" y="392580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959480" y="393372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244440" y="4392720"/>
            <a:ext cx="86551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rotolith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bulk composition:   </a:t>
            </a:r>
            <a:r>
              <a:rPr b="0" lang="en-CA" sz="2000" spc="-1" strike="noStrike">
                <a:solidFill>
                  <a:srgbClr val="3333ff"/>
                </a:solidFill>
                <a:latin typeface="Lucida Sans"/>
              </a:rPr>
              <a:t>= metabasite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ineral assemblag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extur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31840" y="885960"/>
            <a:ext cx="86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Classification/nomenclature of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1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5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based 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4" name="Picture 4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1854360" y="1504800"/>
            <a:ext cx="3340080" cy="2505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E:\Documents and Settings\Rebecca  Jamieson\My Documents\MinTeach\MetRx_Labs\MR_TS_photos\MR-5\26223022.JPG"/>
          <p:cNvPicPr/>
          <p:nvPr/>
        </p:nvPicPr>
        <p:blipFill>
          <a:blip r:embed="rId2"/>
          <a:stretch/>
        </p:blipFill>
        <p:spPr>
          <a:xfrm>
            <a:off x="5635800" y="1508040"/>
            <a:ext cx="3317760" cy="24894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5733000" y="392580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959480" y="393372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244440" y="4392720"/>
            <a:ext cx="86551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rotolith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????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bulk composition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i="1" lang="en-CA" sz="1800" spc="-1" strike="noStrike">
                <a:solidFill>
                  <a:srgbClr val="000000"/>
                </a:solidFill>
                <a:latin typeface="Lucida Sans"/>
              </a:rPr>
              <a:t>(=metabasit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ineral assemblag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   gnt-px 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extur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coronitic 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028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1854360" y="1504800"/>
            <a:ext cx="3340080" cy="2505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29" descr="E:\Documents and Settings\Rebecca  Jamieson\My Documents\MinTeach\MetRx_Labs\MR_TS_photos\MR-5\26223022.JPG"/>
          <p:cNvPicPr/>
          <p:nvPr/>
        </p:nvPicPr>
        <p:blipFill>
          <a:blip r:embed="rId2"/>
          <a:stretch/>
        </p:blipFill>
        <p:spPr>
          <a:xfrm>
            <a:off x="5635800" y="1508040"/>
            <a:ext cx="3317760" cy="24894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030"/>
          <p:cNvSpPr/>
          <p:nvPr/>
        </p:nvSpPr>
        <p:spPr>
          <a:xfrm>
            <a:off x="5733000" y="392580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Text Box 1031"/>
          <p:cNvSpPr/>
          <p:nvPr/>
        </p:nvSpPr>
        <p:spPr>
          <a:xfrm>
            <a:off x="1959480" y="393372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Rectangle 1033"/>
          <p:cNvSpPr/>
          <p:nvPr/>
        </p:nvSpPr>
        <p:spPr>
          <a:xfrm>
            <a:off x="2959200" y="5041800"/>
            <a:ext cx="1828800" cy="16131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Rectangle 1034"/>
          <p:cNvSpPr/>
          <p:nvPr/>
        </p:nvSpPr>
        <p:spPr>
          <a:xfrm>
            <a:off x="5753160" y="6146640"/>
            <a:ext cx="3060720" cy="520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Text Box 1035"/>
          <p:cNvSpPr/>
          <p:nvPr/>
        </p:nvSpPr>
        <p:spPr>
          <a:xfrm>
            <a:off x="231840" y="885960"/>
            <a:ext cx="86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Classification/nomenclature of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1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5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based 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Text Box 1036"/>
          <p:cNvSpPr/>
          <p:nvPr/>
        </p:nvSpPr>
        <p:spPr>
          <a:xfrm>
            <a:off x="244440" y="4392720"/>
            <a:ext cx="86551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rotolith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????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meta</a:t>
            </a:r>
            <a:r>
              <a:rPr b="1" lang="en-CA" sz="2000" spc="-1" strike="noStrike" u="sng">
                <a:solidFill>
                  <a:srgbClr val="3333ff"/>
                </a:solidFill>
                <a:uFillTx/>
                <a:latin typeface="Lucida Sans"/>
              </a:rPr>
              <a:t>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bulk composition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meta</a:t>
            </a:r>
            <a:r>
              <a:rPr b="1" lang="en-CA" sz="2000" spc="-1" strike="noStrike" u="sng">
                <a:solidFill>
                  <a:srgbClr val="3333ff"/>
                </a:solidFill>
                <a:uFillTx/>
                <a:latin typeface="Lucida Sans"/>
              </a:rPr>
              <a:t>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i="1" lang="en-CA" sz="1800" spc="-1" strike="noStrike">
                <a:solidFill>
                  <a:srgbClr val="000000"/>
                </a:solidFill>
                <a:latin typeface="Lucida Sans"/>
              </a:rPr>
              <a:t>(=metabasit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ineral assemblag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   </a:t>
            </a:r>
            <a:r>
              <a:rPr b="1" lang="en-CA" sz="2000" spc="-1" strike="noStrike" u="sng">
                <a:solidFill>
                  <a:srgbClr val="3333ff"/>
                </a:solidFill>
                <a:uFillTx/>
                <a:latin typeface="Lucida Sans"/>
              </a:rPr>
              <a:t>gnt-px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 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extur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coronitic 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426240" y="1181160"/>
            <a:ext cx="855360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1. Fill in mineral compositions on p.50 of lab manua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2. Work through MR-1, MR-5 with partner us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petrographic description shee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3. Fill in checklist for all 5 samp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have this checked before you leave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4. Fill out petrographic description sheets fo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any 1 of the other 3 samp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hand this in with your checklist at th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               </a:t>
            </a: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beginning of the next la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36720" y="1089000"/>
            <a:ext cx="727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Because </a:t>
            </a: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is essential to metamorphism,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studying metamorphic rocks always involve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2 question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a) What is it?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(now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b) What was it?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(before metamorphis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36720" y="1089000"/>
            <a:ext cx="727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Because </a:t>
            </a: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is essential to metamorphism,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studying metamorphic rocks always involve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2 question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a) What is it?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(now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b) What was it?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(before metamorphis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748160" y="3200400"/>
            <a:ext cx="56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observation, description, classific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691280" y="4699080"/>
            <a:ext cx="40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observation, interpret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233000" y="5283360"/>
            <a:ext cx="625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igneous or sedimentary (or metamorphic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precursor</a:t>
            </a: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is referred to as the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38080" y="552600"/>
            <a:ext cx="746604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ms Rm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hoice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ock 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pends 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which feature(s) domina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what the observer wants to emphasi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.e.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more than one name may be appropriate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838080" y="552600"/>
            <a:ext cx="7466040" cy="61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ms Rm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has led to considerable inconsistency/confusion in classifying and naming metamorphic rock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ently, an IUGS subcommittee has addressed this   problem and proposed some possible solu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rk still in progress, no general consensus (ye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liminary results on poster in lab and in handou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838080" y="360360"/>
            <a:ext cx="7643880" cy="56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relict featur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herited from protolith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rved during metamorphism and deform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bulk composition of ro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38080" y="360360"/>
            <a:ext cx="76438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relict featur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herited from protolith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rved during metamorphism and deform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bulk composition of ro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by/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minerals pres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 rock (types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ositions, modal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chemical analys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4:55:14Z</dcterms:created>
  <dc:creator>Rebecca Jamieson</dc:creator>
  <dc:description/>
  <dc:language>en-US</dc:language>
  <cp:lastModifiedBy>Dell</cp:lastModifiedBy>
  <dcterms:modified xsi:type="dcterms:W3CDTF">2011-10-07T19:17:00Z</dcterms:modified>
  <cp:revision>307</cp:revision>
  <dc:subject/>
  <dc:title>PowerPoint Presentation</dc:title>
</cp:coreProperties>
</file>