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Lucida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Lucida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F227-C8FA-4868-83A2-BDFB5E3922E6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B6172-6906-49FB-A85C-C68C11454C40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FA487-FF03-4553-94A7-8862D05A8B53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D7294-C9BF-45B0-A460-C4D78D56BFD8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6217-EA2F-420F-8A28-0467F1C5A945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DA069-17E5-4DB4-815C-28C9E49C2C3E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B6E6A-BC3F-4B72-B2C7-22C94AC4EF2A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9B827-9CE9-4F31-A222-F188259BF8C3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A7E4B-57BD-4C90-9448-2E51DC020A07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516FE-2306-4D9D-A458-5394F0F0E752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36F9F-5D2E-4229-A5E0-5C1ADAD02D0F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C64CB-CE6D-4244-A99D-C0EF1463F611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913BC-6538-404A-8831-69419007A76A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6946-A403-4AC6-99AA-CD9448B931E4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599FC-4A33-4AC7-A307-93C6F441391D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6C1BC-0646-4029-A3D0-ADACF47AA699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6F1F9-B14B-4988-BC61-A213E79497C2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2E2C4-F6AC-4B7B-8F0E-5C353B59EB5B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5AE8B-298F-41E1-9351-060134693F81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0BD75-B9A1-47BE-A36D-CFE00501DAC2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38A2F-79B4-4B16-8D12-DA038ABC4130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358E-175D-4C15-A750-E2F583CDF1A8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D46A1-C241-4F20-A9F1-A708FA50C7CA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89737-723C-4266-B7E5-7F0B84D143AE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E178E-5B24-498A-B11C-ACAD2C38D942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B3263-572B-4650-8B57-ACAA969A9A8E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5548A-1090-4658-9ABB-9ECB1117276F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4A7CC-278E-4088-8744-573846FC3E9B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54ABB-2CD9-46EA-AFAB-F8E4B9F60CE5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5BC7B-2070-4F58-A05B-C61D6E5F070E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DBE49-4E00-4042-B796-E8283FDFAE73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4323A-EA29-4528-89AE-8C1A3BBD110F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F7318-BE04-4FFE-ABDF-340C4BD416C6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FCCDD-827D-4F84-BC06-0593663EC350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247AF-C670-4E19-B6B7-6A93E80B7A3C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105EE-3145-4B20-883C-504E2DFF340C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1E667-AF1D-4FDD-AF1F-37B10131ED7E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CCE19-1FCB-442C-A341-45C27FD5FE1C}" type="slidenum">
              <a:rPr b="0" lang="en-CA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71E2-5D23-446C-84AD-6AFB645BE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00CE-6618-4013-B90D-6CB8CD7BB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778A-AC02-4C43-B750-3B4975398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2DB7-10D0-46D4-A8AF-C490C89BF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AF1E-0FE1-4276-9BB9-24E21E2E3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B445-D322-4253-B737-783E8D736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4D74-AC9C-455D-9261-B62E82906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A935-F43D-4A9F-8B41-62C8C9535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53CE-127F-4389-AC68-9BC83444E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1511-A157-4538-BEDD-8B042A9D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9DC2-7C59-44C8-9DFF-7B4AFB1B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61D7-F579-4AE9-8DFC-BB29BBDF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68D3F-6223-497F-AC70-4ED0CCDEEC19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133640" y="3123720"/>
            <a:ext cx="6410160" cy="49212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0" bIns="0" anchor="t">
            <a:normAutofit fontScale="23000"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escription and Class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Introduction to Lab MR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esse Ch. 11, p. 194-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ab Manual: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ntroduction p. 30-4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ab MR-1 p. 50-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6480" rIns="11556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Metamorphic Rocks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838080" y="360360"/>
            <a:ext cx="7643880" cy="56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tamorphic rocks can b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classifi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ccording to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) protolith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termined from </a:t>
            </a:r>
            <a:r>
              <a:rPr b="0" i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relict feature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inherited from protolith an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eserved during metamorphism and deforma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d/or bulk composition of rock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) bulk composi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termined by/from </a:t>
            </a:r>
            <a:r>
              <a:rPr b="0" i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minerals presen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in rock (types,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mpositions, modal %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d/or chemical analysi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) mineral assemblag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flects bulk composition and metamorphic grade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P-T condition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determined by petrographic observa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) textur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838080" y="360360"/>
            <a:ext cx="7643880" cy="61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tamorphic rocks can b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classifi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ccording to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) protolith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termined from </a:t>
            </a:r>
            <a:r>
              <a:rPr b="0" i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relict feature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inherited from protolith an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eserved during metamorphism and deforma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d/or bulk composition of rock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) bulk composi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termined by/from </a:t>
            </a:r>
            <a:r>
              <a:rPr b="0" i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minerals presen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in rock (types,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mpositions, modal %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d/or chemical analysi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) mineral assemblag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flects bulk composition and metamorphic grade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P-T condition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determined by petrographic observa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) textur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y be inherited from protolith and/or developed during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formation and (re)crystallisa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determined by petrographic observa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838080" y="552600"/>
            <a:ext cx="8024760" cy="57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tamorphic rocks can b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classifi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ccording to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) protolith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ms Rm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) bulk composi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) mineral assemblag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) textur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n order to reduce the number of possible variables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o be considered, Labs 4 and 5 will focus on specific 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bulk compositions (and corresponding protoliths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limits the range of possible mineral assemblages and textures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838080" y="552600"/>
            <a:ext cx="8075880" cy="63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tamorphic rocks can b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classifi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ccording to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a) protolith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buClr>
                <a:srgbClr val="3333ff"/>
              </a:buClr>
              <a:buFont typeface="Tms Rm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b) bulk composi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) mineral assemblag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) textur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LAB 4: </a:t>
            </a:r>
            <a:r>
              <a:rPr b="0" lang="en-US" sz="2200" spc="-1" strike="noStrike">
                <a:solidFill>
                  <a:srgbClr val="3333ff"/>
                </a:solidFill>
                <a:latin typeface="Arial"/>
                <a:ea typeface="Times New Roman"/>
              </a:rPr>
              <a:t>Metabasit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derived from mafic/intermediate igneous rock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LAB 5: </a:t>
            </a:r>
            <a:r>
              <a:rPr b="0" lang="en-US" sz="2200" spc="-1" strike="noStrike">
                <a:solidFill>
                  <a:srgbClr val="3333ff"/>
                </a:solidFill>
                <a:latin typeface="Arial"/>
                <a:ea typeface="Times New Roman"/>
              </a:rPr>
              <a:t>Pelit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derived from mudstones, shales, siltstone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LAB 6: </a:t>
            </a:r>
            <a:r>
              <a:rPr b="0" lang="en-US" sz="2200" spc="-1" strike="noStrike">
                <a:solidFill>
                  <a:srgbClr val="3333ff"/>
                </a:solidFill>
                <a:latin typeface="Arial"/>
                <a:ea typeface="Times New Roman"/>
              </a:rPr>
              <a:t>Oth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derived from felsic and ultramafic igneous rocks;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imestones, sandstone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533520" y="958680"/>
            <a:ext cx="8075520" cy="55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a) protolith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mafic or intermediate igneous rocks (basalts, gabbros,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ndesites, diorites) and their pyroclastic or volcano-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lastic equivalents (mafic tuffs, etc.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b) bulk composition  (= metabasit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relatively rich in Mg, Fe, Ca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relatively poor in Si, Al, K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c) mineral assemblag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amphibole + plagioclase ubiquitous except for unusual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-T conditions; compositions vary with grade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garnet, biotite, quartz, epidote, chlorite, pyroxene (cpx 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+/- opx), titanite,  ilmenite, apatite (depends on grade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d) textur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ranges from massive to foliated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relict features may be well preserved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2626560" y="25416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3300"/>
                </a:solidFill>
                <a:latin typeface="Lucida Sans"/>
              </a:rPr>
              <a:t>LAB MR-1: METABASI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9" descr="E:\Documents and Settings\Rebecca  Jamieson\My Documents\MinTeach\MetRx_Labs\MR_TS_photos\MR-5\DSCN0706.JPG"/>
          <p:cNvPicPr/>
          <p:nvPr/>
        </p:nvPicPr>
        <p:blipFill>
          <a:blip r:embed="rId1"/>
          <a:stretch/>
        </p:blipFill>
        <p:spPr>
          <a:xfrm>
            <a:off x="4952880" y="2622600"/>
            <a:ext cx="3996000" cy="2997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2"/>
          <p:cNvSpPr/>
          <p:nvPr/>
        </p:nvSpPr>
        <p:spPr>
          <a:xfrm>
            <a:off x="368280" y="806400"/>
            <a:ext cx="840600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a) protolith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fic or intermediate igneous rocks (basalts, gabbros, andesites, diorites) and their pyroclastic or volcano-clastic equivalents (mafic tuffs, volcanogenic sandstones etc.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if protolith obvious, rock name =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meta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 + protolith nam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626560" y="25416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3300"/>
                </a:solidFill>
                <a:latin typeface="Lucida Sans"/>
              </a:rPr>
              <a:t>LAB MR-1: METABASI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77" name="Picture 4" descr="E:\Documents and Settings\Rebecca  Jamieson\My Documents\MinTeach\OpMin_TS_photos\IgPet_Lab2\19194332.JPG"/>
          <p:cNvPicPr/>
          <p:nvPr/>
        </p:nvPicPr>
        <p:blipFill>
          <a:blip r:embed="rId2"/>
          <a:stretch/>
        </p:blipFill>
        <p:spPr>
          <a:xfrm>
            <a:off x="525600" y="2629080"/>
            <a:ext cx="3860640" cy="28954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7"/>
          <p:cNvSpPr/>
          <p:nvPr/>
        </p:nvSpPr>
        <p:spPr>
          <a:xfrm>
            <a:off x="576000" y="5533920"/>
            <a:ext cx="3783600" cy="97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IR-3: </a:t>
            </a:r>
            <a:r>
              <a:rPr b="1" lang="en-CA" sz="2000" spc="-1" strike="noStrike">
                <a:solidFill>
                  <a:srgbClr val="ff3300"/>
                </a:solidFill>
                <a:latin typeface="Lucida Sans"/>
              </a:rPr>
              <a:t>gabbr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plag laths with interstitial cp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Lucida Sans"/>
              </a:rPr>
              <a:t>(2.5 mm, PPL) ERTH 2002 Lab IR-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4969080" y="5546880"/>
            <a:ext cx="4044240" cy="97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MR-5: </a:t>
            </a:r>
            <a:r>
              <a:rPr b="1" lang="en-CA" sz="2000" spc="-1" strike="noStrike">
                <a:solidFill>
                  <a:srgbClr val="ff3300"/>
                </a:solidFill>
                <a:latin typeface="Lucida Sans"/>
              </a:rPr>
              <a:t>metagabbr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relict plag laths with relict cp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Lucida Sans"/>
              </a:rPr>
              <a:t>(6.25 mm, PPL) ERTH 2002 Lab MR-1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7"/>
          <p:cNvSpPr/>
          <p:nvPr/>
        </p:nvSpPr>
        <p:spPr>
          <a:xfrm>
            <a:off x="4969080" y="5521320"/>
            <a:ext cx="4044240" cy="97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MR-1:    </a:t>
            </a:r>
            <a:r>
              <a:rPr b="1" lang="en-CA" sz="2000" spc="-1" strike="noStrike">
                <a:solidFill>
                  <a:srgbClr val="ff3300"/>
                </a:solidFill>
                <a:latin typeface="Lucida Sans"/>
              </a:rPr>
              <a:t>???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amphibole in foliated matri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Lucida Sans"/>
              </a:rPr>
              <a:t>(6.25 mm, PPL) ERTH 2002 Lab MR-1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81" name="Picture 8" descr="E:\Documents and Settings\Rebecca  Jamieson\My Documents\MinTeach\MetRx_Labs\MR_TS_photos\MR-1\26205839.JPG"/>
          <p:cNvPicPr/>
          <p:nvPr/>
        </p:nvPicPr>
        <p:blipFill>
          <a:blip r:embed="rId1"/>
          <a:stretch/>
        </p:blipFill>
        <p:spPr>
          <a:xfrm>
            <a:off x="5003640" y="2631960"/>
            <a:ext cx="3873600" cy="29052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9"/>
          <p:cNvSpPr/>
          <p:nvPr/>
        </p:nvSpPr>
        <p:spPr>
          <a:xfrm>
            <a:off x="584280" y="2603520"/>
            <a:ext cx="3593880" cy="285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3300"/>
                </a:solidFill>
                <a:latin typeface="Lucida Sans"/>
              </a:rPr>
              <a:t>protolith?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368280" y="806400"/>
            <a:ext cx="840600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a) protolith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fic or intermediate igneous rocks (basalts, gabbros, andesites, diorites) and their pyroclastic or volcano-clastic equivalents (mafic tuffs, volcanogenic sandstones etc.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if protolith obvious, rock name =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meta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 + protolith nam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2626560" y="25416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3300"/>
                </a:solidFill>
                <a:latin typeface="Lucida Sans"/>
              </a:rPr>
              <a:t>LAB MR-1: METABASI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6"/>
          <p:cNvSpPr/>
          <p:nvPr/>
        </p:nvSpPr>
        <p:spPr>
          <a:xfrm>
            <a:off x="368280" y="806400"/>
            <a:ext cx="84060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b) bulk composition  (= metabasit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latively rich in Mg, Fe, Ca, relatively poor in Si, Al, K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flected in minerals present in rock (types, compositions, %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983160" y="2247840"/>
            <a:ext cx="71758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3333ff"/>
                </a:solidFill>
                <a:latin typeface="Lucida Sans"/>
              </a:rPr>
              <a:t>classification based on bulk composition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- find appropriate special name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- modify textural root term with compositional term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2626560" y="25416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3300"/>
                </a:solidFill>
                <a:latin typeface="Lucida Sans"/>
              </a:rPr>
              <a:t>LAB MR-1: METABASI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3"/>
          <p:cNvSpPr/>
          <p:nvPr/>
        </p:nvSpPr>
        <p:spPr>
          <a:xfrm>
            <a:off x="368280" y="806400"/>
            <a:ext cx="8406000" cy="15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b) bulk composition  (= metabasit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latively rich in Mg, Fe, Ca, relatively poor in Si, Al, K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flected in minerals present in rock (types, compositions, %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3333ff"/>
                </a:solidFill>
                <a:latin typeface="Arial"/>
                <a:ea typeface="Times New Roman"/>
              </a:rPr>
              <a:t>some special rock names that apply specifically to metabasites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657720" y="2413080"/>
            <a:ext cx="80157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3333ff"/>
                </a:solidFill>
                <a:latin typeface="Lucida Sans"/>
              </a:rPr>
              <a:t>greenschist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–</a:t>
            </a: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fine- to medium-grained metabasite with a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           </a:t>
            </a: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distinct foliation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, containing some combination of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           </a:t>
            </a: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chlorite +/- actinolite +/- epidot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3333ff"/>
                </a:solidFill>
                <a:latin typeface="Lucida Sans"/>
              </a:rPr>
              <a:t>greenstone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–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fine- to medium-grained </a:t>
            </a: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massive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 metabasite,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          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typically preserving some relict features, containing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          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some combination of </a:t>
            </a: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chlorite +/- actinolite +/- epidot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3333ff"/>
                </a:solidFill>
                <a:latin typeface="Lucida Sans"/>
              </a:rPr>
              <a:t>amphibolite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–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medium- to coarse-grained, </a:t>
            </a: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massive to foliate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           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metabasite consisting largely of </a:t>
            </a: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hornblende + plagioclas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3333ff"/>
                </a:solidFill>
                <a:latin typeface="Lucida Sans"/>
              </a:rPr>
              <a:t>granulite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–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medium- to coarse-grained, </a:t>
            </a: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massive to foliate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          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metabasite containing metamorphic </a:t>
            </a: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opx + cpx + plag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0" lang="en-CA" sz="1800" spc="-1" strike="noStrike">
                <a:solidFill>
                  <a:srgbClr val="000000"/>
                </a:solidFill>
                <a:latin typeface="Lucida Sans"/>
              </a:rPr>
              <a:t>others (e.g., blueschist, eclogite) will not be encountered this term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2626560" y="25416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3300"/>
                </a:solidFill>
                <a:latin typeface="Lucida Sans"/>
              </a:rPr>
              <a:t>LAB MR-1: METABASI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4969080" y="5521320"/>
            <a:ext cx="4044240" cy="97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MR-1:    </a:t>
            </a:r>
            <a:r>
              <a:rPr b="1" lang="en-CA" sz="2000" spc="-1" strike="noStrike">
                <a:solidFill>
                  <a:srgbClr val="ff3300"/>
                </a:solidFill>
                <a:latin typeface="Lucida Sans"/>
              </a:rPr>
              <a:t>???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amphibole in foliated matri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Lucida Sans"/>
              </a:rPr>
              <a:t>(6.25 mm, PPL) ERTH 2002 Lab MR-1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92" name="Picture 4" descr="E:\Documents and Settings\Rebecca  Jamieson\My Documents\MinTeach\MetRx_Labs\MR_TS_photos\MR-1\26205839.JPG"/>
          <p:cNvPicPr/>
          <p:nvPr/>
        </p:nvPicPr>
        <p:blipFill>
          <a:blip r:embed="rId1"/>
          <a:stretch/>
        </p:blipFill>
        <p:spPr>
          <a:xfrm>
            <a:off x="5003640" y="2631960"/>
            <a:ext cx="3873600" cy="29052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8"/>
          <p:cNvSpPr/>
          <p:nvPr/>
        </p:nvSpPr>
        <p:spPr>
          <a:xfrm>
            <a:off x="368280" y="806400"/>
            <a:ext cx="8406000" cy="15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b) bulk composition  (= metabasit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latively rich in Mg, Fe, Ca, relatively poor in Si, Al, K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flected in minerals present in rock (types, compositions, %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greenschist? greenstone? amphibolite? granulite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" name="Line 10"/>
          <p:cNvSpPr/>
          <p:nvPr/>
        </p:nvSpPr>
        <p:spPr>
          <a:xfrm>
            <a:off x="2984400" y="1981080"/>
            <a:ext cx="1067040" cy="4827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" name="Line 11"/>
          <p:cNvSpPr/>
          <p:nvPr/>
        </p:nvSpPr>
        <p:spPr>
          <a:xfrm flipV="1">
            <a:off x="3060720" y="1942920"/>
            <a:ext cx="888840" cy="5079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380880" y="3035160"/>
            <a:ext cx="42163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picking appropriate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special rock name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requires knowing 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mineralogy and texture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conversely, special rock names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convey information about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both mineralogy and texture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2626560" y="25416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3300"/>
                </a:solidFill>
                <a:latin typeface="Lucida Sans"/>
              </a:rPr>
              <a:t>LAB MR-1: METABASI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5902560" cy="58579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1154520" y="303120"/>
            <a:ext cx="50040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Lucida Sans"/>
              </a:rPr>
              <a:t>Rock-Mineral Associations?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6373800" y="6324480"/>
            <a:ext cx="1546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Lucida Sans"/>
              </a:rPr>
              <a:t>Nesse, Fig. 5.1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6353640" y="2606760"/>
            <a:ext cx="26114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mineral </a:t>
            </a:r>
            <a:r>
              <a:rPr b="1" lang="en-CA" sz="2400" spc="-1" strike="noStrike">
                <a:solidFill>
                  <a:srgbClr val="ff3300"/>
                </a:solidFill>
                <a:latin typeface="Lucida Sans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is a function of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6437520" y="3429000"/>
            <a:ext cx="24728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pressure (</a:t>
            </a:r>
            <a:r>
              <a:rPr b="1" lang="en-CA" sz="2800" spc="-1" strike="noStrike">
                <a:solidFill>
                  <a:srgbClr val="ff3300"/>
                </a:solidFill>
                <a:latin typeface="Lucida Sans"/>
              </a:rPr>
              <a:t>P</a:t>
            </a: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temperature (</a:t>
            </a:r>
            <a:r>
              <a:rPr b="1" lang="en-CA" sz="2800" spc="-1" strike="noStrike">
                <a:solidFill>
                  <a:srgbClr val="ff3300"/>
                </a:solidFill>
                <a:latin typeface="Lucida Sans"/>
              </a:rPr>
              <a:t>T</a:t>
            </a: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composition (</a:t>
            </a:r>
            <a:r>
              <a:rPr b="1" lang="en-CA" sz="2800" spc="-1" strike="noStrike">
                <a:solidFill>
                  <a:srgbClr val="ff3300"/>
                </a:solidFill>
                <a:latin typeface="Lucida Sans"/>
              </a:rPr>
              <a:t>X</a:t>
            </a: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" name="Oval 7"/>
          <p:cNvSpPr/>
          <p:nvPr/>
        </p:nvSpPr>
        <p:spPr>
          <a:xfrm>
            <a:off x="4064040" y="4483080"/>
            <a:ext cx="2184480" cy="6858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533520" y="844560"/>
            <a:ext cx="807552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c) mineral assemblage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reflects bulk composition and grade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amphibole + plagiocl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ubiquitous except for unusual P-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ditions; compositions vary with grad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arnet, biotite, quartz, epidote, chlorite, pyroxene (cpx +/- opx),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itanite, ilmenite, apatite (depends on grade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1093320" y="3251160"/>
            <a:ext cx="1939320" cy="23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ff"/>
                </a:solidFill>
                <a:latin typeface="Lucida Sans"/>
              </a:rPr>
              <a:t>amphibole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actinolit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hornblende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blue-green 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green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brown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4572000" y="3670200"/>
            <a:ext cx="0" cy="163836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3866760" y="3200400"/>
            <a:ext cx="140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3333ff"/>
                </a:solidFill>
                <a:latin typeface="Lucida Sans"/>
              </a:rPr>
              <a:t>lower P,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3798000" y="542304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3333ff"/>
                </a:solidFill>
                <a:latin typeface="Lucida Sans"/>
              </a:rPr>
              <a:t>higher P,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" name="Text Box 15"/>
          <p:cNvSpPr/>
          <p:nvPr/>
        </p:nvSpPr>
        <p:spPr>
          <a:xfrm>
            <a:off x="5825880" y="3429000"/>
            <a:ext cx="2759400" cy="17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ff"/>
                </a:solidFill>
                <a:latin typeface="Lucida Sans"/>
              </a:rPr>
              <a:t>plagioclase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albite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(An0-10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oligoclase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(An</a:t>
            </a:r>
            <a:r>
              <a:rPr b="0" lang="en-CA" sz="1800" spc="-1" strike="noStrike">
                <a:solidFill>
                  <a:srgbClr val="000000"/>
                </a:solidFill>
                <a:latin typeface="Lucida Sans"/>
              </a:rPr>
              <a:t>20-30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andesine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(An</a:t>
            </a:r>
            <a:r>
              <a:rPr b="0" lang="en-CA" sz="1800" spc="-1" strike="noStrike">
                <a:solidFill>
                  <a:srgbClr val="000000"/>
                </a:solidFill>
                <a:latin typeface="Lucida Sans"/>
              </a:rPr>
              <a:t>30-50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2626560" y="25416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3300"/>
                </a:solidFill>
                <a:latin typeface="Lucida Sans"/>
              </a:rPr>
              <a:t>LAB MR-1: METABASI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Line 5"/>
          <p:cNvSpPr/>
          <p:nvPr/>
        </p:nvSpPr>
        <p:spPr>
          <a:xfrm>
            <a:off x="1397160" y="3327480"/>
            <a:ext cx="0" cy="163836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691560" y="2857680"/>
            <a:ext cx="140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3333ff"/>
                </a:solidFill>
                <a:latin typeface="Lucida Sans"/>
              </a:rPr>
              <a:t>lower P,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623160" y="507996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3333ff"/>
                </a:solidFill>
                <a:latin typeface="Lucida Sans"/>
              </a:rPr>
              <a:t>higher P,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2600280" y="2693880"/>
            <a:ext cx="6365880" cy="30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3333ff"/>
                </a:solidFill>
                <a:latin typeface="Lucida Sans"/>
                <a:ea typeface="Arial"/>
              </a:rPr>
              <a:t>greenschist facies</a:t>
            </a:r>
            <a:r>
              <a:rPr b="0" lang="en-CA" sz="2200" spc="-1" strike="noStrike">
                <a:solidFill>
                  <a:srgbClr val="3333ff"/>
                </a:solidFill>
                <a:latin typeface="Lucida Sans"/>
                <a:ea typeface="Arial"/>
              </a:rPr>
              <a:t>:</a:t>
            </a:r>
            <a:r>
              <a:rPr b="0" lang="en-CA" sz="24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i="1" lang="en-CA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chlorite ± epidote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  </a:t>
            </a:r>
            <a:r>
              <a:rPr b="0" i="1" lang="en-CA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± albite (An</a:t>
            </a:r>
            <a:r>
              <a:rPr b="0" i="1" lang="en-CA" sz="18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0-10</a:t>
            </a:r>
            <a:r>
              <a:rPr b="0" i="1" lang="en-CA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) ± actinolite + quartz + titanit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3333ff"/>
                </a:solidFill>
                <a:latin typeface="Lucida Sans"/>
                <a:ea typeface="Arial"/>
              </a:rPr>
              <a:t>amphibolite facies</a:t>
            </a:r>
            <a:r>
              <a:rPr b="0" lang="en-CA" sz="2200" spc="-1" strike="noStrike">
                <a:solidFill>
                  <a:srgbClr val="3333ff"/>
                </a:solidFill>
                <a:latin typeface="Lucida Sans"/>
                <a:ea typeface="Arial"/>
              </a:rPr>
              <a:t>:</a:t>
            </a:r>
            <a:r>
              <a:rPr b="0" lang="en-CA" sz="24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i="1" lang="en-CA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hornblende +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    </a:t>
            </a:r>
            <a:r>
              <a:rPr b="0" i="1" lang="en-CA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plagioclase (An</a:t>
            </a:r>
            <a:r>
              <a:rPr b="0" i="1" lang="en-CA" sz="18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20-40</a:t>
            </a:r>
            <a:r>
              <a:rPr b="0" i="1" lang="en-CA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) + quartz ± biotite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   </a:t>
            </a:r>
            <a:r>
              <a:rPr b="0" i="1" lang="en-CA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± garnet ± titanite ± ilmenit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3333ff"/>
                </a:solidFill>
                <a:latin typeface="Lucida Sans"/>
                <a:ea typeface="Arial"/>
              </a:rPr>
              <a:t>granulite facies</a:t>
            </a:r>
            <a:r>
              <a:rPr b="0" lang="en-CA" sz="2200" spc="-1" strike="noStrike">
                <a:solidFill>
                  <a:srgbClr val="3333ff"/>
                </a:solidFill>
                <a:latin typeface="Lucida Sans"/>
                <a:ea typeface="Arial"/>
              </a:rPr>
              <a:t>:</a:t>
            </a:r>
            <a:r>
              <a:rPr b="0" lang="en-CA" sz="24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i="1" lang="en-CA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orthopyroxene +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  </a:t>
            </a:r>
            <a:r>
              <a:rPr b="0" i="1" lang="en-CA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clinopyroxene + plagioclase (An</a:t>
            </a:r>
            <a:r>
              <a:rPr b="0" i="1" lang="en-CA" sz="18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30-50</a:t>
            </a:r>
            <a:r>
              <a:rPr b="0" i="1" lang="en-CA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  </a:t>
            </a:r>
            <a:r>
              <a:rPr b="0" i="1" lang="en-CA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+ quartz + ilmenite  ± rutile  ±  garnet 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   </a:t>
            </a:r>
            <a:r>
              <a:rPr b="0" i="1" lang="en-CA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±  hornblende ±  biotite</a:t>
            </a: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1055880" y="5954760"/>
            <a:ext cx="6919560" cy="76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3333ff"/>
                </a:solidFill>
                <a:latin typeface="Lucida Sans"/>
              </a:rPr>
              <a:t>metamorphic facies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: a set of mineral assemblages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indicative of metamorphic P-T conditions (grade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533520" y="844560"/>
            <a:ext cx="807552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c) mineral assemblage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reflects bulk composition and grade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mphibole + plagioclase ubiquitous except for unusual P-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ditions; 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compositions vary with grad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arnet, biotite, quartz, epidote, chlorite, pyroxene (cpx +/- opx),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itanite, ilmenite, apatite (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depends on gra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2626560" y="25416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3300"/>
                </a:solidFill>
                <a:latin typeface="Lucida Sans"/>
              </a:rPr>
              <a:t>LAB MR-1: METABASI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6" descr="E:\Documents and Settings\Rebecca  Jamieson\My Documents\MinTeach\MetRx_Labs\MR_TS_photos\MR-1\26205955.JPG"/>
          <p:cNvPicPr/>
          <p:nvPr/>
        </p:nvPicPr>
        <p:blipFill>
          <a:blip r:embed="rId1"/>
          <a:stretch/>
        </p:blipFill>
        <p:spPr>
          <a:xfrm>
            <a:off x="469800" y="289548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E:\Documents and Settings\Rebecca  Jamieson\My Documents\MinTeach\MetRx_Labs\MR_TS_photos\MR-5\26223022.JPG"/>
          <p:cNvPicPr/>
          <p:nvPr/>
        </p:nvPicPr>
        <p:blipFill>
          <a:blip r:embed="rId2"/>
          <a:stretch/>
        </p:blipFill>
        <p:spPr>
          <a:xfrm>
            <a:off x="4902120" y="2889360"/>
            <a:ext cx="3924360" cy="2943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4"/>
          <p:cNvSpPr/>
          <p:nvPr/>
        </p:nvSpPr>
        <p:spPr>
          <a:xfrm>
            <a:off x="4969080" y="5703840"/>
            <a:ext cx="4044240" cy="97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MR-5: </a:t>
            </a:r>
            <a:r>
              <a:rPr b="1" lang="en-CA" sz="2000" spc="-1" strike="noStrike">
                <a:solidFill>
                  <a:srgbClr val="ff3300"/>
                </a:solidFill>
                <a:latin typeface="Lucida Sans"/>
              </a:rPr>
              <a:t>metagabbr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plag + gnt + px + amph + .....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Lucida Sans"/>
              </a:rPr>
              <a:t>(6.25 mm, PPL) ERTH 2002 Lab MR-1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466920" y="5691240"/>
            <a:ext cx="3912840" cy="97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MR-1:    </a:t>
            </a:r>
            <a:r>
              <a:rPr b="1" lang="en-CA" sz="2000" spc="-1" strike="noStrike">
                <a:solidFill>
                  <a:srgbClr val="ff3300"/>
                </a:solidFill>
                <a:latin typeface="Lucida Sans"/>
              </a:rPr>
              <a:t>????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amph + plag + qtz + .....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Lucida Sans"/>
              </a:rPr>
              <a:t>(2.5 mm, PPL) ERTH 2002 Lab MR-1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533520" y="844560"/>
            <a:ext cx="807552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c) mineral assemblag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amphibole + plagiocl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ubiquitous except for unusual P-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ditions; 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compositions vary with grad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arnet, biotite, quartz, epidote, chlorite, pyroxene (cpx +/- opx),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itanite, ilmenite, apatite (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depends on gra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2626560" y="25416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3300"/>
                </a:solidFill>
                <a:latin typeface="Lucida Sans"/>
              </a:rPr>
              <a:t>LAB MR-1: METABASI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533520" y="958680"/>
            <a:ext cx="8075520" cy="51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d) textur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ommon textures of metabasit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reli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inherite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(from protolith or earlier stage of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metamorphism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foli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planar fabric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(layering, alignment of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platy minerals, etc.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line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linear fabric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(stretching, alignment of 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longated minerals, etc.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porphyroblas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coarser-grained metamorphi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inerals in a finer-grained matrix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(cf. phenocryst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reaction tex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replacement of one (or more)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ineral by another mineral (or minerals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(pseudomorphs, reaction rims, coronas, etc.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2626560" y="25416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3300"/>
                </a:solidFill>
                <a:latin typeface="Lucida Sans"/>
              </a:rPr>
              <a:t>LAB MR-1: METABASI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9" descr="E:\Documents and Settings\Rebecca  Jamieson\My Documents\MinTeach\MetRx_Labs\MR_TS_photos\MR-5\DSCN0706.JPG"/>
          <p:cNvPicPr/>
          <p:nvPr/>
        </p:nvPicPr>
        <p:blipFill>
          <a:blip r:embed="rId1"/>
          <a:stretch/>
        </p:blipFill>
        <p:spPr>
          <a:xfrm>
            <a:off x="4889520" y="2343240"/>
            <a:ext cx="3995640" cy="2997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2"/>
          <p:cNvSpPr/>
          <p:nvPr/>
        </p:nvSpPr>
        <p:spPr>
          <a:xfrm>
            <a:off x="533520" y="958680"/>
            <a:ext cx="80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22" name="Picture 4" descr="E:\Documents and Settings\Rebecca  Jamieson\My Documents\MinTeach\OpMin_TS_photos\IgPet_Lab2\19194332.JPG"/>
          <p:cNvPicPr/>
          <p:nvPr/>
        </p:nvPicPr>
        <p:blipFill>
          <a:blip r:embed="rId2"/>
          <a:stretch/>
        </p:blipFill>
        <p:spPr>
          <a:xfrm>
            <a:off x="500040" y="2374920"/>
            <a:ext cx="3861000" cy="28954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550440" y="5280120"/>
            <a:ext cx="3783600" cy="97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IR-3: </a:t>
            </a:r>
            <a:r>
              <a:rPr b="1" lang="en-CA" sz="2000" spc="-1" strike="noStrike">
                <a:solidFill>
                  <a:srgbClr val="ff3300"/>
                </a:solidFill>
                <a:latin typeface="Lucida Sans"/>
              </a:rPr>
              <a:t>gabbr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plag laths with interstitial cp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Lucida Sans"/>
              </a:rPr>
              <a:t>(2.5 mm, PPL) ERTH 2002 Lab IR-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4902120" y="5267160"/>
            <a:ext cx="4103640" cy="97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MR-5: </a:t>
            </a:r>
            <a:r>
              <a:rPr b="1" lang="en-CA" sz="2000" spc="-1" strike="noStrike">
                <a:solidFill>
                  <a:srgbClr val="ff3300"/>
                </a:solidFill>
                <a:latin typeface="Lucida Sans"/>
              </a:rPr>
              <a:t>metagabbr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relict plag laths with relict cp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Lucida Sans"/>
              </a:rPr>
              <a:t>(6.25 mm, PPL) ERTH 2002 Lab  MR-1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609480" y="903240"/>
            <a:ext cx="853452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d) textur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ommon textures of metabasit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relict = inherite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(from protolith or earlier stage of metamorphism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2626560" y="25416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3300"/>
                </a:solidFill>
                <a:latin typeface="Lucida Sans"/>
              </a:rPr>
              <a:t>LAB MR-1: METABASI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533520" y="958680"/>
            <a:ext cx="80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304920" y="865080"/>
            <a:ext cx="883908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d) textur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ommon textures of metabasit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foliation = planar fab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(layering, alignment of platy minerals, etc.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4414680" y="2131920"/>
            <a:ext cx="4729320" cy="43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special types of foliation include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3333ff"/>
                </a:solidFill>
                <a:latin typeface="Lucida Sans"/>
              </a:rPr>
              <a:t>cleavage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–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tendency for rock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to split along closely spaced,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parallel plan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3333ff"/>
                </a:solidFill>
                <a:latin typeface="Lucida Sans"/>
              </a:rPr>
              <a:t>schistosity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–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defined by parall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alignment of platy mineral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(e.g., chlorite, mica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3333ff"/>
                </a:solidFill>
                <a:latin typeface="Lucida Sans"/>
              </a:rPr>
              <a:t>gneissosity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–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compositiona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layering in medium- to coarse-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grained rocks defined by variable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proportions of light and dark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mineral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30" name="Picture 13" descr="E:\Documents and Settings\Rebecca  Jamieson\My Documents\MinTeach\ERTH2002\Mineral of the Week\foliations3.jpg"/>
          <p:cNvPicPr/>
          <p:nvPr/>
        </p:nvPicPr>
        <p:blipFill>
          <a:blip r:embed="rId1"/>
          <a:stretch/>
        </p:blipFill>
        <p:spPr>
          <a:xfrm>
            <a:off x="163440" y="2328840"/>
            <a:ext cx="4146480" cy="35337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2626560" y="25416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3300"/>
                </a:solidFill>
                <a:latin typeface="Lucida Sans"/>
              </a:rPr>
              <a:t>LAB MR-1: METABASI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533520" y="958680"/>
            <a:ext cx="80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304920" y="865080"/>
            <a:ext cx="883908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d) textur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ommon textures of metabasit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foliation = planar fab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(layering, alignment of platy minerals, etc.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4414680" y="2131920"/>
            <a:ext cx="4729320" cy="43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special types of foliation include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3333ff"/>
                </a:solidFill>
                <a:latin typeface="Lucida Sans"/>
              </a:rPr>
              <a:t>cleavage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–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tendency for rock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to split along closely spaced,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parallel plan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3333ff"/>
                </a:solidFill>
                <a:latin typeface="Lucida Sans"/>
              </a:rPr>
              <a:t>schistosity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–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defined by parall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alignment of platy mineral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(e.g., chlorite, mica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3333ff"/>
                </a:solidFill>
                <a:latin typeface="Lucida Sans"/>
              </a:rPr>
              <a:t>gneissosity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–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compositiona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layering in medium- to coarse-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grained rocks defined by variable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proportions of light and dark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mineral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35" name="Picture 7" descr="E:\Documents and Settings\Rebecca  Jamieson\My Documents\MinTeach\MetRx_Labs\MR_TS_photos\MR-1\26205839.JPG"/>
          <p:cNvPicPr/>
          <p:nvPr/>
        </p:nvPicPr>
        <p:blipFill>
          <a:blip r:embed="rId1"/>
          <a:stretch/>
        </p:blipFill>
        <p:spPr>
          <a:xfrm>
            <a:off x="355680" y="2365200"/>
            <a:ext cx="3873600" cy="29052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8"/>
          <p:cNvSpPr/>
          <p:nvPr/>
        </p:nvSpPr>
        <p:spPr>
          <a:xfrm>
            <a:off x="483120" y="5241960"/>
            <a:ext cx="3629520" cy="97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MR-1: </a:t>
            </a:r>
            <a:r>
              <a:rPr b="0" lang="en-CA" sz="1800" spc="-1" strike="noStrike">
                <a:solidFill>
                  <a:srgbClr val="000000"/>
                </a:solidFill>
                <a:latin typeface="Lucida Sans"/>
              </a:rPr>
              <a:t>(6.25 mm, PPL)</a:t>
            </a: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amphibole in foliated matri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Lucida Sans"/>
              </a:rPr>
              <a:t>ERTH 2002 Lab 4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7" name="Line 9"/>
          <p:cNvSpPr/>
          <p:nvPr/>
        </p:nvSpPr>
        <p:spPr>
          <a:xfrm>
            <a:off x="660240" y="4330800"/>
            <a:ext cx="3086280" cy="279360"/>
          </a:xfrm>
          <a:prstGeom prst="line">
            <a:avLst/>
          </a:prstGeom>
          <a:ln w="284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1749240" y="451800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00"/>
                </a:solidFill>
                <a:latin typeface="Lucida Sans"/>
              </a:rPr>
              <a:t>S</a:t>
            </a:r>
            <a:r>
              <a:rPr b="1" lang="en-CA" sz="1800" spc="-1" strike="noStrike">
                <a:solidFill>
                  <a:srgbClr val="ffff00"/>
                </a:solidFill>
                <a:latin typeface="Lucida San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2626560" y="25416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3300"/>
                </a:solidFill>
                <a:latin typeface="Lucida Sans"/>
              </a:rPr>
              <a:t>LAB MR-1: METABASI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533520" y="958680"/>
            <a:ext cx="80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152280" y="865080"/>
            <a:ext cx="899172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d) textur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ommon textures of metabasit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lineation = linear fab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stretching, alignment of elongated minerals, etc.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4368960" y="2209680"/>
            <a:ext cx="477504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special types of lineation include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3333ff"/>
                </a:solidFill>
                <a:latin typeface="Lucida Sans"/>
              </a:rPr>
              <a:t>stretching lineation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–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defined by stretched minerals or mineral aggregat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3333ff"/>
                </a:solidFill>
                <a:latin typeface="Lucida Sans"/>
              </a:rPr>
              <a:t>mineral lineation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–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defined by parallel alignment of long axes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of elongated mineral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3333ff"/>
                </a:solidFill>
                <a:latin typeface="Lucida Sans"/>
              </a:rPr>
              <a:t>intersection lineation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–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defined by intersection of two planar fabric elemen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43" name="Picture 10" descr="E:\Documents and Settings\Rebecca  Jamieson\My Documents\MinTeach\MetRx_Labs\lineations2.jpg"/>
          <p:cNvPicPr/>
          <p:nvPr/>
        </p:nvPicPr>
        <p:blipFill>
          <a:blip r:embed="rId1"/>
          <a:stretch/>
        </p:blipFill>
        <p:spPr>
          <a:xfrm>
            <a:off x="473040" y="1730520"/>
            <a:ext cx="3727440" cy="497016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3"/>
          <p:cNvSpPr/>
          <p:nvPr/>
        </p:nvSpPr>
        <p:spPr>
          <a:xfrm>
            <a:off x="2626560" y="25416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3300"/>
                </a:solidFill>
                <a:latin typeface="Lucida Sans"/>
              </a:rPr>
              <a:t>LAB MR-1: METABASI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533520" y="958680"/>
            <a:ext cx="80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152280" y="865080"/>
            <a:ext cx="8991720" cy="12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d) textur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ommon textures of metabasit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porphyroblas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oarser-grained minerals in a finer-grained matrix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cf. phenocrysts in igneous rock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431640" y="5305320"/>
            <a:ext cx="375948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MR-1: </a:t>
            </a:r>
            <a:r>
              <a:rPr b="0" lang="en-CA" sz="1800" spc="-1" strike="noStrike">
                <a:solidFill>
                  <a:srgbClr val="000000"/>
                </a:solidFill>
                <a:latin typeface="Lucida Sans"/>
              </a:rPr>
              <a:t>(6.25 mm, PPL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amphibole porphyroblasts in finer-grained foliated matrix</a:t>
            </a:r>
            <a:r>
              <a:rPr b="0" lang="en-CA" sz="1800" spc="-1" strike="noStrike">
                <a:solidFill>
                  <a:srgbClr val="000000"/>
                </a:solidFill>
                <a:latin typeface="Lucida Sans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48" name="Picture 8" descr="E:\Documents and Settings\Rebecca  Jamieson\My Documents\MinTeach\MetRx_Labs\MR_TS_photos\MR-1\26210637.JPG"/>
          <p:cNvPicPr/>
          <p:nvPr/>
        </p:nvPicPr>
        <p:blipFill>
          <a:blip r:embed="rId1"/>
          <a:stretch/>
        </p:blipFill>
        <p:spPr>
          <a:xfrm>
            <a:off x="236520" y="2184480"/>
            <a:ext cx="4183200" cy="31366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10"/>
          <p:cNvSpPr/>
          <p:nvPr/>
        </p:nvSpPr>
        <p:spPr>
          <a:xfrm>
            <a:off x="4784760" y="228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4724280" y="2220840"/>
            <a:ext cx="4151520" cy="43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porphyroblast </a:t>
            </a:r>
            <a:r>
              <a:rPr b="0" lang="en-CA" sz="2200" spc="-1" strike="noStrike">
                <a:solidFill>
                  <a:srgbClr val="3333ff"/>
                </a:solidFill>
                <a:latin typeface="Lucida Sans"/>
              </a:rPr>
              <a:t>shapes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can be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described as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3333ff"/>
                </a:solidFill>
                <a:latin typeface="Lucida Sans"/>
              </a:rPr>
              <a:t>euhedral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0" i="1" lang="en-CA" sz="2200" spc="-1" strike="noStrike">
                <a:solidFill>
                  <a:srgbClr val="000000"/>
                </a:solidFill>
                <a:latin typeface="Lucida Sans"/>
              </a:rPr>
              <a:t>or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  idioblastic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3333ff"/>
                </a:solidFill>
                <a:latin typeface="Lucida Sans"/>
              </a:rPr>
              <a:t>subhedral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0" i="1" lang="en-CA" sz="2200" spc="-1" strike="noStrike">
                <a:solidFill>
                  <a:srgbClr val="000000"/>
                </a:solidFill>
                <a:latin typeface="Lucida Sans"/>
              </a:rPr>
              <a:t>or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  subidioblastic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3333ff"/>
                </a:solidFill>
                <a:latin typeface="Lucida Sans"/>
              </a:rPr>
              <a:t>anhedral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0" i="1" lang="en-CA" sz="2200" spc="-1" strike="noStrike">
                <a:solidFill>
                  <a:srgbClr val="000000"/>
                </a:solidFill>
                <a:latin typeface="Lucida Sans"/>
              </a:rPr>
              <a:t>or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  xenoblastic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because porphyroblasts grow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from a solid matrix, they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generally contain </a:t>
            </a:r>
            <a:r>
              <a:rPr b="1" lang="en-CA" sz="2200" spc="-1" strike="noStrike">
                <a:solidFill>
                  <a:srgbClr val="3333ff"/>
                </a:solidFill>
                <a:latin typeface="Lucida Sans"/>
              </a:rPr>
              <a:t>inclusions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that </a:t>
            </a:r>
            <a:r>
              <a:rPr b="0" lang="en-CA" sz="2000" spc="-1" strike="noStrike">
                <a:solidFill>
                  <a:srgbClr val="3333ff"/>
                </a:solidFill>
                <a:latin typeface="Lucida Sans"/>
              </a:rPr>
              <a:t>may preserve an earlier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3333ff"/>
                </a:solidFill>
                <a:latin typeface="Lucida Sans"/>
              </a:rPr>
              <a:t>stage of the metamorphic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3333ff"/>
                </a:solidFill>
                <a:latin typeface="Lucida Sans"/>
              </a:rPr>
              <a:t>history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 (minerals +/- texture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= 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poikiloblastic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 textur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2626560" y="25416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3300"/>
                </a:solidFill>
                <a:latin typeface="Lucida Sans"/>
              </a:rPr>
              <a:t>LAB MR-1: METABASI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533520" y="958680"/>
            <a:ext cx="80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52280" y="865080"/>
            <a:ext cx="8991720" cy="12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d) textur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ommon textures of metabasit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reaction tex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replacement of one (or more) minerals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(reactants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by one (or more) new minerals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(products)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425520" y="5153040"/>
            <a:ext cx="3795480" cy="128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MR-5:  </a:t>
            </a:r>
            <a:r>
              <a:rPr b="1" lang="en-CA" sz="2000" spc="-1" strike="noStrike">
                <a:solidFill>
                  <a:srgbClr val="ff3300"/>
                </a:solidFill>
                <a:latin typeface="Lucida Sans"/>
              </a:rPr>
              <a:t>metagabbr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reaction rim (corona) betwee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plagioclase + another mineral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Lucida Sans"/>
              </a:rPr>
              <a:t>(6.25 mm, PPL) ERTH 2002 Lab 4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55" name="Picture 7" descr="E:\Documents and Settings\Rebecca  Jamieson\My Documents\MinTeach\MetRx_Labs\MR_TS_photos\MR-5\26224704.JPG"/>
          <p:cNvPicPr/>
          <p:nvPr/>
        </p:nvPicPr>
        <p:blipFill>
          <a:blip r:embed="rId1"/>
          <a:stretch/>
        </p:blipFill>
        <p:spPr>
          <a:xfrm>
            <a:off x="406440" y="2268360"/>
            <a:ext cx="3873600" cy="29052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8"/>
          <p:cNvSpPr/>
          <p:nvPr/>
        </p:nvSpPr>
        <p:spPr>
          <a:xfrm>
            <a:off x="4453560" y="2332080"/>
            <a:ext cx="444024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reaction textures include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3333ff"/>
                </a:solidFill>
                <a:latin typeface="Lucida Sans"/>
              </a:rPr>
              <a:t>pseudomorph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–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replacement by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one or more minerals, where shap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of the original grain is preserve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3333ff"/>
                </a:solidFill>
                <a:latin typeface="Lucida Sans"/>
              </a:rPr>
              <a:t>reaction rim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–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reactant rimmed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by one or more product mineral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3333ff"/>
                </a:solidFill>
                <a:latin typeface="Lucida Sans"/>
              </a:rPr>
              <a:t>corona</a:t>
            </a:r>
            <a:r>
              <a:rPr b="0" lang="en-CA" sz="2200" spc="-1" strike="noStrike">
                <a:solidFill>
                  <a:srgbClr val="000000"/>
                </a:solidFill>
                <a:latin typeface="Lucida Sans"/>
              </a:rPr>
              <a:t> – 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reaction rim where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reaction products form concentric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zones around/between original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(reactant) mineral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2626560" y="25416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3300"/>
                </a:solidFill>
                <a:latin typeface="Lucida Sans"/>
              </a:rPr>
              <a:t>LAB MR-1: METABASI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6"/>
          <p:cNvSpPr/>
          <p:nvPr/>
        </p:nvSpPr>
        <p:spPr>
          <a:xfrm>
            <a:off x="339840" y="2168640"/>
            <a:ext cx="8464320" cy="32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..... any </a:t>
            </a:r>
            <a:r>
              <a:rPr b="0" lang="en-US" sz="2400" spc="-1" strike="noStrike">
                <a:solidFill>
                  <a:srgbClr val="ff3300"/>
                </a:solidFill>
                <a:latin typeface="Lucida Sans"/>
                <a:ea typeface="Arial"/>
              </a:rPr>
              <a:t>dominantly solid-state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 process that produc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a </a:t>
            </a:r>
            <a:r>
              <a:rPr b="0" lang="en-US" sz="2400" spc="-1" strike="noStrike">
                <a:solidFill>
                  <a:srgbClr val="ff3300"/>
                </a:solidFill>
                <a:latin typeface="Lucida Sans"/>
                <a:ea typeface="Arial"/>
              </a:rPr>
              <a:t>change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 in the physical, mineralogical, textural,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or chemical character of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a </a:t>
            </a:r>
            <a:r>
              <a:rPr b="0" lang="en-US" sz="2400" spc="-1" strike="noStrike">
                <a:solidFill>
                  <a:srgbClr val="ff3300"/>
                </a:solidFill>
                <a:latin typeface="Lucida Sans"/>
                <a:ea typeface="Arial"/>
              </a:rPr>
              <a:t>pre-existing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 igneous, sedimentary, or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metamorphic rock, in response t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Lucida Sans"/>
                <a:ea typeface="Arial"/>
              </a:rPr>
              <a:t>      </a:t>
            </a:r>
            <a:r>
              <a:rPr b="0" lang="en-US" sz="2400" spc="-1" strike="noStrike">
                <a:solidFill>
                  <a:srgbClr val="ff3300"/>
                </a:solidFill>
                <a:latin typeface="Lucida Sans"/>
                <a:ea typeface="Arial"/>
              </a:rPr>
              <a:t>changes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 in pressure (</a:t>
            </a:r>
            <a:r>
              <a:rPr b="1" lang="en-US" sz="2400" spc="-1" strike="noStrike">
                <a:solidFill>
                  <a:srgbClr val="ff3300"/>
                </a:solidFill>
                <a:latin typeface="Lucida Sans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), temperature (</a:t>
            </a:r>
            <a:r>
              <a:rPr b="1" lang="en-US" sz="2400" spc="-1" strike="noStrike">
                <a:solidFill>
                  <a:srgbClr val="ff3300"/>
                </a:solidFill>
                <a:latin typeface="Lucida Sans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), chemical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environment (</a:t>
            </a:r>
            <a:r>
              <a:rPr b="1" lang="en-US" sz="2400" spc="-1" strike="noStrike">
                <a:solidFill>
                  <a:srgbClr val="ff3300"/>
                </a:solidFill>
                <a:latin typeface="Lucida Sans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), or stress field (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2153520" y="560520"/>
            <a:ext cx="483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3300"/>
                </a:solidFill>
                <a:latin typeface="Lucida Sans"/>
              </a:rPr>
              <a:t>What is metamorphism?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2203920" y="1308240"/>
            <a:ext cx="473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(meta = change;  morph = form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3"/>
          <p:cNvSpPr/>
          <p:nvPr/>
        </p:nvSpPr>
        <p:spPr>
          <a:xfrm>
            <a:off x="181080" y="936720"/>
            <a:ext cx="8721720" cy="12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3300"/>
                </a:solidFill>
                <a:latin typeface="Lucida Sans"/>
              </a:rPr>
              <a:t>Classification/nomenclature</a:t>
            </a: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 according to IUG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a) </a:t>
            </a:r>
            <a:r>
              <a:rPr b="0" lang="en-US" sz="2200" spc="-1" strike="noStrike">
                <a:solidFill>
                  <a:srgbClr val="ff3300"/>
                </a:solidFill>
                <a:latin typeface="Lucida Sans"/>
                <a:ea typeface="Times New Roman"/>
              </a:rPr>
              <a:t>protolith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– 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do features inherited from protolith dominate?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if so,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add </a:t>
            </a:r>
            <a:r>
              <a:rPr b="1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meta-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 to original rock name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2626560" y="25416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3300"/>
                </a:solidFill>
                <a:latin typeface="Lucida Sans"/>
              </a:rPr>
              <a:t>LAB MR-1: METABASI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"/>
          <p:cNvSpPr/>
          <p:nvPr/>
        </p:nvSpPr>
        <p:spPr>
          <a:xfrm>
            <a:off x="181080" y="936720"/>
            <a:ext cx="8721720" cy="27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3300"/>
                </a:solidFill>
                <a:latin typeface="Lucida Sans"/>
              </a:rPr>
              <a:t>Classification/nomenclature</a:t>
            </a: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 according to IUG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a) </a:t>
            </a:r>
            <a:r>
              <a:rPr b="0" lang="en-US" sz="2200" spc="-1" strike="noStrike">
                <a:solidFill>
                  <a:srgbClr val="ff3300"/>
                </a:solidFill>
                <a:latin typeface="Lucida Sans"/>
                <a:ea typeface="Times New Roman"/>
              </a:rPr>
              <a:t>protolith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– 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do features inherited from protolith dominate?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if so,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add </a:t>
            </a:r>
            <a:r>
              <a:rPr b="1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meta-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 to original rock name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b) </a:t>
            </a:r>
            <a:r>
              <a:rPr b="0" lang="en-US" sz="2200" spc="-1" strike="noStrike">
                <a:solidFill>
                  <a:srgbClr val="ff3300"/>
                </a:solidFill>
                <a:latin typeface="Lucida Sans"/>
                <a:ea typeface="Times New Roman"/>
              </a:rPr>
              <a:t>bulk composition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– 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is there a special rock name that fits this bulk composition?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  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if so, use it! 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(alternatively, modify textural root name with compositional term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2626560" y="25416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3300"/>
                </a:solidFill>
                <a:latin typeface="Lucida Sans"/>
              </a:rPr>
              <a:t>LAB MR-1: METABASI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3"/>
          <p:cNvSpPr/>
          <p:nvPr/>
        </p:nvSpPr>
        <p:spPr>
          <a:xfrm>
            <a:off x="181080" y="936720"/>
            <a:ext cx="8721720" cy="37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3300"/>
                </a:solidFill>
                <a:latin typeface="Lucida Sans"/>
              </a:rPr>
              <a:t>Classification/nomenclature</a:t>
            </a: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 according to IUG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a) </a:t>
            </a:r>
            <a:r>
              <a:rPr b="0" lang="en-US" sz="2200" spc="-1" strike="noStrike">
                <a:solidFill>
                  <a:srgbClr val="ff3300"/>
                </a:solidFill>
                <a:latin typeface="Lucida Sans"/>
                <a:ea typeface="Times New Roman"/>
              </a:rPr>
              <a:t>protolith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– 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do features inherited from protolith dominate?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if so,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add </a:t>
            </a:r>
            <a:r>
              <a:rPr b="1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meta-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 to original rock name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b) </a:t>
            </a:r>
            <a:r>
              <a:rPr b="0" lang="en-US" sz="2200" spc="-1" strike="noStrike">
                <a:solidFill>
                  <a:srgbClr val="ff3300"/>
                </a:solidFill>
                <a:latin typeface="Lucida Sans"/>
                <a:ea typeface="Times New Roman"/>
              </a:rPr>
              <a:t>bulk composition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– 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is there a special rock name that fits this bulk composition?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  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if so, use it! 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(alternatively, modify textural root name with compositional term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c) </a:t>
            </a:r>
            <a:r>
              <a:rPr b="0" lang="en-US" sz="2200" spc="-1" strike="noStrike">
                <a:solidFill>
                  <a:srgbClr val="ff3300"/>
                </a:solidFill>
                <a:latin typeface="Lucida Sans"/>
                <a:ea typeface="Times New Roman"/>
              </a:rPr>
              <a:t>mineral assemblage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– 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are one or two minerals in the rock particularly important?    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if so, add mineral name(s) to root name based on texture </a:t>
            </a:r>
            <a:r>
              <a:rPr b="0" i="1" lang="en-US" sz="20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(see below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2626560" y="25416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3300"/>
                </a:solidFill>
                <a:latin typeface="Lucida Sans"/>
              </a:rPr>
              <a:t>LAB MR-1: METABASI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3"/>
          <p:cNvSpPr/>
          <p:nvPr/>
        </p:nvSpPr>
        <p:spPr>
          <a:xfrm>
            <a:off x="181080" y="936720"/>
            <a:ext cx="8721720" cy="58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3300"/>
                </a:solidFill>
                <a:latin typeface="Lucida Sans"/>
              </a:rPr>
              <a:t>Classification/nomenclature</a:t>
            </a: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 according to IUG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a) </a:t>
            </a:r>
            <a:r>
              <a:rPr b="0" lang="en-US" sz="2200" spc="-1" strike="noStrike">
                <a:solidFill>
                  <a:srgbClr val="ff3300"/>
                </a:solidFill>
                <a:latin typeface="Lucida Sans"/>
                <a:ea typeface="Times New Roman"/>
              </a:rPr>
              <a:t>protolith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– 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do features inherited from protolith dominate?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if so,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add </a:t>
            </a:r>
            <a:r>
              <a:rPr b="1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meta-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 to original rock name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b) </a:t>
            </a:r>
            <a:r>
              <a:rPr b="0" lang="en-US" sz="2200" spc="-1" strike="noStrike">
                <a:solidFill>
                  <a:srgbClr val="ff3300"/>
                </a:solidFill>
                <a:latin typeface="Lucida Sans"/>
                <a:ea typeface="Times New Roman"/>
              </a:rPr>
              <a:t>bulk composition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– 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is there a special rock name that fits this bulk composition?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  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if so, use it! 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(alternatively, modify textural root name with compositional term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c) </a:t>
            </a:r>
            <a:r>
              <a:rPr b="0" lang="en-US" sz="2200" spc="-1" strike="noStrike">
                <a:solidFill>
                  <a:srgbClr val="ff3300"/>
                </a:solidFill>
                <a:latin typeface="Lucida Sans"/>
                <a:ea typeface="Times New Roman"/>
              </a:rPr>
              <a:t>mineral assemblage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– 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are one or two minerals in the rock particularly important?    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if so, add mineral name(s) to root name based on texture </a:t>
            </a:r>
            <a:r>
              <a:rPr b="0" i="1" lang="en-US" sz="20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(see below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d) </a:t>
            </a:r>
            <a:r>
              <a:rPr b="0" lang="en-US" sz="2200" spc="-1" strike="noStrike">
                <a:solidFill>
                  <a:srgbClr val="ff3300"/>
                </a:solidFill>
                <a:latin typeface="Lucida Sans"/>
                <a:ea typeface="Times New Roman"/>
              </a:rPr>
              <a:t>texture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 – 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is there a special rock name that fits this texture?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if so, use it!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if not....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is the rock foliated?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if </a:t>
            </a:r>
            <a:r>
              <a:rPr b="1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not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, use term “</a:t>
            </a:r>
            <a:r>
              <a:rPr b="1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granofels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does the rock have a foliation defined by alignment of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sheet silicates?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if so, use term “</a:t>
            </a:r>
            <a:r>
              <a:rPr b="1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schist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”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is the rock medium- to coarse-grained, with pronounced cm-scale compositional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banding?    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if so, use term “</a:t>
            </a:r>
            <a:r>
              <a:rPr b="1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gneiss</a:t>
            </a:r>
            <a:r>
              <a:rPr b="0" lang="en-US" sz="2200" spc="-1" strike="noStrike">
                <a:solidFill>
                  <a:srgbClr val="3333ff"/>
                </a:solidFill>
                <a:latin typeface="Lucida Sans"/>
                <a:ea typeface="Times New Roman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2626560" y="25416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3300"/>
                </a:solidFill>
                <a:latin typeface="Lucida Sans"/>
              </a:rPr>
              <a:t>LAB MR-1: METABASI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3"/>
          <p:cNvSpPr/>
          <p:nvPr/>
        </p:nvSpPr>
        <p:spPr>
          <a:xfrm>
            <a:off x="231840" y="885960"/>
            <a:ext cx="86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Classification/nomenclature of </a:t>
            </a:r>
            <a:r>
              <a:rPr b="1" lang="en-CA" sz="2400" spc="-1" strike="noStrike">
                <a:solidFill>
                  <a:srgbClr val="ff3300"/>
                </a:solidFill>
                <a:latin typeface="Lucida Sans"/>
              </a:rPr>
              <a:t>MR-1</a:t>
            </a: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1" lang="en-CA" sz="2400" spc="-1" strike="noStrike">
                <a:solidFill>
                  <a:srgbClr val="ff3300"/>
                </a:solidFill>
                <a:latin typeface="Lucida Sans"/>
              </a:rPr>
              <a:t>MR-5</a:t>
            </a: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 based on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67" name="Picture 4" descr="E:\Documents and Settings\Rebecca  Jamieson\My Documents\MinTeach\MetRx_Labs\MR_TS_photos\MR-1\26205839.JPG"/>
          <p:cNvPicPr/>
          <p:nvPr/>
        </p:nvPicPr>
        <p:blipFill>
          <a:blip r:embed="rId1"/>
          <a:stretch/>
        </p:blipFill>
        <p:spPr>
          <a:xfrm>
            <a:off x="1854360" y="1504800"/>
            <a:ext cx="3340080" cy="25052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E:\Documents and Settings\Rebecca  Jamieson\My Documents\MinTeach\MetRx_Labs\MR_TS_photos\MR-5\26223022.JPG"/>
          <p:cNvPicPr/>
          <p:nvPr/>
        </p:nvPicPr>
        <p:blipFill>
          <a:blip r:embed="rId2"/>
          <a:stretch/>
        </p:blipFill>
        <p:spPr>
          <a:xfrm>
            <a:off x="5635800" y="1508040"/>
            <a:ext cx="3317760" cy="24894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6"/>
          <p:cNvSpPr/>
          <p:nvPr/>
        </p:nvSpPr>
        <p:spPr>
          <a:xfrm>
            <a:off x="5733000" y="3925800"/>
            <a:ext cx="3140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MR-5:          </a:t>
            </a:r>
            <a:r>
              <a:rPr b="0" lang="en-CA" sz="1800" spc="-1" strike="noStrike">
                <a:solidFill>
                  <a:srgbClr val="000000"/>
                </a:solidFill>
                <a:latin typeface="Lucida Sans"/>
              </a:rPr>
              <a:t>(6.25 mm, PPL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1959480" y="3933720"/>
            <a:ext cx="3140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MR-1:          </a:t>
            </a:r>
            <a:r>
              <a:rPr b="0" lang="en-CA" sz="1800" spc="-1" strike="noStrike">
                <a:solidFill>
                  <a:srgbClr val="000000"/>
                </a:solidFill>
                <a:latin typeface="Lucida Sans"/>
              </a:rPr>
              <a:t>(6.25 mm, PPL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244440" y="4392720"/>
            <a:ext cx="865512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protolith: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     </a:t>
            </a: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bulk composition:   </a:t>
            </a:r>
            <a:r>
              <a:rPr b="0" lang="en-CA" sz="2000" spc="-1" strike="noStrike">
                <a:solidFill>
                  <a:srgbClr val="3333ff"/>
                </a:solidFill>
                <a:latin typeface="Lucida Sans"/>
              </a:rPr>
              <a:t>= metabasite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	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mineral assemblage: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	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texture: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2626560" y="25416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3300"/>
                </a:solidFill>
                <a:latin typeface="Lucida Sans"/>
              </a:rPr>
              <a:t>LAB MR-1: METABASI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3"/>
          <p:cNvSpPr/>
          <p:nvPr/>
        </p:nvSpPr>
        <p:spPr>
          <a:xfrm>
            <a:off x="231840" y="885960"/>
            <a:ext cx="86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Classification/nomenclature of </a:t>
            </a:r>
            <a:r>
              <a:rPr b="1" lang="en-CA" sz="2400" spc="-1" strike="noStrike">
                <a:solidFill>
                  <a:srgbClr val="ff3300"/>
                </a:solidFill>
                <a:latin typeface="Lucida Sans"/>
              </a:rPr>
              <a:t>MR-1</a:t>
            </a: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1" lang="en-CA" sz="2400" spc="-1" strike="noStrike">
                <a:solidFill>
                  <a:srgbClr val="ff3300"/>
                </a:solidFill>
                <a:latin typeface="Lucida Sans"/>
              </a:rPr>
              <a:t>MR-5</a:t>
            </a: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 based on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74" name="Picture 4" descr="E:\Documents and Settings\Rebecca  Jamieson\My Documents\MinTeach\MetRx_Labs\MR_TS_photos\MR-1\26205839.JPG"/>
          <p:cNvPicPr/>
          <p:nvPr/>
        </p:nvPicPr>
        <p:blipFill>
          <a:blip r:embed="rId1"/>
          <a:stretch/>
        </p:blipFill>
        <p:spPr>
          <a:xfrm>
            <a:off x="1854360" y="1504800"/>
            <a:ext cx="3340080" cy="25052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E:\Documents and Settings\Rebecca  Jamieson\My Documents\MinTeach\MetRx_Labs\MR_TS_photos\MR-5\26223022.JPG"/>
          <p:cNvPicPr/>
          <p:nvPr/>
        </p:nvPicPr>
        <p:blipFill>
          <a:blip r:embed="rId2"/>
          <a:stretch/>
        </p:blipFill>
        <p:spPr>
          <a:xfrm>
            <a:off x="5635800" y="1508040"/>
            <a:ext cx="3317760" cy="24894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6"/>
          <p:cNvSpPr/>
          <p:nvPr/>
        </p:nvSpPr>
        <p:spPr>
          <a:xfrm>
            <a:off x="5733000" y="3925800"/>
            <a:ext cx="3140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MR-5:          </a:t>
            </a:r>
            <a:r>
              <a:rPr b="0" lang="en-CA" sz="1800" spc="-1" strike="noStrike">
                <a:solidFill>
                  <a:srgbClr val="000000"/>
                </a:solidFill>
                <a:latin typeface="Lucida Sans"/>
              </a:rPr>
              <a:t>(6.25 mm, PPL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1959480" y="3933720"/>
            <a:ext cx="3140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MR-1:          </a:t>
            </a:r>
            <a:r>
              <a:rPr b="0" lang="en-CA" sz="1800" spc="-1" strike="noStrike">
                <a:solidFill>
                  <a:srgbClr val="000000"/>
                </a:solidFill>
                <a:latin typeface="Lucida Sans"/>
              </a:rPr>
              <a:t>(6.25 mm, PPL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244440" y="4392720"/>
            <a:ext cx="865512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protolith: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     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????</a:t>
            </a: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           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metagabbr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bulk composition: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greenschist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	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	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	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metagabbr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8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0" i="1" lang="en-CA" sz="1800" spc="-1" strike="noStrike">
                <a:solidFill>
                  <a:srgbClr val="000000"/>
                </a:solidFill>
                <a:latin typeface="Lucida Sans"/>
              </a:rPr>
              <a:t>(=metabasite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mineral assemblage: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greenschist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	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	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   gnt-px metagabbr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texture: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greenschist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coronitic metagabbr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2626560" y="25416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3300"/>
                </a:solidFill>
                <a:latin typeface="Lucida Sans"/>
              </a:rPr>
              <a:t>LAB MR-1: METABASI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1028" descr="E:\Documents and Settings\Rebecca  Jamieson\My Documents\MinTeach\MetRx_Labs\MR_TS_photos\MR-1\26205839.JPG"/>
          <p:cNvPicPr/>
          <p:nvPr/>
        </p:nvPicPr>
        <p:blipFill>
          <a:blip r:embed="rId1"/>
          <a:stretch/>
        </p:blipFill>
        <p:spPr>
          <a:xfrm>
            <a:off x="1854360" y="1504800"/>
            <a:ext cx="3340080" cy="2505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029" descr="E:\Documents and Settings\Rebecca  Jamieson\My Documents\MinTeach\MetRx_Labs\MR_TS_photos\MR-5\26223022.JPG"/>
          <p:cNvPicPr/>
          <p:nvPr/>
        </p:nvPicPr>
        <p:blipFill>
          <a:blip r:embed="rId2"/>
          <a:stretch/>
        </p:blipFill>
        <p:spPr>
          <a:xfrm>
            <a:off x="5635800" y="1508040"/>
            <a:ext cx="3317760" cy="24894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1030"/>
          <p:cNvSpPr/>
          <p:nvPr/>
        </p:nvSpPr>
        <p:spPr>
          <a:xfrm>
            <a:off x="5733000" y="3925800"/>
            <a:ext cx="3140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MR-5:          </a:t>
            </a:r>
            <a:r>
              <a:rPr b="0" lang="en-CA" sz="1800" spc="-1" strike="noStrike">
                <a:solidFill>
                  <a:srgbClr val="000000"/>
                </a:solidFill>
                <a:latin typeface="Lucida Sans"/>
              </a:rPr>
              <a:t>(6.25 mm, PPL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3" name="Text Box 1031"/>
          <p:cNvSpPr/>
          <p:nvPr/>
        </p:nvSpPr>
        <p:spPr>
          <a:xfrm>
            <a:off x="1959480" y="3933720"/>
            <a:ext cx="3140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MR-1:          </a:t>
            </a:r>
            <a:r>
              <a:rPr b="0" lang="en-CA" sz="1800" spc="-1" strike="noStrike">
                <a:solidFill>
                  <a:srgbClr val="000000"/>
                </a:solidFill>
                <a:latin typeface="Lucida Sans"/>
              </a:rPr>
              <a:t>(6.25 mm, PPL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4" name="Rectangle 1033"/>
          <p:cNvSpPr/>
          <p:nvPr/>
        </p:nvSpPr>
        <p:spPr>
          <a:xfrm>
            <a:off x="2959200" y="5041800"/>
            <a:ext cx="1828800" cy="16131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5" name="Rectangle 1034"/>
          <p:cNvSpPr/>
          <p:nvPr/>
        </p:nvSpPr>
        <p:spPr>
          <a:xfrm>
            <a:off x="5753160" y="6146640"/>
            <a:ext cx="3060720" cy="5209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6" name="Text Box 1035"/>
          <p:cNvSpPr/>
          <p:nvPr/>
        </p:nvSpPr>
        <p:spPr>
          <a:xfrm>
            <a:off x="231840" y="885960"/>
            <a:ext cx="86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Classification/nomenclature of </a:t>
            </a:r>
            <a:r>
              <a:rPr b="1" lang="en-CA" sz="2400" spc="-1" strike="noStrike">
                <a:solidFill>
                  <a:srgbClr val="ff3300"/>
                </a:solidFill>
                <a:latin typeface="Lucida Sans"/>
              </a:rPr>
              <a:t>MR-1</a:t>
            </a: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 and </a:t>
            </a:r>
            <a:r>
              <a:rPr b="1" lang="en-CA" sz="2400" spc="-1" strike="noStrike">
                <a:solidFill>
                  <a:srgbClr val="ff3300"/>
                </a:solidFill>
                <a:latin typeface="Lucida Sans"/>
              </a:rPr>
              <a:t>MR-5</a:t>
            </a: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 based on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7" name="Text Box 1036"/>
          <p:cNvSpPr/>
          <p:nvPr/>
        </p:nvSpPr>
        <p:spPr>
          <a:xfrm>
            <a:off x="244440" y="4392720"/>
            <a:ext cx="865512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protolith: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     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????</a:t>
            </a: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           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meta</a:t>
            </a:r>
            <a:r>
              <a:rPr b="1" lang="en-CA" sz="2000" spc="-1" strike="noStrike" u="sng">
                <a:solidFill>
                  <a:srgbClr val="3333ff"/>
                </a:solidFill>
                <a:uFillTx/>
                <a:latin typeface="Lucida Sans"/>
              </a:rPr>
              <a:t>gabbr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bulk composition: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greenschist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	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	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	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meta</a:t>
            </a:r>
            <a:r>
              <a:rPr b="1" lang="en-CA" sz="2000" spc="-1" strike="noStrike" u="sng">
                <a:solidFill>
                  <a:srgbClr val="3333ff"/>
                </a:solidFill>
                <a:uFillTx/>
                <a:latin typeface="Lucida Sans"/>
              </a:rPr>
              <a:t>gabbr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8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0" i="1" lang="en-CA" sz="1800" spc="-1" strike="noStrike">
                <a:solidFill>
                  <a:srgbClr val="000000"/>
                </a:solidFill>
                <a:latin typeface="Lucida Sans"/>
              </a:rPr>
              <a:t>(=metabasite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mineral assemblage: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greenschist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	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	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   </a:t>
            </a:r>
            <a:r>
              <a:rPr b="1" lang="en-CA" sz="2000" spc="-1" strike="noStrike" u="sng">
                <a:solidFill>
                  <a:srgbClr val="3333ff"/>
                </a:solidFill>
                <a:uFillTx/>
                <a:latin typeface="Lucida Sans"/>
              </a:rPr>
              <a:t>gnt-px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 metagabbr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texture: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greenschist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CA" sz="2000" spc="-1" strike="noStrike">
                <a:solidFill>
                  <a:srgbClr val="3333ff"/>
                </a:solidFill>
                <a:latin typeface="Lucida Sans"/>
              </a:rPr>
              <a:t>coronitic metagabbr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2626560" y="25416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3300"/>
                </a:solidFill>
                <a:latin typeface="Lucida Sans"/>
              </a:rPr>
              <a:t>LAB MR-1: METABASI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3"/>
          <p:cNvSpPr/>
          <p:nvPr/>
        </p:nvSpPr>
        <p:spPr>
          <a:xfrm>
            <a:off x="426240" y="1181160"/>
            <a:ext cx="8553600" cy="41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1. Fill in mineral compositions on p.50 of lab manual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2. Work through MR-1, MR-5 with partner using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petrographic description shee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3. Fill in checklist for all 5 sampl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en-CA" sz="2400" spc="-1" strike="noStrike">
                <a:solidFill>
                  <a:srgbClr val="ff3300"/>
                </a:solidFill>
                <a:latin typeface="Lucida Sans"/>
              </a:rPr>
              <a:t>have this checked before you leave!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4. Fill out petrographic description sheets for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       </a:t>
            </a: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any 1 of the other 3 sampl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0" lang="en-CA" sz="2400" spc="-1" strike="noStrike">
                <a:solidFill>
                  <a:srgbClr val="ff3300"/>
                </a:solidFill>
                <a:latin typeface="Lucida Sans"/>
              </a:rPr>
              <a:t>hand this in with your checklist at the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3300"/>
                </a:solidFill>
                <a:latin typeface="Lucida Sans"/>
              </a:rPr>
              <a:t>               </a:t>
            </a:r>
            <a:r>
              <a:rPr b="0" lang="en-CA" sz="2400" spc="-1" strike="noStrike">
                <a:solidFill>
                  <a:srgbClr val="ff3300"/>
                </a:solidFill>
                <a:latin typeface="Lucida Sans"/>
              </a:rPr>
              <a:t>beginning of the next lab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2626560" y="254160"/>
            <a:ext cx="42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3300"/>
                </a:solidFill>
                <a:latin typeface="Lucida Sans"/>
              </a:rPr>
              <a:t>LAB MR-1: METABASI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936720" y="1089000"/>
            <a:ext cx="7270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Because </a:t>
            </a:r>
            <a:r>
              <a:rPr b="1" lang="en-US" sz="2400" spc="-1" strike="noStrike">
                <a:solidFill>
                  <a:srgbClr val="ff3300"/>
                </a:solidFill>
                <a:latin typeface="Lucida Sans"/>
                <a:ea typeface="Arial"/>
              </a:rPr>
              <a:t>change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 is essential to metamorphism,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studying metamorphic rocks always involves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2 question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Lucida Sans"/>
                <a:ea typeface="Arial"/>
              </a:rPr>
              <a:t>a) What is it?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(now)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Lucida Sans"/>
                <a:ea typeface="Arial"/>
              </a:rPr>
              <a:t>b) What was it?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(before metamorphism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936720" y="1089000"/>
            <a:ext cx="7270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Because </a:t>
            </a:r>
            <a:r>
              <a:rPr b="1" lang="en-US" sz="2400" spc="-1" strike="noStrike">
                <a:solidFill>
                  <a:srgbClr val="ff3300"/>
                </a:solidFill>
                <a:latin typeface="Lucida Sans"/>
                <a:ea typeface="Arial"/>
              </a:rPr>
              <a:t>change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 is essential to metamorphism,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studying metamorphic rocks always involves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2 questions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Lucida Sans"/>
                <a:ea typeface="Arial"/>
              </a:rPr>
              <a:t>a) What is it?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(now)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Lucida Sans"/>
                <a:ea typeface="Arial"/>
              </a:rPr>
              <a:t>b) What was it?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"/>
                <a:ea typeface="Arial"/>
              </a:rPr>
              <a:t>(before metamorphism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1748160" y="3200400"/>
            <a:ext cx="564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observation, description, classifica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1691280" y="4699080"/>
            <a:ext cx="40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observation, interpreta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1233000" y="5283360"/>
            <a:ext cx="625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igneous or sedimentary (or metamorphic)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3300"/>
                </a:solidFill>
                <a:latin typeface="Lucida Sans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precursor</a:t>
            </a:r>
            <a:r>
              <a:rPr b="0" lang="en-CA" sz="2400" spc="-1" strike="noStrike">
                <a:solidFill>
                  <a:srgbClr val="ff3300"/>
                </a:solidFill>
                <a:latin typeface="Lucida Sans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is referred to as the </a:t>
            </a:r>
            <a:r>
              <a:rPr b="1" lang="en-CA" sz="2400" spc="-1" strike="noStrike">
                <a:solidFill>
                  <a:srgbClr val="ff3300"/>
                </a:solidFill>
                <a:latin typeface="Lucida Sans"/>
              </a:rPr>
              <a:t>protolith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838080" y="552600"/>
            <a:ext cx="7466040" cy="58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tamorphic rocks can b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classifi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ccording to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) protolith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ms Rm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) bulk composi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) mineral assemblag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) textur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choice of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rock 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depends on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which feature(s) dominat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what the observer wants to emphasis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.e.,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more than one name may be appropriate!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838080" y="552600"/>
            <a:ext cx="7466040" cy="61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tamorphic rocks can b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classifi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ccording to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) protolith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ms Rm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) bulk composi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) mineral assemblag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) textur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is has led to considerable inconsistency/confusion in classifying and naming metamorphic rock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cently, an IUGS subcommittee has addressed this   problem and proposed some possible solution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ork still in progress, no general consensus (yet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eliminary results on poster in lab and in handou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838080" y="360360"/>
            <a:ext cx="7643880" cy="56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tamorphic rocks can b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classifi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ccording to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) protolith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termined from </a:t>
            </a:r>
            <a:r>
              <a:rPr b="0" i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relict feature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inherited from protolith an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eserved during metamorphism and deforma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d/or bulk composition of rock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) bulk composi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) mineral assemblag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) textur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838080" y="360360"/>
            <a:ext cx="7643880" cy="57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tamorphic rocks can b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classifi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ccording to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) protolith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termined from </a:t>
            </a:r>
            <a:r>
              <a:rPr b="0" i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relict feature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inherited from protolith an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eserved during metamorphism and deforma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d/or bulk composition of rock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) bulk composition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termined by/from </a:t>
            </a:r>
            <a:r>
              <a:rPr b="0" i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minerals presen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in rock (types,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mpositions, modal %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d/or chemical analysi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) mineral assemblag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) textur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7T14:55:14Z</dcterms:created>
  <dc:creator>Rebecca Jamieson</dc:creator>
  <dc:description/>
  <dc:language>en-US</dc:language>
  <cp:lastModifiedBy>Dell</cp:lastModifiedBy>
  <dcterms:modified xsi:type="dcterms:W3CDTF">2011-10-07T19:17:00Z</dcterms:modified>
  <cp:revision>307</cp:revision>
  <dc:subject/>
  <dc:title>PowerPoint Presentation</dc:title>
</cp:coreProperties>
</file>