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1.gif" ContentType="image/gif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D5FD7-0B02-4235-83B0-22E2525F1E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6D85B-1426-4199-99EB-902F051443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CC42-E5EA-4EA7-96B9-7BBA13A30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513B-E711-455F-8B3B-85847FD55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7DBC-5796-4DF2-9883-3332BE3BC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D888-01D2-43EC-849E-E291F496E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28DE2-208D-4A91-8B23-CB4D51763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028CB-0DED-4940-B657-D2CDA8E86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59080-8195-4CB8-B0A3-0D180D208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ACDF0-118E-47BF-972F-EE9C262E5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E1624-89E1-4545-843A-E8E064531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D315E-4FE1-4B33-9801-9BC954EF1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21405-4E3A-4156-B572-07D79A42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D67B-633B-4FA6-A592-542EEACAB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9A820-20D0-4DBC-93C1-B84185D5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0893B-7A82-4161-8AE8-697F534C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77D4D-6C74-4B3E-B27D-2A0FA873E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B936A-6CC3-4442-82EB-D4DF49F32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525D6-D746-4F4C-AF3C-F639739D8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A298-1531-4DD3-85A6-9BE82704D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E301-096A-4D49-B489-E65D441CA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46AA-1BD9-4C79-BA2E-8595684AB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1462-1689-4C7D-833E-4F524FA72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C8D7-9A57-490E-861B-D910216B1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BE38-55D1-4AD8-993E-A04F7EB9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678F-134B-40E7-88C6-80528A10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6c6c6c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>
                <a:gd name="textAreaLeft" fmla="*/ 0 w 8410680"/>
                <a:gd name="textAreaRight" fmla="*/ 8411040 w 8410680"/>
                <a:gd name="textAreaTop" fmla="*/ 0 h 6845400"/>
                <a:gd name="textAreaBottom" fmla="*/ 6845760 h 684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79724-B71D-4A2D-9C16-9B4F890380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bcbcb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bcbc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>
                <a:gd name="textAreaLeft" fmla="*/ 0 w 5872320"/>
                <a:gd name="textAreaRight" fmla="*/ 5872680 w 5872320"/>
                <a:gd name="textAreaTop" fmla="*/ 0 h 4148280"/>
                <a:gd name="textAreaBottom" fmla="*/ 4148640 h 4148280"/>
              </a:gdLst>
              <a:ahLst/>
              <a:rect l="textAreaLeft" t="textAreaTop" r="textAreaRight" b="textAreaBottom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6c6c6c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>
                <a:gd name="textAreaLeft" fmla="*/ 0 w 6726240"/>
                <a:gd name="textAreaRight" fmla="*/ 6726600 w 6726240"/>
                <a:gd name="textAreaTop" fmla="*/ 0 h 5305320"/>
                <a:gd name="textAreaBottom" fmla="*/ 5305680 h 5305320"/>
              </a:gdLst>
              <a:ahLst/>
              <a:rect l="textAreaLeft" t="textAreaTop" r="textAreaRight" b="textAreaBottom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close/>
                </a:path>
              </a:pathLst>
            </a:custGeom>
            <a:noFill/>
            <a:ln cap="rnd" w="1260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bcbcb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bcbc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3C95E-4B42-459F-8EDD-AEF991EA56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4"/>
          <p:cNvSpPr txBox="1"/>
          <p:nvPr/>
        </p:nvSpPr>
        <p:spPr>
          <a:xfrm>
            <a:off x="1981080" y="1143000"/>
            <a:ext cx="6229440" cy="143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Metamorphic Rocks</a:t>
            </a:r>
            <a:endParaRPr b="0" i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96" name="Picture 6" descr="C:\PETROLOGY\METAMORPHIC ROCKS\meta.gif"/>
          <p:cNvPicPr/>
          <p:nvPr/>
        </p:nvPicPr>
        <p:blipFill>
          <a:blip r:embed="rId1"/>
          <a:stretch/>
        </p:blipFill>
        <p:spPr>
          <a:xfrm>
            <a:off x="457200" y="2895480"/>
            <a:ext cx="2933640" cy="29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762120" y="16761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Lineation: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1" i="1" lang="en-US" sz="2800" spc="-1" strike="noStrike">
                <a:solidFill>
                  <a:srgbClr val="969696"/>
                </a:solidFill>
                <a:latin typeface="Times New Roman"/>
              </a:rPr>
              <a:t>prismatic or rod-like miner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eg. Hornblende, tourmaline etc.) occurring in a rock orient themselves </a:t>
            </a:r>
            <a:r>
              <a:rPr b="1" i="1" lang="en-US" sz="2800" spc="-1" strike="noStrike">
                <a:solidFill>
                  <a:srgbClr val="969696"/>
                </a:solidFill>
                <a:latin typeface="Times New Roman"/>
              </a:rPr>
              <a:t>parallel to one anoth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perpendicular to direction of maxi. Pressure or str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C:\PETROLOGY\METAMORPHIC ROCKS\slate.gif"/>
          <p:cNvPicPr/>
          <p:nvPr/>
        </p:nvPicPr>
        <p:blipFill>
          <a:blip r:embed="rId1"/>
          <a:stretch/>
        </p:blipFill>
        <p:spPr>
          <a:xfrm>
            <a:off x="228600" y="3124080"/>
            <a:ext cx="4648320" cy="2389320"/>
          </a:xfrm>
          <a:prstGeom prst="rect">
            <a:avLst/>
          </a:prstGeom>
          <a:ln w="9360">
            <a:solidFill>
              <a:srgbClr val="5f5f5f"/>
            </a:solidFill>
            <a:miter/>
          </a:ln>
        </p:spPr>
      </p:pic>
      <p:sp>
        <p:nvSpPr>
          <p:cNvPr id="151" name="Text Box 5"/>
          <p:cNvSpPr/>
          <p:nvPr/>
        </p:nvSpPr>
        <p:spPr>
          <a:xfrm>
            <a:off x="822240" y="324000"/>
            <a:ext cx="394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LATY CLEAV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3809880" y="1066680"/>
            <a:ext cx="4724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969696"/>
                </a:solidFill>
                <a:latin typeface="Times New Roman"/>
              </a:rPr>
              <a:t>usually formed during the early stage of </a:t>
            </a:r>
            <a:r>
              <a:rPr b="1" lang="en-US" sz="1800" spc="-1" strike="noStrike" u="sng">
                <a:solidFill>
                  <a:srgbClr val="969696"/>
                </a:solidFill>
                <a:uFillTx/>
                <a:latin typeface="Times New Roman"/>
              </a:rPr>
              <a:t>Low-grade Metamorphism</a:t>
            </a:r>
            <a:r>
              <a:rPr b="1" lang="en-US" sz="1800" spc="-1" strike="noStrike">
                <a:solidFill>
                  <a:srgbClr val="969696"/>
                </a:solidFill>
                <a:latin typeface="Times New Roman"/>
              </a:rPr>
              <a:t> due to lithostatic str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w sheet-structure minerals tends to be parallel to the bedding planes during metamorphis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9" descr="C:\PETROLOGY\METAMORPHIC ROCKS\origshale.gif"/>
          <p:cNvPicPr/>
          <p:nvPr/>
        </p:nvPicPr>
        <p:blipFill>
          <a:blip r:embed="rId2"/>
          <a:stretch/>
        </p:blipFill>
        <p:spPr>
          <a:xfrm>
            <a:off x="228600" y="1143000"/>
            <a:ext cx="3429000" cy="15048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10"/>
          <p:cNvSpPr/>
          <p:nvPr/>
        </p:nvSpPr>
        <p:spPr>
          <a:xfrm>
            <a:off x="5105520" y="3200400"/>
            <a:ext cx="3733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96969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969696"/>
                </a:solidFill>
                <a:latin typeface="Times New Roman"/>
              </a:rPr>
              <a:t>however, further deep burial along the continental margin; compressional forces will cause deformation (folding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ence, the sheet minerals as well as foliation will no longer be parallel to the bedding planes, such type of foliation in fine grained rocks is called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laty cleavag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5"/>
          <p:cNvSpPr/>
          <p:nvPr/>
        </p:nvSpPr>
        <p:spPr>
          <a:xfrm>
            <a:off x="304920" y="4572000"/>
            <a:ext cx="1463400" cy="5814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Times New Roman"/>
              </a:rPr>
              <a:t>Sh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8" descr="C:\PETROLOGY\SEDIMENTARY ROCKS\shale.gif"/>
          <p:cNvPicPr/>
          <p:nvPr/>
        </p:nvPicPr>
        <p:blipFill>
          <a:blip r:embed="rId1"/>
          <a:stretch/>
        </p:blipFill>
        <p:spPr>
          <a:xfrm>
            <a:off x="228600" y="1676520"/>
            <a:ext cx="3978360" cy="28224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C:\PETROLOGY\METAMORPHIC ROCKS\slate.jpg"/>
          <p:cNvPicPr/>
          <p:nvPr/>
        </p:nvPicPr>
        <p:blipFill>
          <a:blip r:embed="rId2"/>
          <a:stretch/>
        </p:blipFill>
        <p:spPr>
          <a:xfrm>
            <a:off x="5029200" y="1676520"/>
            <a:ext cx="4114800" cy="2819160"/>
          </a:xfrm>
          <a:prstGeom prst="rect">
            <a:avLst/>
          </a:prstGeom>
          <a:ln w="0">
            <a:noFill/>
          </a:ln>
        </p:spPr>
      </p:pic>
      <p:sp>
        <p:nvSpPr>
          <p:cNvPr id="158" name="Line 10"/>
          <p:cNvSpPr/>
          <p:nvPr/>
        </p:nvSpPr>
        <p:spPr>
          <a:xfrm>
            <a:off x="4343400" y="297180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1"/>
          <p:cNvSpPr/>
          <p:nvPr/>
        </p:nvSpPr>
        <p:spPr>
          <a:xfrm>
            <a:off x="5181480" y="4572000"/>
            <a:ext cx="1463760" cy="5814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Times New Roman"/>
              </a:rPr>
              <a:t>Sl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HYLLI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228600" y="1295280"/>
            <a:ext cx="8321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ually associated with intermediate grade of metamorphism; where the mineral grains grows large in size as compare to that seen in s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s develops a pronounced  foliation where the preferred oriented minerals are se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7" descr="C:\PETROLOGY\METAMORPHIC ROCKS\schist.gif"/>
          <p:cNvPicPr/>
          <p:nvPr/>
        </p:nvPicPr>
        <p:blipFill>
          <a:blip r:embed="rId1"/>
          <a:stretch/>
        </p:blipFill>
        <p:spPr>
          <a:xfrm>
            <a:off x="1447920" y="1143000"/>
            <a:ext cx="5851440" cy="338292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8"/>
          <p:cNvSpPr/>
          <p:nvPr/>
        </p:nvSpPr>
        <p:spPr>
          <a:xfrm>
            <a:off x="311040" y="304920"/>
            <a:ext cx="630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CHISTOSE STRU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609480" y="4724280"/>
            <a:ext cx="8093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ually formed during intermediate and high grade metamorphis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in size increases and can be seen by naked eye; grains tends to enlarge with increasing grade of metamorphism; the coarse grained sheet-structure minerals show preferred ori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in size is the main difference between the slaty structure and schistos struct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11" descr="C:\PETROLOGY\METAMORPHIC ROCKS\qtz-musc%20schist.jpg"/>
          <p:cNvPicPr/>
          <p:nvPr/>
        </p:nvPicPr>
        <p:blipFill>
          <a:blip r:embed="rId2"/>
          <a:stretch/>
        </p:blipFill>
        <p:spPr>
          <a:xfrm>
            <a:off x="228600" y="1143000"/>
            <a:ext cx="5181480" cy="33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5943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NEISSIC 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C:\PETROLOGY\METAMORPHIC ROCKS\gneiss.gif"/>
          <p:cNvPicPr/>
          <p:nvPr/>
        </p:nvPicPr>
        <p:blipFill>
          <a:blip r:embed="rId1"/>
          <a:stretch/>
        </p:blipFill>
        <p:spPr>
          <a:xfrm>
            <a:off x="1447920" y="914400"/>
            <a:ext cx="5851440" cy="33829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C:\PETROLOGY\METAMORPHIC ROCKS\gneiss_X.jpg"/>
          <p:cNvPicPr/>
          <p:nvPr/>
        </p:nvPicPr>
        <p:blipFill>
          <a:blip r:embed="rId2"/>
          <a:stretch/>
        </p:blipFill>
        <p:spPr>
          <a:xfrm>
            <a:off x="1371600" y="990720"/>
            <a:ext cx="4952880" cy="324792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7"/>
          <p:cNvSpPr/>
          <p:nvPr/>
        </p:nvSpPr>
        <p:spPr>
          <a:xfrm>
            <a:off x="365040" y="4533840"/>
            <a:ext cx="83217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ually associated with high-grade regional metamorphism (where differential stress prevails I.e. tectonic forc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ere the sheet silicates and other minerals like quartz/feldspars/hornblende/pyroxene are segregated in distinct bands in the rocks- known as </a:t>
            </a:r>
            <a:r>
              <a:rPr b="1" i="1" lang="en-US" sz="2000" spc="-1" strike="noStrike" u="sng">
                <a:solidFill>
                  <a:srgbClr val="969696"/>
                </a:solidFill>
                <a:uFillTx/>
                <a:latin typeface="Times New Roman"/>
              </a:rPr>
              <a:t>gneissic banding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ification of Metamorphic rocks based on texture/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533520" y="3962160"/>
            <a:ext cx="861048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89080" indent="0" algn="just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ff66"/>
                </a:solidFill>
                <a:uFillTx/>
                <a:latin typeface="Times New Roman"/>
              </a:rPr>
              <a:t>PHYLL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similar to slate, but slightly coarser phyllosilicate gra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grains can be seen in hand specimen, giving silk appearance to cleavage surf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often cleavage planes less perfectly planar than s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304920" y="1447920"/>
            <a:ext cx="8610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289080" indent="-289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SLATE</a:t>
            </a:r>
            <a:r>
              <a:rPr b="1" lang="en-US" sz="3200" spc="-1" strike="noStrike">
                <a:solidFill>
                  <a:srgbClr val="5f5f5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ffff"/>
                </a:solidFill>
                <a:latin typeface="Times New Roman"/>
              </a:rPr>
              <a:t>strongly cleaved r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Times New Roman"/>
              </a:rPr>
              <a:t>-cleavage planes are developed due to orientation of fine phyllosilcate grains eg. Muscovite, biotite, chlorite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Times New Roman"/>
              </a:rPr>
              <a:t>-individual grains too fine to be visible with naked ey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Times New Roman"/>
              </a:rPr>
              <a:t>-overall dull appeara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173160" indent="-17316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ffcc"/>
                </a:solidFill>
                <a:uFillTx/>
                <a:latin typeface="Times New Roman"/>
              </a:rPr>
              <a:t>SCH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arallel alignment of moderately coarse grains (fabric=schist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grains are visible by ey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mainly phyllosilicates and other minerals such as hornblende, kyanite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304920" y="2514600"/>
            <a:ext cx="82296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173160" indent="-173160"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GNEI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coarse grained rock (grain size several millimetres)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foliated (planar fabric: either schistosity or compositional layer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tendency for different minerals to segregate into layers parallel to foliation (gneissic layering): typically quartz and feldspar rich layers tend to separate from micaceous lay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etie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Orthogneiss: rocks formed from Igneous r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 paragneiss: rocks formed from Sedimentary rocks -metasedimentary gnei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4"/>
          <p:cNvSpPr/>
          <p:nvPr/>
        </p:nvSpPr>
        <p:spPr>
          <a:xfrm>
            <a:off x="457200" y="457200"/>
            <a:ext cx="8229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173160" indent="-173160" algn="just">
              <a:spcBef>
                <a:spcPts val="7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ffcc"/>
                </a:solidFill>
                <a:uFillTx/>
                <a:latin typeface="Times New Roman"/>
              </a:rPr>
              <a:t>QUARTIZ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 algn="just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it comprise equidimensional minerals viz. quartz and feldsp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 algn="just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n foliated; show 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GRANULOSE 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5" descr="C:\PETROLOGY\METAMORPHIC ROCKS\quartz_X.jpg"/>
          <p:cNvPicPr/>
          <p:nvPr/>
        </p:nvPicPr>
        <p:blipFill>
          <a:blip r:embed="rId1"/>
          <a:stretch/>
        </p:blipFill>
        <p:spPr>
          <a:xfrm>
            <a:off x="2209680" y="2286000"/>
            <a:ext cx="5334120" cy="34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3733920" cy="60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tamorphic r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0556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 algn="just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rocks are baked by heat of molten magma or squeezed by the movements of huge tectonic plates or by the pressure of overlying thick succession of r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304920" y="3048120"/>
            <a:ext cx="85341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are altered or changed beyond their recogn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.e. change in Chemical composition, texture and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5"/>
          <p:cNvSpPr/>
          <p:nvPr/>
        </p:nvSpPr>
        <p:spPr>
          <a:xfrm>
            <a:off x="4343400" y="243828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6"/>
          <p:cNvSpPr/>
          <p:nvPr/>
        </p:nvSpPr>
        <p:spPr>
          <a:xfrm>
            <a:off x="4419720" y="449568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1752480" y="5334120"/>
            <a:ext cx="5867640" cy="838080"/>
          </a:xfrm>
          <a:prstGeom prst="rect">
            <a:avLst/>
          </a:prstGeom>
          <a:gradFill rotWithShape="0">
            <a:gsLst>
              <a:gs pos="0">
                <a:srgbClr val="5f5f5f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etamorphic ro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6019920" cy="609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Type of Metamorph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83055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Cataclastic Metamorph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ype of metamorphism occurs mainly due to direct pres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g. when two bodies of rock slide past one another along a fault zone.  Heat is generated by the friction of sliding along the zone, and the rocks tend to crushed and pulverized due to the sli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aclastic metamorphism is mere mechanical breakdown of rocks without any new mineral formation, however, sometime due to intense shearing few new minerals are form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5" descr="C:\STRUCTURAL GEOLOGY\right.gif"/>
          <p:cNvPicPr/>
          <p:nvPr/>
        </p:nvPicPr>
        <p:blipFill>
          <a:blip r:embed="rId1"/>
          <a:stretch/>
        </p:blipFill>
        <p:spPr>
          <a:xfrm>
            <a:off x="1295280" y="4952880"/>
            <a:ext cx="3048120" cy="17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4"/>
          <p:cNvSpPr/>
          <p:nvPr/>
        </p:nvSpPr>
        <p:spPr>
          <a:xfrm>
            <a:off x="380880" y="304920"/>
            <a:ext cx="83822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7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Contact Metamorphis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type of metamorphism occurs locally adjacent to the igneous intrusion; with high temp. and low st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is little change in bulk composition of the r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a surrounding the intrusion (Batholith) is heated by the magma; metamorphism is restricted to a zone surrounding the intrusion, this zone is know as </a:t>
            </a:r>
            <a:r>
              <a:rPr b="1" lang="en-US" sz="2000" spc="-1" strike="noStrike" u="sng">
                <a:solidFill>
                  <a:srgbClr val="ff9900"/>
                </a:solidFill>
                <a:uFillTx/>
                <a:latin typeface="Times New Roman"/>
              </a:rPr>
              <a:t>METAMORPHIC AUREO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rocks formed are non-foliated fine-grained rocks called as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HORNFELS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5" descr="C:\PETROLOGY\METAMORPHIC ROCKS\contactaureole.gif"/>
          <p:cNvPicPr/>
          <p:nvPr/>
        </p:nvPicPr>
        <p:blipFill>
          <a:blip r:embed="rId1"/>
          <a:stretch/>
        </p:blipFill>
        <p:spPr>
          <a:xfrm>
            <a:off x="2971800" y="3241800"/>
            <a:ext cx="3733920" cy="33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4"/>
          <p:cNvSpPr/>
          <p:nvPr/>
        </p:nvSpPr>
        <p:spPr>
          <a:xfrm>
            <a:off x="380880" y="22860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7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Regional Metamorphis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amorphism occurs covering larger area, which is subjected to intense deformation under direct or differential stre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cks formed under such environment are usually strongly foliated, such as slates, schists, and gnies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ifferential stresses result from tectonic force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g. when two continental masses collide with one another resulting into mountain building activity. Compressive stresses result in folding of the r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5" descr="C:\PETROLOGY\METAMORPHIC ROCKS\deformmeta.gif"/>
          <p:cNvPicPr/>
          <p:nvPr/>
        </p:nvPicPr>
        <p:blipFill>
          <a:blip r:embed="rId1"/>
          <a:stretch/>
        </p:blipFill>
        <p:spPr>
          <a:xfrm>
            <a:off x="3276720" y="3200400"/>
            <a:ext cx="266688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19"/>
          <p:cNvSpPr/>
          <p:nvPr/>
        </p:nvSpPr>
        <p:spPr>
          <a:xfrm>
            <a:off x="1905120" y="304920"/>
            <a:ext cx="5486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Metamorphic R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326"/>
          <p:cNvSpPr/>
          <p:nvPr/>
        </p:nvSpPr>
        <p:spPr>
          <a:xfrm>
            <a:off x="533520" y="1143000"/>
            <a:ext cx="8229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173160" indent="-173160"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OLI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 algn="just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mmon foliated rocks in the order of increasing grain size a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 algn="just">
              <a:spcBef>
                <a:spcPts val="700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LATE –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PHYLLI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en-US" sz="2800" spc="-1" strike="noStrike">
                <a:solidFill>
                  <a:srgbClr val="57eb15"/>
                </a:solidFill>
                <a:latin typeface="Times New Roman"/>
              </a:rPr>
              <a:t>SCHIS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GNEI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327"/>
          <p:cNvSpPr/>
          <p:nvPr/>
        </p:nvSpPr>
        <p:spPr>
          <a:xfrm>
            <a:off x="609480" y="3276720"/>
            <a:ext cx="82296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173160" indent="-173160"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N-FOLI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 algn="just">
              <a:spcBef>
                <a:spcPts val="700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rtzites and hornf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0880" y="304920"/>
            <a:ext cx="83822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7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Importance of Metamorphic rock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ff33"/>
                </a:solidFill>
                <a:uFillTx/>
                <a:latin typeface="Times New Roman"/>
              </a:rPr>
              <a:t>SL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e grained impermeable, cleavable and so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mpetent; cannot withstand great lo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since they are impermeable and split easily; thin large sized slabs of uniform thickness can be extracted for roofing purpo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conomic importance: Since they are bad conductor of electricity– used in electrical industries for switch board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8"/>
          <p:cNvSpPr/>
          <p:nvPr/>
        </p:nvSpPr>
        <p:spPr>
          <a:xfrm>
            <a:off x="533520" y="3657600"/>
            <a:ext cx="838188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00"/>
                </a:solidFill>
                <a:uFillTx/>
                <a:latin typeface="Times New Roman"/>
              </a:rPr>
              <a:t>GNEI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neissic rocks are rich in SILICA i.e. predominantly Quartz and Feldspars along with garnet, pyroxene, Hornblende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n-porous and impermeable nature increases the strength of the r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iated character to some extend improves work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ad perpendicular to foliated planes gives more stronger found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1371600" y="380880"/>
            <a:ext cx="5715000" cy="180864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mineral assemblage is more or less similar to Granite (with less % mafic minerals) th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 used as building st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aggregate for making concr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road metals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533520" y="2571840"/>
            <a:ext cx="8305560" cy="21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00"/>
                </a:solidFill>
                <a:uFillTx/>
                <a:latin typeface="Times New Roman"/>
              </a:rPr>
              <a:t>SCH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inly composed of prismatic or platy minerals, which contributes in development of Schistose Structure. Eg. Hornblende, tourmaline, sillimanite etc (prismatic); chlorite, muscovite, biotite, talc, kyanite etc. (pla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eavable nature of Schists is the main reason for their weakness; they are incompe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4"/>
          <p:cNvSpPr/>
          <p:nvPr/>
        </p:nvSpPr>
        <p:spPr>
          <a:xfrm>
            <a:off x="380880" y="533520"/>
            <a:ext cx="83822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00"/>
                </a:solidFill>
                <a:uFillTx/>
                <a:latin typeface="Times New Roman"/>
              </a:rPr>
              <a:t>QUARTZ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NDSTONE (composed of quartz/feldspars/feldspathoid minerals) when under go metamorphism result into Quartzi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nulose texture/structure (Granoblastic) makes them most competent rock amongst all other metamorphic ro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cause metamorphism of Sst. Result disappearance of cementing material, bedding planes, fossil content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artzites are compact, hard and strong; very less porous and less permeable than the parent S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dominance of Quartz makes the rock very hard and suitable for road metal; can be used as concrete aggregate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s as strong foundation for any CE structur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4"/>
          <p:cNvSpPr/>
          <p:nvPr/>
        </p:nvSpPr>
        <p:spPr>
          <a:xfrm>
            <a:off x="380880" y="609480"/>
            <a:ext cx="83822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00"/>
                </a:solidFill>
                <a:uFillTx/>
                <a:latin typeface="Times New Roman"/>
              </a:rPr>
              <a:t>MAR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atin word “Marmor”– Shining sto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careous metamorphic r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ough it shows granulose structure it is not as hard as Quartzite because of its Calcareous composition; but can withstand reasonable lo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e to its pleasant colour and brilliant appearance when polished it is extensively used as building sto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5" descr="C:\PETROLOGY\METAMORPHIC ROCKS\marble.jpg"/>
          <p:cNvPicPr/>
          <p:nvPr/>
        </p:nvPicPr>
        <p:blipFill>
          <a:blip r:embed="rId1"/>
          <a:stretch/>
        </p:blipFill>
        <p:spPr>
          <a:xfrm>
            <a:off x="2590920" y="3200400"/>
            <a:ext cx="4495680" cy="2948040"/>
          </a:xfrm>
          <a:prstGeom prst="rect">
            <a:avLst/>
          </a:prstGeom>
          <a:ln w="0">
            <a:noFill/>
          </a:ln>
        </p:spPr>
      </p:pic>
      <p:sp>
        <p:nvSpPr>
          <p:cNvPr id="196" name="Line 7"/>
          <p:cNvSpPr/>
          <p:nvPr/>
        </p:nvSpPr>
        <p:spPr>
          <a:xfrm flipV="1">
            <a:off x="1676520" y="4190760"/>
            <a:ext cx="2133360" cy="1066680"/>
          </a:xfrm>
          <a:prstGeom prst="line">
            <a:avLst/>
          </a:prstGeom>
          <a:ln w="5724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456480" y="533412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4800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morph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s the process that occur in rocks due to the effects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ff66"/>
                </a:solidFill>
                <a:latin typeface="Times New Roman"/>
              </a:rPr>
              <a:t>High tempera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4165"/>
                </a:solidFill>
                <a:latin typeface="Times New Roman"/>
              </a:rPr>
              <a:t>High press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9900"/>
                </a:solidFill>
                <a:latin typeface="Times New Roman"/>
              </a:rPr>
              <a:t>Chemically active flui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6840" y="137124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source of temperature is either from magma or due to the depth 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Times New Roman"/>
              </a:rPr>
              <a:t>Metamorphism usually result into change in min. comp. and texture of rocks (Ig. and Sed.) which are subjected to temp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 u="sng">
                <a:solidFill>
                  <a:srgbClr val="00ffff"/>
                </a:solidFill>
                <a:uFillTx/>
                <a:latin typeface="Times New Roman"/>
              </a:rPr>
              <a:t>&gt; 100</a:t>
            </a:r>
            <a:r>
              <a:rPr b="1" i="1" lang="en-US" sz="2400" spc="-1" strike="noStrike" u="sng" baseline="30000">
                <a:solidFill>
                  <a:srgbClr val="00ffff"/>
                </a:solidFill>
                <a:uFillTx/>
                <a:latin typeface="Times New Roman"/>
              </a:rPr>
              <a:t>0</a:t>
            </a:r>
            <a:r>
              <a:rPr b="1" i="1" lang="en-US" sz="2400" spc="-1" strike="noStrike" u="sng">
                <a:solidFill>
                  <a:srgbClr val="00ffff"/>
                </a:solidFill>
                <a:uFillTx/>
                <a:latin typeface="Times New Roman"/>
              </a:rPr>
              <a:t> C and pressure &gt; 1000’s Mp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99ff"/>
                </a:solidFill>
                <a:uFillTx/>
                <a:latin typeface="Times New Roman"/>
              </a:rPr>
              <a:t>Low-grade metamorphis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ffff"/>
                </a:solidFill>
                <a:latin typeface="Times New Roman"/>
              </a:rPr>
              <a:t>Occurs at about 100</a:t>
            </a:r>
            <a:r>
              <a:rPr b="1" i="1" lang="en-US" sz="2400" spc="-1" strike="noStrike" baseline="30000">
                <a:solidFill>
                  <a:srgbClr val="00ffff"/>
                </a:solidFill>
                <a:latin typeface="Times New Roman"/>
              </a:rPr>
              <a:t>0</a:t>
            </a:r>
            <a:r>
              <a:rPr b="1" i="1" lang="en-US" sz="2400" spc="-1" strike="noStrike">
                <a:solidFill>
                  <a:srgbClr val="00ffff"/>
                </a:solidFill>
                <a:latin typeface="Times New Roman"/>
              </a:rPr>
              <a:t> C to 500</a:t>
            </a:r>
            <a:r>
              <a:rPr b="1" i="1" lang="en-US" sz="2400" spc="-1" strike="noStrike" baseline="30000">
                <a:solidFill>
                  <a:srgbClr val="00ffff"/>
                </a:solidFill>
                <a:latin typeface="Times New Roman"/>
              </a:rPr>
              <a:t>0</a:t>
            </a:r>
            <a:r>
              <a:rPr b="1" i="1" lang="en-US" sz="2400" spc="-1" strike="noStrike">
                <a:solidFill>
                  <a:srgbClr val="00ffff"/>
                </a:solidFill>
                <a:latin typeface="Times New Roman"/>
              </a:rPr>
              <a:t> 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99ff"/>
                </a:solidFill>
                <a:uFillTx/>
                <a:latin typeface="Times New Roman"/>
              </a:rPr>
              <a:t>High-grade metamorphis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Occurs at &gt; 500</a:t>
            </a:r>
            <a:r>
              <a:rPr b="1" lang="en-US" sz="2400" spc="-1" strike="noStrike" baseline="30000">
                <a:solidFill>
                  <a:srgbClr val="00ffff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2895120" y="304560"/>
            <a:ext cx="3429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C:\PETROLOGY\METAMORPHIC ROCKS\jnm-1.jpg"/>
          <p:cNvPicPr/>
          <p:nvPr/>
        </p:nvPicPr>
        <p:blipFill>
          <a:blip r:embed="rId1"/>
          <a:stretch/>
        </p:blipFill>
        <p:spPr>
          <a:xfrm>
            <a:off x="304920" y="1066680"/>
            <a:ext cx="8610480" cy="45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80880" y="1447920"/>
            <a:ext cx="32767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IFORM PRES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2666880" y="228240"/>
            <a:ext cx="3657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5"/>
          <p:cNvSpPr/>
          <p:nvPr/>
        </p:nvSpPr>
        <p:spPr>
          <a:xfrm flipH="1">
            <a:off x="3123720" y="914400"/>
            <a:ext cx="762120" cy="4572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6"/>
          <p:cNvSpPr/>
          <p:nvPr/>
        </p:nvSpPr>
        <p:spPr>
          <a:xfrm>
            <a:off x="4876920" y="914400"/>
            <a:ext cx="838080" cy="30492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152280" y="1981080"/>
            <a:ext cx="37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increases with depth due to increase in overburd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228600" y="32004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acts vertically downwards and affects the volume of both liquid &amp; soli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4724280" y="1905120"/>
            <a:ext cx="40388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reases with depth upto some extent, effective in the upper part of the cru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4800600" y="1371600"/>
            <a:ext cx="4038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RECT  or Differential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RES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4724280" y="3124080"/>
            <a:ext cx="4191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acts in all direction and affects only on solids resulting into deformation of shape and change in mineral compo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228600" y="441972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high temperature is also associated with (due to depth fact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13"/>
          <p:cNvSpPr/>
          <p:nvPr/>
        </p:nvSpPr>
        <p:spPr>
          <a:xfrm>
            <a:off x="4800600" y="4572000"/>
            <a:ext cx="411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high temperature is not always associated. to depth fact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228600" y="548640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Lithostatic pressure- due to overbur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5"/>
          <p:cNvSpPr/>
          <p:nvPr/>
        </p:nvSpPr>
        <p:spPr>
          <a:xfrm>
            <a:off x="4876920" y="55627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Stress- due to  </a:t>
            </a:r>
            <a:r>
              <a:rPr b="0" lang="en-US" sz="2000" spc="-1" strike="noStrike">
                <a:solidFill>
                  <a:srgbClr val="5f5f5f"/>
                </a:solidFill>
                <a:latin typeface="Times New Roman"/>
              </a:rPr>
              <a:t>tectonic fo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8"/>
          <p:cNvSpPr/>
          <p:nvPr/>
        </p:nvSpPr>
        <p:spPr>
          <a:xfrm>
            <a:off x="1143000" y="2514600"/>
            <a:ext cx="1752480" cy="1447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12"/>
          <p:cNvSpPr/>
          <p:nvPr/>
        </p:nvSpPr>
        <p:spPr>
          <a:xfrm>
            <a:off x="2666880" y="1523880"/>
            <a:ext cx="0" cy="609840"/>
          </a:xfrm>
          <a:prstGeom prst="line">
            <a:avLst/>
          </a:prstGeom>
          <a:ln w="7632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13"/>
          <p:cNvSpPr/>
          <p:nvPr/>
        </p:nvSpPr>
        <p:spPr>
          <a:xfrm flipH="1">
            <a:off x="3504960" y="3124080"/>
            <a:ext cx="609480" cy="1800"/>
          </a:xfrm>
          <a:prstGeom prst="line">
            <a:avLst/>
          </a:prstGeom>
          <a:ln w="7632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14"/>
          <p:cNvSpPr/>
          <p:nvPr/>
        </p:nvSpPr>
        <p:spPr>
          <a:xfrm flipV="1">
            <a:off x="1504440" y="3557520"/>
            <a:ext cx="496080" cy="353880"/>
          </a:xfrm>
          <a:prstGeom prst="line">
            <a:avLst/>
          </a:prstGeom>
          <a:ln w="7632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5"/>
          <p:cNvSpPr/>
          <p:nvPr/>
        </p:nvSpPr>
        <p:spPr>
          <a:xfrm>
            <a:off x="5410080" y="1600200"/>
            <a:ext cx="1219320" cy="1447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16"/>
          <p:cNvSpPr/>
          <p:nvPr/>
        </p:nvSpPr>
        <p:spPr>
          <a:xfrm flipV="1">
            <a:off x="5619240" y="2643120"/>
            <a:ext cx="496080" cy="353880"/>
          </a:xfrm>
          <a:prstGeom prst="line">
            <a:avLst/>
          </a:prstGeom>
          <a:ln w="7632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17"/>
          <p:cNvSpPr/>
          <p:nvPr/>
        </p:nvSpPr>
        <p:spPr>
          <a:xfrm>
            <a:off x="6553080" y="838080"/>
            <a:ext cx="0" cy="457200"/>
          </a:xfrm>
          <a:prstGeom prst="line">
            <a:avLst/>
          </a:prstGeom>
          <a:ln w="7632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18"/>
          <p:cNvSpPr/>
          <p:nvPr/>
        </p:nvSpPr>
        <p:spPr>
          <a:xfrm flipH="1">
            <a:off x="7314840" y="2133720"/>
            <a:ext cx="1219320" cy="1440"/>
          </a:xfrm>
          <a:prstGeom prst="line">
            <a:avLst/>
          </a:prstGeom>
          <a:ln w="7632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9"/>
          <p:cNvSpPr/>
          <p:nvPr/>
        </p:nvSpPr>
        <p:spPr>
          <a:xfrm>
            <a:off x="1143000" y="4343400"/>
            <a:ext cx="20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form St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20"/>
          <p:cNvSpPr/>
          <p:nvPr/>
        </p:nvSpPr>
        <p:spPr>
          <a:xfrm>
            <a:off x="5712480" y="3429000"/>
            <a:ext cx="24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ial St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22"/>
          <p:cNvSpPr/>
          <p:nvPr/>
        </p:nvSpPr>
        <p:spPr>
          <a:xfrm>
            <a:off x="6782040" y="38088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23"/>
          <p:cNvSpPr/>
          <p:nvPr/>
        </p:nvSpPr>
        <p:spPr>
          <a:xfrm>
            <a:off x="4648320" y="2514600"/>
            <a:ext cx="7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24"/>
          <p:cNvSpPr/>
          <p:nvPr/>
        </p:nvSpPr>
        <p:spPr>
          <a:xfrm>
            <a:off x="8077680" y="15238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C:\PETROLOGY\METAMORPHIC ROCKS\jnm-2 copy.jpg"/>
          <p:cNvPicPr/>
          <p:nvPr/>
        </p:nvPicPr>
        <p:blipFill>
          <a:blip r:embed="rId1"/>
          <a:stretch/>
        </p:blipFill>
        <p:spPr>
          <a:xfrm>
            <a:off x="990720" y="762120"/>
            <a:ext cx="7364160" cy="469728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1752480" y="548640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5715000" y="5486400"/>
            <a:ext cx="202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ite-Gnei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UCTURES IN METAMORPHIC R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0010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33"/>
                </a:solidFill>
                <a:uFillTx/>
                <a:latin typeface="Times New Roman"/>
              </a:rPr>
              <a:t>Folia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1" i="1" lang="en-US" sz="2400" spc="-1" strike="noStrike">
                <a:solidFill>
                  <a:srgbClr val="969696"/>
                </a:solidFill>
                <a:latin typeface="Times New Roman"/>
              </a:rPr>
              <a:t>platy, lamellar or flak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inerals (eg. sheet silicate minerals the micas: biotite and muscovite, chlorite, talc, and serpentine), occurring in rock orient themselves </a:t>
            </a:r>
            <a:r>
              <a:rPr b="1" i="1" lang="en-US" sz="2400" spc="-1" strike="noStrike">
                <a:solidFill>
                  <a:srgbClr val="969696"/>
                </a:solidFill>
                <a:latin typeface="Times New Roman"/>
              </a:rPr>
              <a:t>parallel to one anot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i.e. perpendicular to the direction of maximum pressure or stres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0" y="5791320"/>
            <a:ext cx="1371600" cy="82404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69696"/>
                </a:solidFill>
                <a:latin typeface="Times New Roman"/>
              </a:rPr>
              <a:t>Random ori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69696"/>
                </a:solidFill>
                <a:latin typeface="Times New Roman"/>
              </a:rPr>
              <a:t>Of miner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Group 12"/>
          <p:cNvGrpSpPr/>
          <p:nvPr/>
        </p:nvGrpSpPr>
        <p:grpSpPr>
          <a:xfrm>
            <a:off x="1676520" y="3733920"/>
            <a:ext cx="6446880" cy="2754360"/>
            <a:chOff x="1676520" y="3733920"/>
            <a:chExt cx="6446880" cy="2754360"/>
          </a:xfrm>
        </p:grpSpPr>
        <p:grpSp>
          <p:nvGrpSpPr>
            <p:cNvPr id="141" name="Group 10"/>
            <p:cNvGrpSpPr/>
            <p:nvPr/>
          </p:nvGrpSpPr>
          <p:grpSpPr>
            <a:xfrm>
              <a:off x="1676520" y="3733920"/>
              <a:ext cx="6446880" cy="2754360"/>
              <a:chOff x="1676520" y="3733920"/>
              <a:chExt cx="6446880" cy="2754360"/>
            </a:xfrm>
          </p:grpSpPr>
          <p:pic>
            <p:nvPicPr>
              <p:cNvPr id="142" name="Picture 4" descr="C:\PETROLOGY\METAMORPHIC ROCKS\preforient.gif"/>
              <p:cNvPicPr/>
              <p:nvPr/>
            </p:nvPicPr>
            <p:blipFill>
              <a:blip r:embed="rId1"/>
              <a:stretch/>
            </p:blipFill>
            <p:spPr>
              <a:xfrm>
                <a:off x="1676520" y="3733920"/>
                <a:ext cx="6446880" cy="2754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" name="Rectangle 6"/>
              <p:cNvSpPr/>
              <p:nvPr/>
            </p:nvSpPr>
            <p:spPr>
              <a:xfrm>
                <a:off x="1676520" y="3733920"/>
                <a:ext cx="1904760" cy="533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Rectangle 8"/>
              <p:cNvSpPr/>
              <p:nvPr/>
            </p:nvSpPr>
            <p:spPr>
              <a:xfrm>
                <a:off x="4191120" y="6172200"/>
                <a:ext cx="2286000" cy="304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" name="Rectangle 11"/>
            <p:cNvSpPr/>
            <p:nvPr/>
          </p:nvSpPr>
          <p:spPr>
            <a:xfrm>
              <a:off x="6172200" y="4343400"/>
              <a:ext cx="1752480" cy="533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Line 7"/>
          <p:cNvSpPr/>
          <p:nvPr/>
        </p:nvSpPr>
        <p:spPr>
          <a:xfrm flipV="1">
            <a:off x="1447920" y="5333760"/>
            <a:ext cx="685800" cy="685800"/>
          </a:xfrm>
          <a:prstGeom prst="line">
            <a:avLst/>
          </a:prstGeom>
          <a:ln w="5724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7086600" y="5410080"/>
            <a:ext cx="1752480" cy="10087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Preferred ori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Of miner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13"/>
          <p:cNvSpPr/>
          <p:nvPr/>
        </p:nvSpPr>
        <p:spPr>
          <a:xfrm flipH="1" flipV="1">
            <a:off x="5943240" y="5257440"/>
            <a:ext cx="762120" cy="609480"/>
          </a:xfrm>
          <a:prstGeom prst="line">
            <a:avLst/>
          </a:prstGeom>
          <a:ln w="5724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6T07:58:33Z</dcterms:created>
  <dc:creator>Unknown User</dc:creator>
  <dc:description/>
  <dc:language>en-US</dc:language>
  <cp:lastModifiedBy>Dell</cp:lastModifiedBy>
  <dcterms:modified xsi:type="dcterms:W3CDTF">2011-10-07T19:44:05Z</dcterms:modified>
  <cp:revision>38</cp:revision>
  <dc:subject/>
  <dc:title>Classification of Metamorphic rocks based on texture</dc:title>
</cp:coreProperties>
</file>