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3051-F197-4530-8336-A14390E94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655C-31FB-462C-A9C0-CCE4489E2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743A-833A-4B93-A395-5463EB46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CAF4-721E-4A1A-AA93-D454A132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930-C93B-444D-9284-6B19C6B9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951-EDE6-42A0-A42C-A6E048C8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5CEF-3C9F-4528-A879-EB2F83B4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4CB5-E1C5-4733-ABF2-7C2ED738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92C2-B7AB-4A22-93E6-C268FD8A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6DA1-0761-421F-88E3-AA478B96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C7B7-6F67-4ED8-A2EC-3D093B26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F3DA-1208-4700-B336-3244A40E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3993-7C72-4791-B1D8-3971CB5F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267-6A6F-416B-AC97-FA781145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C3C3-1810-4117-BCD3-B8BFC505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8102-DD8A-4B6B-9360-AB53A067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0C28-E087-46EC-A86D-C04F7066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0558-1FFD-4ACB-A697-CAE28688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CCE7-DF9B-47BC-8F0C-DB40871E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CEF-B01F-42F0-ABAE-2AD7FEE4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049F-CFD5-4DAA-B55C-F9652735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B51-26C9-4B93-9B4D-55536B98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B673-B0DC-4F75-9A22-D4D2C49B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C9EC-7553-493D-B570-8DF12A69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CF01-E835-4553-A0A7-EE322A28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6E8F-A163-421F-9B99-B5184AE5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7F86-E5A1-46E1-9773-148045600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8E6C-0604-4E69-9ED1-6357BB9FF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1981080" y="1143000"/>
            <a:ext cx="622944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etamorphic Rocks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6" name="Picture 6" descr="C:\PETROLOGY\METAMORPHIC ROCKS\meta.gif"/>
          <p:cNvPicPr/>
          <p:nvPr/>
        </p:nvPicPr>
        <p:blipFill>
          <a:blip r:embed="rId1"/>
          <a:stretch/>
        </p:blipFill>
        <p:spPr>
          <a:xfrm>
            <a:off x="457200" y="2895480"/>
            <a:ext cx="293364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Lineation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i="1" lang="en-US" sz="2800" spc="-1" strike="noStrike">
                <a:solidFill>
                  <a:srgbClr val="969696"/>
                </a:solidFill>
                <a:latin typeface="Times New Roman"/>
              </a:rPr>
              <a:t>prismatic or rod-like miner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g. Hornblende, tourmaline etc.) occurring in a rock orient themselves </a:t>
            </a:r>
            <a:r>
              <a:rPr b="1" i="1" lang="en-US" sz="2800" spc="-1" strike="noStrike">
                <a:solidFill>
                  <a:srgbClr val="969696"/>
                </a:solidFill>
                <a:latin typeface="Times New Roman"/>
              </a:rPr>
              <a:t>parallel to one anot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erpendicular to direction of maxi. Pressure or st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C:\PETROLOGY\METAMORPHIC ROCKS\slate.gif"/>
          <p:cNvPicPr/>
          <p:nvPr/>
        </p:nvPicPr>
        <p:blipFill>
          <a:blip r:embed="rId1"/>
          <a:stretch/>
        </p:blipFill>
        <p:spPr>
          <a:xfrm>
            <a:off x="228600" y="3124080"/>
            <a:ext cx="4648320" cy="238932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51" name="Text Box 5"/>
          <p:cNvSpPr/>
          <p:nvPr/>
        </p:nvSpPr>
        <p:spPr>
          <a:xfrm>
            <a:off x="822240" y="324000"/>
            <a:ext cx="39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LATY CLEAV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809880" y="1066680"/>
            <a:ext cx="47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usually formed during the early stage of </a:t>
            </a:r>
            <a:r>
              <a:rPr b="1" lang="en-US" sz="1800" spc="-1" strike="noStrike" u="sng">
                <a:solidFill>
                  <a:srgbClr val="969696"/>
                </a:solidFill>
                <a:uFillTx/>
                <a:latin typeface="Times New Roman"/>
              </a:rPr>
              <a:t>Low-grade Metamorphism</a:t>
            </a: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 due to lithostatic st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w sheet-structure minerals tends to be parallel to the bedding planes during metamorphis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9" descr="C:\PETROLOGY\METAMORPHIC ROCKS\origshale.gif"/>
          <p:cNvPicPr/>
          <p:nvPr/>
        </p:nvPicPr>
        <p:blipFill>
          <a:blip r:embed="rId2"/>
          <a:stretch/>
        </p:blipFill>
        <p:spPr>
          <a:xfrm>
            <a:off x="228600" y="1143000"/>
            <a:ext cx="3429000" cy="1504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"/>
          <p:cNvSpPr/>
          <p:nvPr/>
        </p:nvSpPr>
        <p:spPr>
          <a:xfrm>
            <a:off x="5105520" y="3200400"/>
            <a:ext cx="3733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96969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however, further deep burial along the continental margin; compressional forces will cause deformation (folding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nce, the sheet minerals as well as foliation will no longer be parallel to the bedding planes, such type of foliation in fine grained rocks is calle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laty cleav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5"/>
          <p:cNvSpPr/>
          <p:nvPr/>
        </p:nvSpPr>
        <p:spPr>
          <a:xfrm>
            <a:off x="304920" y="4572000"/>
            <a:ext cx="146340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h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8" descr="C:\PETROLOGY\SEDIMENTARY ROCKS\shale.gif"/>
          <p:cNvPicPr/>
          <p:nvPr/>
        </p:nvPicPr>
        <p:blipFill>
          <a:blip r:embed="rId1"/>
          <a:stretch/>
        </p:blipFill>
        <p:spPr>
          <a:xfrm>
            <a:off x="228600" y="1676520"/>
            <a:ext cx="3978360" cy="2822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C:\PETROLOGY\METAMORPHIC ROCKS\slate.jpg"/>
          <p:cNvPicPr/>
          <p:nvPr/>
        </p:nvPicPr>
        <p:blipFill>
          <a:blip r:embed="rId2"/>
          <a:stretch/>
        </p:blipFill>
        <p:spPr>
          <a:xfrm>
            <a:off x="5029200" y="1676520"/>
            <a:ext cx="4114800" cy="2819160"/>
          </a:xfrm>
          <a:prstGeom prst="rect">
            <a:avLst/>
          </a:prstGeom>
          <a:ln w="0">
            <a:noFill/>
          </a:ln>
        </p:spPr>
      </p:pic>
      <p:sp>
        <p:nvSpPr>
          <p:cNvPr id="158" name="Line 10"/>
          <p:cNvSpPr/>
          <p:nvPr/>
        </p:nvSpPr>
        <p:spPr>
          <a:xfrm>
            <a:off x="4343400" y="297180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5181480" y="4572000"/>
            <a:ext cx="146376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YLL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28600" y="1295280"/>
            <a:ext cx="832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ually associated with intermediate grade of metamorphism; where the mineral grains grows large in size as compare to that seen in s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develops a pronounced  foliation where the preferred oriented minerals are s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C:\PETROLOGY\METAMORPHIC ROCKS\schist.gif"/>
          <p:cNvPicPr/>
          <p:nvPr/>
        </p:nvPicPr>
        <p:blipFill>
          <a:blip r:embed="rId1"/>
          <a:stretch/>
        </p:blipFill>
        <p:spPr>
          <a:xfrm>
            <a:off x="1447920" y="1143000"/>
            <a:ext cx="5851440" cy="33829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11040" y="304920"/>
            <a:ext cx="63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HISTOSE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09480" y="4724280"/>
            <a:ext cx="8093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formed during intermediate and high grade metamorphis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in size increases and can be seen by naked eye; grains tends to enlarge with increasing grade of metamorphism; the coarse grained sheet-structure minerals show preferred ori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in size is the main difference between the slaty structure and schistos stru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1" descr="C:\PETROLOGY\METAMORPHIC ROCKS\qtz-musc%20schist.jpg"/>
          <p:cNvPicPr/>
          <p:nvPr/>
        </p:nvPicPr>
        <p:blipFill>
          <a:blip r:embed="rId2"/>
          <a:stretch/>
        </p:blipFill>
        <p:spPr>
          <a:xfrm>
            <a:off x="228600" y="1143000"/>
            <a:ext cx="518148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NEISSIC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C:\PETROLOGY\METAMORPHIC ROCKS\gneiss.gif"/>
          <p:cNvPicPr/>
          <p:nvPr/>
        </p:nvPicPr>
        <p:blipFill>
          <a:blip r:embed="rId1"/>
          <a:stretch/>
        </p:blipFill>
        <p:spPr>
          <a:xfrm>
            <a:off x="1447920" y="914400"/>
            <a:ext cx="5851440" cy="3382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PETROLOGY\METAMORPHIC ROCKS\gneiss_X.jpg"/>
          <p:cNvPicPr/>
          <p:nvPr/>
        </p:nvPicPr>
        <p:blipFill>
          <a:blip r:embed="rId2"/>
          <a:stretch/>
        </p:blipFill>
        <p:spPr>
          <a:xfrm>
            <a:off x="1371600" y="990720"/>
            <a:ext cx="4952880" cy="3247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365040" y="4533840"/>
            <a:ext cx="8321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ually associated with high-grade regional metamorphism (where differential stress prevails I.e. tectonic for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the sheet silicates and other minerals like quartz/feldspars/hornblende/pyroxene are segregated in distinct bands in the rocks- known as </a:t>
            </a:r>
            <a:r>
              <a:rPr b="1" i="1" lang="en-US" sz="2000" spc="-1" strike="noStrike" u="sng">
                <a:solidFill>
                  <a:srgbClr val="969696"/>
                </a:solidFill>
                <a:uFillTx/>
                <a:latin typeface="Times New Roman"/>
              </a:rPr>
              <a:t>gneissic banding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of Metamorphic rocks based on texture/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33520" y="39621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89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ff66"/>
                </a:solidFill>
                <a:uFillTx/>
                <a:latin typeface="Times New Roman"/>
              </a:rPr>
              <a:t>PHYL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similar to slate, but slightly coarser phyllosilicate gr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grains can be seen in hand specimen, giving silk appearance to cleavage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often cleavage planes less perfectly planar than s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04920" y="14479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89080" indent="-289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LATE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strongly cleaved r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-cleavage planes are developed due to orientation of fine phyllosilcate grains eg. Muscovite, biotite, chlorite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-individual grains too fine to be visible with naked e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-overall dull appear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-1731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ffcc"/>
                </a:solidFill>
                <a:uFillTx/>
                <a:latin typeface="Times New Roman"/>
              </a:rPr>
              <a:t>SCH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arallel alignment of moderately coarse grains (fabric=schist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grains are visible by e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mainly phyllosilicates and other minerals such as hornblende, kyanite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04920" y="2514600"/>
            <a:ext cx="8229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73160" indent="-17316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NEI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oarse grained rock (grain size several millimetres)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foliated (planar fabric: either schistosity or compositional laye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endency for different minerals to segregate into layers parallel to foliation (gneissic layering): typically quartz and feldspar rich layers tend to separate from micaceous lay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eti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rthogneiss: rocks formed from Igneous r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 paragneiss: rocks formed from Sedimentary rocks -metasedimentary gnei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457200" y="457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73160" indent="-173160" algn="just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ffcc"/>
                </a:solidFill>
                <a:uFillTx/>
                <a:latin typeface="Times New Roman"/>
              </a:rPr>
              <a:t>QUARTIZ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it comprise equidimensional minerals viz. quartz and feldsp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 foliated; show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GRANULOSE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C:\PETROLOGY\METAMORPHIC ROCKS\quartz_X.jpg"/>
          <p:cNvPicPr/>
          <p:nvPr/>
        </p:nvPicPr>
        <p:blipFill>
          <a:blip r:embed="rId1"/>
          <a:stretch/>
        </p:blipFill>
        <p:spPr>
          <a:xfrm>
            <a:off x="2209680" y="2286000"/>
            <a:ext cx="53341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73392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ocks are baked by heat of molten magma or squeezed by the movements of huge tectonic plates or by the pressure of overlying thick succession of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3048120"/>
            <a:ext cx="85341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altered or changed beyond their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 change in Chemical composition, texture and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343400" y="24382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4419720" y="44956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752480" y="5334120"/>
            <a:ext cx="5867640" cy="8380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1992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ype of Metamorph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ataclastic Metamorph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metamorphism occurs mainly due to direct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. when two bodies of rock slide past one another along a fault zone.  Heat is generated by the friction of sliding along the zone, and the rocks tend to crushed and pulverized due to the sli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aclastic metamorphism is mere mechanical breakdown of rocks without any new mineral formation, however, sometime due to intense shearing few new minerals are 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5" descr="C:\STRUCTURAL GEOLOGY\right.gif"/>
          <p:cNvPicPr/>
          <p:nvPr/>
        </p:nvPicPr>
        <p:blipFill>
          <a:blip r:embed="rId1"/>
          <a:stretch/>
        </p:blipFill>
        <p:spPr>
          <a:xfrm>
            <a:off x="1295280" y="4952880"/>
            <a:ext cx="3048120" cy="17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380880" y="30492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ntact Metamorph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type of metamorphism occurs locally adjacent to the igneous intrusion; with high temp. and low 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little change in bulk composition of the r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surrounding the intrusion (Batholith) is heated by the magma; metamorphism is restricted to a zone surrounding the intrusion, this zone is know as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Times New Roman"/>
              </a:rPr>
              <a:t>METAMORPHIC AUREO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ocks formed are non-foliated fine-grained rocks called as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HORNFEL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5" descr="C:\PETROLOGY\METAMORPHIC ROCKS\contactaureole.gif"/>
          <p:cNvPicPr/>
          <p:nvPr/>
        </p:nvPicPr>
        <p:blipFill>
          <a:blip r:embed="rId1"/>
          <a:stretch/>
        </p:blipFill>
        <p:spPr>
          <a:xfrm>
            <a:off x="2971800" y="3241800"/>
            <a:ext cx="373392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380880" y="22860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gional Metamorph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morphism occurs covering larger area, which is subjected to intense deformation under direct or differential st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cks formed under such environment are usually strongly foliated, such as slates, schists, and gni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fferential stresses result from tectonic for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g. when two continental masses collide with one another resulting into mountain building activity. Compressive stresses result in folding of the r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5" descr="C:\PETROLOGY\METAMORPHIC ROCKS\deformmeta.gif"/>
          <p:cNvPicPr/>
          <p:nvPr/>
        </p:nvPicPr>
        <p:blipFill>
          <a:blip r:embed="rId1"/>
          <a:stretch/>
        </p:blipFill>
        <p:spPr>
          <a:xfrm>
            <a:off x="3276720" y="3200400"/>
            <a:ext cx="26668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19"/>
          <p:cNvSpPr/>
          <p:nvPr/>
        </p:nvSpPr>
        <p:spPr>
          <a:xfrm>
            <a:off x="1905120" y="304920"/>
            <a:ext cx="5486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Metamorphic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26"/>
          <p:cNvSpPr/>
          <p:nvPr/>
        </p:nvSpPr>
        <p:spPr>
          <a:xfrm>
            <a:off x="533520" y="11430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73160" indent="-17316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LI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mon foliated rocks in the order of increasing grain size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LATE –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PHYLLI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57eb15"/>
                </a:solidFill>
                <a:latin typeface="Times New Roman"/>
              </a:rPr>
              <a:t>SCH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GNEI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27"/>
          <p:cNvSpPr/>
          <p:nvPr/>
        </p:nvSpPr>
        <p:spPr>
          <a:xfrm>
            <a:off x="609480" y="3276720"/>
            <a:ext cx="8229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73160" indent="-17316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-FOLI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rtzites and hornf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0880" y="30492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Importance of Metamorphic ro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ff33"/>
                </a:solidFill>
                <a:uFillTx/>
                <a:latin typeface="Times New Roman"/>
              </a:rPr>
              <a:t>S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e grained impermeable, cleavable and 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mpetent; cannot withstand great 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since they are impermeable and split easily; thin large sized slabs of uniform thickness can be extracted for roofing purp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onomic importance: Since they are bad conductor of electricity– used in electrical industries for switch board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533520" y="3657600"/>
            <a:ext cx="8381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GNE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neissic rocks are rich in SILICA i.e. predominantly Quartz and Feldspars along with garnet, pyroxene, Hornblende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porous and impermeable nature increases the strength of the r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iated character to some extend improves work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perpendicular to foliated planes gives more stronger fou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371600" y="380880"/>
            <a:ext cx="5715000" cy="18086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mineral assemblage is more or less similar to Granite (with less % mafic minerals) th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used as building 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ggregate for making conc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road metals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2571840"/>
            <a:ext cx="830556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SCH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ly composed of prismatic or platy minerals, which contributes in development of Schistose Structure. Eg. Hornblende, tourmaline, sillimanite etc (prismatic); chlorite, muscovite, biotite, talc, kyanite etc. (pla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vable nature of Schists is the main reason for their weakness; they are incompe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380880" y="533520"/>
            <a:ext cx="83822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QUARTZ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NDSTONE (composed of quartz/feldspars/feldspathoid minerals) when under go metamorphism result into Quartz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ulose texture/structure (Granoblastic) makes them most competent rock amongst all other metamorphic ro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metamorphism of Sst. Result disappearance of cementing material, bedding planes, fossil content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tzites are compact, hard and strong; very less porous and less permeable than the parent S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ominance of Quartz makes the rock very hard and suitable for road metal; can be used as concrete aggregate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s as strong foundation for any CE structu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380880" y="609480"/>
            <a:ext cx="83822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MAR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tin word “Marmor”– Shining st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areous metamorphic r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ugh it shows granulose structure it is not as hard as Quartzite because of its Calcareous composition; but can withstand reasonable lo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to its pleasant colour and brilliant appearance when polished it is extensively used as building st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C:\PETROLOGY\METAMORPHIC ROCKS\marble.jpg"/>
          <p:cNvPicPr/>
          <p:nvPr/>
        </p:nvPicPr>
        <p:blipFill>
          <a:blip r:embed="rId1"/>
          <a:stretch/>
        </p:blipFill>
        <p:spPr>
          <a:xfrm>
            <a:off x="2590920" y="3200400"/>
            <a:ext cx="4495680" cy="2948040"/>
          </a:xfrm>
          <a:prstGeom prst="rect">
            <a:avLst/>
          </a:prstGeom>
          <a:ln w="0">
            <a:noFill/>
          </a:ln>
        </p:spPr>
      </p:pic>
      <p:sp>
        <p:nvSpPr>
          <p:cNvPr id="196" name="Line 7"/>
          <p:cNvSpPr/>
          <p:nvPr/>
        </p:nvSpPr>
        <p:spPr>
          <a:xfrm flipV="1">
            <a:off x="1676520" y="4190760"/>
            <a:ext cx="2133360" cy="1066680"/>
          </a:xfrm>
          <a:prstGeom prst="line">
            <a:avLst/>
          </a:prstGeom>
          <a:ln w="572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56480" y="53341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 process that occur in rocks due to the effect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ff66"/>
                </a:solidFill>
                <a:latin typeface="Times New Roman"/>
              </a:rPr>
              <a:t>High temper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4165"/>
                </a:solidFill>
                <a:latin typeface="Times New Roman"/>
              </a:rPr>
              <a:t>High pres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Times New Roman"/>
              </a:rPr>
              <a:t>Chemically active flu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ource of temperature is either from magma or due to the depth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Metamorphism usually result into change in min. comp. and texture of rocks (Ig. and Sed.) which are subjected to tem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&gt; 100</a:t>
            </a:r>
            <a:r>
              <a:rPr b="1" i="1" lang="en-US" sz="2400" spc="-1" strike="noStrike" u="sng" baseline="30000">
                <a:solidFill>
                  <a:srgbClr val="00ffff"/>
                </a:solidFill>
                <a:uFillTx/>
                <a:latin typeface="Times New Roman"/>
              </a:rPr>
              <a:t>0</a:t>
            </a:r>
            <a:r>
              <a:rPr b="1" i="1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 C and pressure &gt; 1000’s M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ff"/>
                </a:solidFill>
                <a:uFillTx/>
                <a:latin typeface="Times New Roman"/>
              </a:rPr>
              <a:t>Low-grade metamorphis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Occurs at about 100</a:t>
            </a:r>
            <a:r>
              <a:rPr b="1" i="1" lang="en-US" sz="2400" spc="-1" strike="noStrike" baseline="30000">
                <a:solidFill>
                  <a:srgbClr val="00ffff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 C to 500</a:t>
            </a:r>
            <a:r>
              <a:rPr b="1" i="1" lang="en-US" sz="2400" spc="-1" strike="noStrike" baseline="30000">
                <a:solidFill>
                  <a:srgbClr val="00ffff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ff"/>
                </a:solidFill>
                <a:uFillTx/>
                <a:latin typeface="Times New Roman"/>
              </a:rPr>
              <a:t>High-grade metamorphis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Occurs at &gt; 500</a:t>
            </a:r>
            <a:r>
              <a:rPr b="1" lang="en-US" sz="2400" spc="-1" strike="noStrike" baseline="30000">
                <a:solidFill>
                  <a:srgbClr val="00ff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895120" y="30456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C:\PETROLOGY\METAMORPHIC ROCKS\jnm-1.jpg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32767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FORM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2666880" y="22824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 flipH="1">
            <a:off x="3123720" y="914400"/>
            <a:ext cx="762120" cy="4572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4876920" y="914400"/>
            <a:ext cx="838080" cy="30492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52280" y="198108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creases with depth due to increase in overbu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28600" y="32004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cts vertically downwards and affects the volume of both liquid &amp; soli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724280" y="190512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with depth upto some extent, effective in the upper part of the cr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4800600" y="1371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RECT  or Differentia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724280" y="3124080"/>
            <a:ext cx="419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cts in all direction and affects only on solids resulting into deformation of shape and change in mineral 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228600" y="44197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high temperature is also associated with (due to depth fa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4800600" y="457200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high temperature is not always associated. to depth fa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228600" y="54864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Lithostatic pressure- due to overbu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87692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tress- due to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tectonic fo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1143000" y="2514600"/>
            <a:ext cx="175248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2666880" y="1523880"/>
            <a:ext cx="0" cy="60984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3"/>
          <p:cNvSpPr/>
          <p:nvPr/>
        </p:nvSpPr>
        <p:spPr>
          <a:xfrm flipH="1">
            <a:off x="3504960" y="3124080"/>
            <a:ext cx="609480" cy="180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4"/>
          <p:cNvSpPr/>
          <p:nvPr/>
        </p:nvSpPr>
        <p:spPr>
          <a:xfrm flipV="1">
            <a:off x="1504440" y="3557520"/>
            <a:ext cx="496080" cy="35388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5410080" y="1600200"/>
            <a:ext cx="121932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6"/>
          <p:cNvSpPr/>
          <p:nvPr/>
        </p:nvSpPr>
        <p:spPr>
          <a:xfrm flipV="1">
            <a:off x="5619240" y="2643120"/>
            <a:ext cx="496080" cy="35388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6553080" y="838080"/>
            <a:ext cx="0" cy="45720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8"/>
          <p:cNvSpPr/>
          <p:nvPr/>
        </p:nvSpPr>
        <p:spPr>
          <a:xfrm flipH="1">
            <a:off x="7314840" y="2133720"/>
            <a:ext cx="1219320" cy="144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1143000" y="43434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5712480" y="34290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l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782040" y="3808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4648320" y="25146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8077680" y="1523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C:\PETROLOGY\METAMORPHIC ROCKS\jnm-2 copy.jpg"/>
          <p:cNvPicPr/>
          <p:nvPr/>
        </p:nvPicPr>
        <p:blipFill>
          <a:blip r:embed="rId1"/>
          <a:stretch/>
        </p:blipFill>
        <p:spPr>
          <a:xfrm>
            <a:off x="990720" y="762120"/>
            <a:ext cx="7364160" cy="46972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752480" y="54864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715000" y="54864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ite-Gne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S IN METAMORPHIC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Foli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i="1" lang="en-US" sz="2400" spc="-1" strike="noStrike">
                <a:solidFill>
                  <a:srgbClr val="969696"/>
                </a:solidFill>
                <a:latin typeface="Times New Roman"/>
              </a:rPr>
              <a:t>platy, lamellar or flak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rals (eg. sheet silicate minerals the micas: biotite and muscovite, chlorite, talc, and serpentine), occurring in rock orient themselves </a:t>
            </a:r>
            <a:r>
              <a:rPr b="1" i="1" lang="en-US" sz="2400" spc="-1" strike="noStrike">
                <a:solidFill>
                  <a:srgbClr val="969696"/>
                </a:solidFill>
                <a:latin typeface="Times New Roman"/>
              </a:rPr>
              <a:t>parallel to one an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 perpendicular to the direction of maximum pressure or stres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0" y="5791320"/>
            <a:ext cx="137160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imes New Roman"/>
              </a:rPr>
              <a:t>Random ori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imes New Roman"/>
              </a:rPr>
              <a:t>Of miner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1676520" y="3733920"/>
            <a:ext cx="6446880" cy="2754360"/>
            <a:chOff x="1676520" y="3733920"/>
            <a:chExt cx="6446880" cy="2754360"/>
          </a:xfrm>
        </p:grpSpPr>
        <p:grpSp>
          <p:nvGrpSpPr>
            <p:cNvPr id="141" name="Group 10"/>
            <p:cNvGrpSpPr/>
            <p:nvPr/>
          </p:nvGrpSpPr>
          <p:grpSpPr>
            <a:xfrm>
              <a:off x="1676520" y="3733920"/>
              <a:ext cx="6446880" cy="2754360"/>
              <a:chOff x="1676520" y="3733920"/>
              <a:chExt cx="6446880" cy="2754360"/>
            </a:xfrm>
          </p:grpSpPr>
          <p:pic>
            <p:nvPicPr>
              <p:cNvPr id="142" name="Picture 4" descr="C:\PETROLOGY\METAMORPHIC ROCKS\preforient.gif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3733920"/>
                <a:ext cx="6446880" cy="275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Rectangle 6"/>
              <p:cNvSpPr/>
              <p:nvPr/>
            </p:nvSpPr>
            <p:spPr>
              <a:xfrm>
                <a:off x="1676520" y="3733920"/>
                <a:ext cx="1904760" cy="533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8"/>
              <p:cNvSpPr/>
              <p:nvPr/>
            </p:nvSpPr>
            <p:spPr>
              <a:xfrm>
                <a:off x="4191120" y="6172200"/>
                <a:ext cx="2286000" cy="304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Rectangle 11"/>
            <p:cNvSpPr/>
            <p:nvPr/>
          </p:nvSpPr>
          <p:spPr>
            <a:xfrm>
              <a:off x="6172200" y="4343400"/>
              <a:ext cx="175248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Line 7"/>
          <p:cNvSpPr/>
          <p:nvPr/>
        </p:nvSpPr>
        <p:spPr>
          <a:xfrm flipV="1">
            <a:off x="1447920" y="5333760"/>
            <a:ext cx="685800" cy="685800"/>
          </a:xfrm>
          <a:prstGeom prst="line">
            <a:avLst/>
          </a:prstGeom>
          <a:ln w="572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086600" y="5410080"/>
            <a:ext cx="1752480" cy="1008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Preferred ori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Of miner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H="1" flipV="1">
            <a:off x="5943240" y="5257440"/>
            <a:ext cx="762120" cy="609480"/>
          </a:xfrm>
          <a:prstGeom prst="line">
            <a:avLst/>
          </a:prstGeom>
          <a:ln w="572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07:58:33Z</dcterms:created>
  <dc:creator>Unknown User</dc:creator>
  <dc:description/>
  <dc:language>en-US</dc:language>
  <cp:lastModifiedBy>Dell</cp:lastModifiedBy>
  <dcterms:modified xsi:type="dcterms:W3CDTF">2011-10-07T19:44:05Z</dcterms:modified>
  <cp:revision>38</cp:revision>
  <dc:subject/>
  <dc:title>Classification of Metamorphic rocks based on texture</dc:title>
</cp:coreProperties>
</file>