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D7D-1870-4F5B-B322-8B14FCFB8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DAF4-A264-405E-9AAA-51164488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2D3-E431-42CA-AC63-483B0E6D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33BD-31A7-4CCA-93BB-EFA7942B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1E5-D3F2-412A-8C0C-31F80B1D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C44-9482-4EB4-B7FC-79A75646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360E-2E5C-48D4-A601-A7FBF634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185B-06B8-4537-BAA2-4BA5CB2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624-E1B7-4523-9D65-73E3A84B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A4A3-DBDF-4EDD-ADE6-C38A90B5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23FF-49AF-41E2-8D52-0759C201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020-1820-4BA2-98F5-B4A61B74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A580-8F48-4AF9-BCA9-951594B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10F-B2B0-4EF0-BA93-701207D3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C734-0568-4205-99D1-4E85C55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94B-0A57-4ECB-9F2E-44C83FC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F50A-66CA-4687-BB00-41DAF2A4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B5EC-ECE3-4207-A86C-F280C40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647-DED5-494F-8628-E1506D9D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760-85E9-424A-89B1-77D4BB35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5D0-5EE5-4984-A045-B6D16432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F8D-4624-4F38-962D-0CF1B5C3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6EF-BC55-49DC-A864-856664D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55B-BF89-4153-B16E-13F20AE6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FC8-0EF8-4EAD-86D4-A7A01087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87A-B5A2-4EF4-8AEF-CDDF0D9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CF81-3ADB-423E-BD66-FF7D70D63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169A-6251-4D3F-8FC2-25773D765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981080" y="1143000"/>
            <a:ext cx="62294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amorphic Rock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" name="Picture 6" descr="C:\PETROLOGY\METAMORPHIC ROCKS\meta.gif"/>
          <p:cNvPicPr/>
          <p:nvPr/>
        </p:nvPicPr>
        <p:blipFill>
          <a:blip r:embed="rId1"/>
          <a:stretch/>
        </p:blipFill>
        <p:spPr>
          <a:xfrm>
            <a:off x="457200" y="28954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ineatio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rismatic or rod-like miner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g. Hornblende, tourmaline etc.) occurring in a rock orient themselves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erpendicular to direction of maxi. Pressure or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PETROLOGY\METAMORPHIC ROCKS\slate.gif"/>
          <p:cNvPicPr/>
          <p:nvPr/>
        </p:nvPicPr>
        <p:blipFill>
          <a:blip r:embed="rId1"/>
          <a:stretch/>
        </p:blipFill>
        <p:spPr>
          <a:xfrm>
            <a:off x="228600" y="3124080"/>
            <a:ext cx="4648320" cy="2389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822240" y="32400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LATY CLEA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809880" y="106668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usually formed during the early stage of </a:t>
            </a:r>
            <a:r>
              <a:rPr b="1" lang="en-US" sz="1800" spc="-1" strike="noStrike" u="sng">
                <a:solidFill>
                  <a:srgbClr val="969696"/>
                </a:solidFill>
                <a:uFillTx/>
                <a:latin typeface="Times New Roman"/>
              </a:rPr>
              <a:t>Low-grade Metamorphism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due to lithostatic st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sheet-structure minerals tends to be parallel to the bedding planes during metamorph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C:\PETROLOGY\METAMORPHIC ROCKS\origshale.gif"/>
          <p:cNvPicPr/>
          <p:nvPr/>
        </p:nvPicPr>
        <p:blipFill>
          <a:blip r:embed="rId2"/>
          <a:stretch/>
        </p:blipFill>
        <p:spPr>
          <a:xfrm>
            <a:off x="228600" y="1143000"/>
            <a:ext cx="3429000" cy="1504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5105520" y="3200400"/>
            <a:ext cx="373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6969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however, further deep burial along the continental margin; compressional forces will cause deformation (fold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nce, the sheet minerals as well as foliation will no longer be parallel to the bedding planes, such type of foliation in fine grained rocks is call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laty cleav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04920" y="4572000"/>
            <a:ext cx="146340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h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C:\PETROLOGY\SEDIMENTARY ROCKS\shale.gif"/>
          <p:cNvPicPr/>
          <p:nvPr/>
        </p:nvPicPr>
        <p:blipFill>
          <a:blip r:embed="rId1"/>
          <a:stretch/>
        </p:blipFill>
        <p:spPr>
          <a:xfrm>
            <a:off x="228600" y="1676520"/>
            <a:ext cx="397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PETROLOGY\METAMORPHIC ROCKS\slate.jpg"/>
          <p:cNvPicPr/>
          <p:nvPr/>
        </p:nvPicPr>
        <p:blipFill>
          <a:blip r:embed="rId2"/>
          <a:stretch/>
        </p:blipFill>
        <p:spPr>
          <a:xfrm>
            <a:off x="5029200" y="16765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158" name="Line 10"/>
          <p:cNvSpPr/>
          <p:nvPr/>
        </p:nvSpPr>
        <p:spPr>
          <a:xfrm>
            <a:off x="4343400" y="2971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81480" y="4572000"/>
            <a:ext cx="146376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1295280"/>
            <a:ext cx="832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intermediate grade of metamorphism; where the mineral grains grows large in size as compare to that seen i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develops a pronounced  foliation where the preferred oriented minerals are s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:\PETROLOGY\METAMORPHIC ROCKS\schist.gif"/>
          <p:cNvPicPr/>
          <p:nvPr/>
        </p:nvPicPr>
        <p:blipFill>
          <a:blip r:embed="rId1"/>
          <a:stretch/>
        </p:blipFill>
        <p:spPr>
          <a:xfrm>
            <a:off x="1447920" y="1143000"/>
            <a:ext cx="5851440" cy="3382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11040" y="304920"/>
            <a:ext cx="63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ISTOS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47242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formed during intermediate and high grade metamorph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ncreases and can be seen by naked eye; grains tends to enlarge with increasing grade of metamorphism; the coarse grained sheet-structure minerals show 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s the main difference between the slaty structure and schistos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C:\PETROLOGY\METAMORPHIC ROCKS\qtz-musc%20schist.jpg"/>
          <p:cNvPicPr/>
          <p:nvPr/>
        </p:nvPicPr>
        <p:blipFill>
          <a:blip r:embed="rId2"/>
          <a:stretch/>
        </p:blipFill>
        <p:spPr>
          <a:xfrm>
            <a:off x="228600" y="1143000"/>
            <a:ext cx="51814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NEISSIC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C:\PETROLOGY\METAMORPHIC ROCKS\gneiss.gif"/>
          <p:cNvPicPr/>
          <p:nvPr/>
        </p:nvPicPr>
        <p:blipFill>
          <a:blip r:embed="rId1"/>
          <a:stretch/>
        </p:blipFill>
        <p:spPr>
          <a:xfrm>
            <a:off x="1447920" y="914400"/>
            <a:ext cx="5851440" cy="3382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PETROLOGY\METAMORPHIC ROCKS\gneiss_X.jpg"/>
          <p:cNvPicPr/>
          <p:nvPr/>
        </p:nvPicPr>
        <p:blipFill>
          <a:blip r:embed="rId2"/>
          <a:stretch/>
        </p:blipFill>
        <p:spPr>
          <a:xfrm>
            <a:off x="1371600" y="990720"/>
            <a:ext cx="4952880" cy="3247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365040" y="4533840"/>
            <a:ext cx="8321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high-grade regional metamorphism (where differential stress prevails I.e. tectonic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he sheet silicates and other minerals like quartz/feldspars/hornblende/pyroxene are segregated in distinct bands in the rocks- known as </a:t>
            </a:r>
            <a:r>
              <a:rPr b="1" i="1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gneissic banding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Metamorphic rocks based on texture/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</a:rPr>
              <a:t>PHY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imilar to slate, but slightly coarser phyllosilicate 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ins can be seen in hand specimen, giving silk appearance to cleavage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often cleavage planes less perfectly planar tha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04920" y="14479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9080" indent="-289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LATE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strongly cleaved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cleavage planes are developed due to orientation of fine phyllosilcate grains eg. Muscovite, biotite, chlor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individual grains too fine to be visible with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overall dull appea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SCH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arallel alignment of moderately coarse grains (fabric=schist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ains are visible by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inly phyllosilicates and other minerals such as hornblende, kyan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25146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NE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oarse grained rock (grain size several millimetres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foliated (planar fabric: either schistosity or compositional lay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ndency for different minerals to segregate into layers parallel to foliation (gneissic layering): typically quartz and feldspar rich layers tend to separate from micaceous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eti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thogneiss: rocks formed from Igneous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paragneiss: rocks formed from Sedimentary rocks -metasedimentary gne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QUARTIZ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t comprise equidimensional minerals viz. quartz and feldsp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foliated; show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GRANULOS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C:\PETROLOGY\METAMORPHIC ROCKS\quartz_X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341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ocks are baked by heat of molten magma or squeezed by the movements of huge tectonic plates or by the pressure of overlying thick succession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3048120"/>
            <a:ext cx="8534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altered or changed beyond their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change in Chemical composition, texture and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343400" y="24382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419720" y="4495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52480" y="5334120"/>
            <a:ext cx="5867640" cy="838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199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ype of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taclastic Meta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metamorphism occurs mainly due to direc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. when two bodies of rock slide past one another along a fault zone.  Heat is generated by the friction of sliding along the zone, and the rocks tend to crushed and pulverized due to the sl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clastic metamorphism is mere mechanical breakdown of rocks without any new mineral formation, however, sometime due to intense shearing few new minerals are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C:\STRUCTURAL GEOLOGY\right.gif"/>
          <p:cNvPicPr/>
          <p:nvPr/>
        </p:nvPicPr>
        <p:blipFill>
          <a:blip r:embed="rId1"/>
          <a:stretch/>
        </p:blipFill>
        <p:spPr>
          <a:xfrm>
            <a:off x="1295280" y="4952880"/>
            <a:ext cx="30481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act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ype of metamorphism occurs locally adjacent to the igneous intrusion; with high temp. and low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little change in bulk composition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surrounding the intrusion (Batholith) is heated by the magma; metamorphism is restricted to a zone surrounding the intrusion, this zone is know as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Times New Roman"/>
              </a:rPr>
              <a:t>METAMORPHIC AURE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cks formed are non-foliated fine-grained rocks called 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RNFEL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C:\PETROLOGY\METAMORPHIC ROCKS\contactaureole.gif"/>
          <p:cNvPicPr/>
          <p:nvPr/>
        </p:nvPicPr>
        <p:blipFill>
          <a:blip r:embed="rId1"/>
          <a:stretch/>
        </p:blipFill>
        <p:spPr>
          <a:xfrm>
            <a:off x="2971800" y="324180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80880" y="2286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gional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morphism occurs covering larger area, which is subjected to intense deformation under direct or differential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cks formed under such environment are usually strongly foliated, such as slates, schists, and gni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stresses result from tectonic for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. when two continental masses collide with one another resulting into mountain building activity. Compressive stresses result in folding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C:\PETROLOGY\METAMORPHIC ROCKS\deformmeta.gif"/>
          <p:cNvPicPr/>
          <p:nvPr/>
        </p:nvPicPr>
        <p:blipFill>
          <a:blip r:embed="rId1"/>
          <a:stretch/>
        </p:blipFill>
        <p:spPr>
          <a:xfrm>
            <a:off x="3276720" y="3200400"/>
            <a:ext cx="26668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19"/>
          <p:cNvSpPr/>
          <p:nvPr/>
        </p:nvSpPr>
        <p:spPr>
          <a:xfrm>
            <a:off x="1905120" y="30492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etamorphic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26"/>
          <p:cNvSpPr/>
          <p:nvPr/>
        </p:nvSpPr>
        <p:spPr>
          <a:xfrm>
            <a:off x="53352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foliated rocks in the order of increasing grain siz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ATE –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HYLL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57eb15"/>
                </a:solidFill>
                <a:latin typeface="Times New Roman"/>
              </a:rPr>
              <a:t>SCH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NE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27"/>
          <p:cNvSpPr/>
          <p:nvPr/>
        </p:nvSpPr>
        <p:spPr>
          <a:xfrm>
            <a:off x="609480" y="32767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zites and hornf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mportance of Metamorphic r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S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 grained impermeable, cleavable and 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etent; cannot withstand great 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ince they are impermeable and split easily; thin large sized slabs of uniform thickness can be extracted for roofing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importance: Since they are bad conductor of electricity– used in electrical industries for switch board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33520" y="36576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eissic rocks are rich in SILICA i.e. predominantly Quartz and Feldspars along with garnet, pyroxene, Hornblend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orous and impermeable nature increases the strength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iated character to some extend improves work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erpendicular to foliated planes gives more stronger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371600" y="380880"/>
            <a:ext cx="5715000" cy="1808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ineral assemblage is more or less similar to Granite (with less % mafic minerals) 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sed as building 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ggregate for making con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road metal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2571840"/>
            <a:ext cx="83055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C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ly composed of prismatic or platy minerals, which contributes in development of Schistose Structure. Eg. Hornblende, tourmaline, sillimanite etc (prismatic); chlorite, muscovite, biotite, talc, kyanite etc. (pl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vable nature of Schists is the main reason for their weakness; they are in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0880" y="5335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QUARTZ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DSTONE (composed of quartz/feldspars/feldspathoid minerals) when under go metamorphism result into Quartz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ose texture/structure (Granoblastic) makes them most competent rock amongst all other metamorphic r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etamorphism of Sst. Result disappearance of cementing material, bedding planes, fossil content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zites are compact, hard and strong; very less porous and less permeable than the parent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ominance of Quartz makes the rock very hard and suitable for road metal; can be used as concrete aggrega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s as strong foundation for any CE struc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80880" y="609480"/>
            <a:ext cx="83822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R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tin word “Marmor”– Shin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areous metamorphic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gh it shows granulose structure it is not as hard as Quartzite because of its Calcareous composition; but can withstand reasonable lo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its pleasant colour and brilliant appearance when polished it is extensively used as build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C:\PETROLOGY\METAMORPHIC ROCKS\marble.jpg"/>
          <p:cNvPicPr/>
          <p:nvPr/>
        </p:nvPicPr>
        <p:blipFill>
          <a:blip r:embed="rId1"/>
          <a:stretch/>
        </p:blipFill>
        <p:spPr>
          <a:xfrm>
            <a:off x="2590920" y="3200400"/>
            <a:ext cx="4495680" cy="2948040"/>
          </a:xfrm>
          <a:prstGeom prst="rect">
            <a:avLst/>
          </a:prstGeom>
          <a:ln w="0">
            <a:noFill/>
          </a:ln>
        </p:spPr>
      </p:pic>
      <p:sp>
        <p:nvSpPr>
          <p:cNvPr id="196" name="Line 7"/>
          <p:cNvSpPr/>
          <p:nvPr/>
        </p:nvSpPr>
        <p:spPr>
          <a:xfrm flipV="1">
            <a:off x="1676520" y="4190760"/>
            <a:ext cx="2133360" cy="10666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6480" y="533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process that occur in rocks due to the effec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66"/>
                </a:solidFill>
                <a:latin typeface="Times New Roman"/>
              </a:rPr>
              <a:t>High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4165"/>
                </a:solidFill>
                <a:latin typeface="Times New Roman"/>
              </a:rPr>
              <a:t>High pres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Times New Roman"/>
              </a:rPr>
              <a:t>Chemically active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urce of temperature is either from magma or due to the depth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Metamorphism usually result into change in min. comp. and texture of rocks (Ig. and Sed.) which are subjected to tem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&gt; 100</a:t>
            </a:r>
            <a:r>
              <a:rPr b="1" i="1" lang="en-US" sz="2400" spc="-1" strike="noStrike" u="sng" baseline="30000">
                <a:solidFill>
                  <a:srgbClr val="00ffff"/>
                </a:solidFill>
                <a:uFillTx/>
                <a:latin typeface="Times New Roman"/>
              </a:rPr>
              <a:t>0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C and pressure &gt; 1000’s 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Low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Occurs at about 1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 to 5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High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Occurs at &gt; 500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895120" y="3045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PETROLOGY\METAMORPHIC ROCKS\jnm-1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FORM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66688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3123720" y="914400"/>
            <a:ext cx="762120" cy="4572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876920" y="914400"/>
            <a:ext cx="838080" cy="30492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52280" y="19810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creases with depth due to increase in overbu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28600" y="32004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vertically downwards and affects the volume of both liquid &amp; sol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724280" y="190512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with depth upto some extent, effective in the upper part of the cr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800600" y="1371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CT  or Different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724280" y="31240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in all direction and affects only on solids resulting into deformation of shape and change in mineral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28600" y="44197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also associated with (due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800600" y="45720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not always associated.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28600" y="54864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ithostatic pressure- due to over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87692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ress- due to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tectonic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143000" y="2514600"/>
            <a:ext cx="175248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2666880" y="1523880"/>
            <a:ext cx="0" cy="6098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3504960" y="3124080"/>
            <a:ext cx="609480" cy="18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1504440" y="35575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410080" y="1600200"/>
            <a:ext cx="12193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5619240" y="26431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553080" y="838080"/>
            <a:ext cx="0" cy="4572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7314840" y="2133720"/>
            <a:ext cx="1219320" cy="14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143000" y="43434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712480" y="34290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782040" y="380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648320" y="2514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8077680" y="1523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C:\PETROLOGY\METAMORPHIC ROCKS\jnm-2 copy.jpg"/>
          <p:cNvPicPr/>
          <p:nvPr/>
        </p:nvPicPr>
        <p:blipFill>
          <a:blip r:embed="rId1"/>
          <a:stretch/>
        </p:blipFill>
        <p:spPr>
          <a:xfrm>
            <a:off x="990720" y="762120"/>
            <a:ext cx="7364160" cy="4697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52480" y="5486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715000" y="54864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-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S IN 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Foli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laty, lamellar or fla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rals (eg. sheet silicate minerals the micas: biotite and muscovite, chlorite, talc, and serpentine), occurring in rock orient themselves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perpendicular to the direction of maximum pressure or stre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5791320"/>
            <a:ext cx="137160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Random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676520" y="3733920"/>
            <a:ext cx="6446880" cy="2754360"/>
            <a:chOff x="1676520" y="3733920"/>
            <a:chExt cx="6446880" cy="2754360"/>
          </a:xfrm>
        </p:grpSpPr>
        <p:grpSp>
          <p:nvGrpSpPr>
            <p:cNvPr id="141" name="Group 10"/>
            <p:cNvGrpSpPr/>
            <p:nvPr/>
          </p:nvGrpSpPr>
          <p:grpSpPr>
            <a:xfrm>
              <a:off x="1676520" y="3733920"/>
              <a:ext cx="6446880" cy="2754360"/>
              <a:chOff x="1676520" y="3733920"/>
              <a:chExt cx="6446880" cy="2754360"/>
            </a:xfrm>
          </p:grpSpPr>
          <p:pic>
            <p:nvPicPr>
              <p:cNvPr id="142" name="Picture 4" descr="C:\PETROLOGY\METAMORPHIC ROCKS\preforient.gif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3733920"/>
                <a:ext cx="644688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6"/>
              <p:cNvSpPr/>
              <p:nvPr/>
            </p:nvSpPr>
            <p:spPr>
              <a:xfrm>
                <a:off x="1676520" y="3733920"/>
                <a:ext cx="190476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4191120" y="6172200"/>
                <a:ext cx="228600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Rectangle 11"/>
            <p:cNvSpPr/>
            <p:nvPr/>
          </p:nvSpPr>
          <p:spPr>
            <a:xfrm>
              <a:off x="6172200" y="4343400"/>
              <a:ext cx="17524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Line 7"/>
          <p:cNvSpPr/>
          <p:nvPr/>
        </p:nvSpPr>
        <p:spPr>
          <a:xfrm flipV="1">
            <a:off x="1447920" y="5333760"/>
            <a:ext cx="685800" cy="68580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086600" y="5410080"/>
            <a:ext cx="1752480" cy="1008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5943240" y="5257440"/>
            <a:ext cx="762120" cy="6094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7:58:33Z</dcterms:created>
  <dc:creator>Unknown User</dc:creator>
  <dc:description/>
  <dc:language>en-US</dc:language>
  <cp:lastModifiedBy>Dell</cp:lastModifiedBy>
  <dcterms:modified xsi:type="dcterms:W3CDTF">2011-10-07T19:44:05Z</dcterms:modified>
  <cp:revision>38</cp:revision>
  <dc:subject/>
  <dc:title>Classification of Metamorphic rocks based on texture</dc:title>
</cp:coreProperties>
</file>