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48F6-FEFD-4852-8C23-1C3A70FE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7B8A-3E2A-4B90-B589-DE67A9FA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0CE2-1C96-40B1-B196-7A0CB7DC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C62-7851-49C9-8DA9-5B83FC1D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055C-39DF-4192-B8E0-6E145227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403-C090-4856-885B-F0C51731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26C-06FD-475C-A626-98BE6C0D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50B-BD67-4A77-B7C7-D6DAF90B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DF4-E789-4570-AF11-C1C234A9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0F7-4E23-449A-8950-B51137CC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A07-3C52-4357-B606-72F44938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9BC-F5A6-4247-85B5-5E223206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6229-B2FD-47E9-84A1-152EEA1003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tamorph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Rock Composition or Tex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e to Heat, Pressure and Action of Flui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y Don't Rock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"De-metamorphose"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tions Can't Reverse Because Ingredients Lo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Al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H) =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3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y Mineral == Andalusite + Quartz + Water (Lo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xample of carbonate metamorphis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lomite + Quartz == Pyroxene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Lo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tions "Freeze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it Does Happen if Fluids Pre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rograde Meta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surface we call it weath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00200"/>
            <a:ext cx="266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liation is a sheetlike structure that forms when rocks are deforme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990360"/>
            <a:ext cx="2666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latt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in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ial Mel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e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743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44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every case, the foliation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direction of least resist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right angles to the direction of greatest compres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amorphic Grade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gree to Which the Rock Has Changed 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Often See Original Bed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Sometimes Even See Deformed Fossi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High Grades, Rocks Can Often Lose All Trace of Their Original Appea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MetCoal1"/>
          <p:cNvPicPr/>
          <p:nvPr/>
        </p:nvPicPr>
        <p:blipFill>
          <a:blip r:embed="rId1"/>
          <a:stretch/>
        </p:blipFill>
        <p:spPr>
          <a:xfrm>
            <a:off x="609480" y="380880"/>
            <a:ext cx="815364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etLimest1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Do Not Live at “Normal” Cond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4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standards of Earth’s interior, we live in a frozen vacu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gs that look “abnormal” to us are normal behavior for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ds can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ds can react chemically with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iven material can have several different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MetSandst1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MetBasalt1"/>
          <p:cNvPicPr/>
          <p:nvPr/>
        </p:nvPicPr>
        <p:blipFill>
          <a:blip r:embed="rId1"/>
          <a:stretch/>
        </p:blipFill>
        <p:spPr>
          <a:xfrm>
            <a:off x="380880" y="380880"/>
            <a:ext cx="822960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Metshal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bout Other Rock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MetCgl1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morphic Fac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4920" y="1397160"/>
          <a:ext cx="8534160" cy="5224320"/>
        </p:xfrm>
        <a:graphic>
          <a:graphicData uri="http://schemas.openxmlformats.org/drawingml/2006/table">
            <a:tbl>
              <a:tblPr/>
              <a:tblGrid>
                <a:gridCol w="1752480"/>
                <a:gridCol w="1295280"/>
                <a:gridCol w="1447920"/>
                <a:gridCol w="182520"/>
                <a:gridCol w="808200"/>
                <a:gridCol w="1066680"/>
                <a:gridCol w="1066680"/>
                <a:gridCol w="914400"/>
              </a:tblGrid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\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ol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ct Metamorphis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Andalusite for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km - 3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chist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, Biotite for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, Staurolite, Kyanite for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ulit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 form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ovite breaks down to K-feldspa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 Melt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sch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km - 6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km - 9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km - 12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F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log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Mantl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morphic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field_trip_map_1"/>
          <p:cNvPicPr/>
          <p:nvPr/>
        </p:nvPicPr>
        <p:blipFill>
          <a:blip r:embed="rId1"/>
          <a:stretch/>
        </p:blipFill>
        <p:spPr>
          <a:xfrm>
            <a:off x="1295280" y="1219320"/>
            <a:ext cx="6934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ntle Roc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MantleRx1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amorphism and Plate Tecton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METZONE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 Changes in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dimentary R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morph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s about 200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side range of normal near-surface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ere Does the Heat Come fro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 and Thoriu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ther Elements + Lead + Radiation (about 9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ssium-40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lcium-40 or Argon-40 + Radiation (about 1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y some primordial heat (controversi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re Does the Pressure Come from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Pressure = 14 P.s.i. (1 Atmosphere or 1 Bar = 100 kP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Beneath 10 Meters (33 Ft.) Of Water = 1 Atm. = 1 B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Pressure Beneath 3.5 m (10 ft.) Of R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in Deepest Part of Ocean = 1000 B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under One Mile of Rock = 500 B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0 Bars (2 Mi. or 3.5 km Of Rock) = 1 Kilobar (Kb.) = 100 M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sure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Newton (N) = gravitational attraction on 100 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Newton = 7 Fig Newt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Pascal (Pa) = 1 N/square me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Pascal  = pressure under thin cardboard or 0.1 mm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Thin section exerts about 1 Pa pressure on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bar = 1 atm = 100 kP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MPa = 10 b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GPa = 10 kilob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es of Meta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Intrusions or Local Heat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Accompanied by De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tacl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aring and fault z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tra-high pressures and rapid de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Happens During Metamorph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React to Form New Miner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rtz + Dolomite == Pyroxe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Change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alusite == Kyani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w Materials Are Added (Metasomatis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Mg(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 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yroxene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Dolomite + Quart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in Solution == Ore Bod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rystal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tacl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ock Meta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alus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y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lim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 - 6 high pressure f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mond - Graphi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te - Arago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ridymite - Cristobalite (increasing temperatur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esite - Stishovite (increasing press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9T19:48:41Z</dcterms:created>
  <dc:creator>Steven Dutch</dc:creator>
  <dc:description/>
  <dc:language>en-US</dc:language>
  <cp:lastModifiedBy>ksu</cp:lastModifiedBy>
  <dcterms:modified xsi:type="dcterms:W3CDTF">2011-11-01T10:05:22Z</dcterms:modified>
  <cp:revision>17</cp:revision>
  <dc:subject/>
  <dc:title>Metamorphism</dc:title>
</cp:coreProperties>
</file>