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81A-CEC9-4FD9-B459-617CA6A4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690F-B89D-4F0E-BFA3-57A196B7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1A3-4F03-4B4A-AEAE-925E235D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D9FA-EAEE-454B-BC5B-10347EEB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037-609C-4377-A530-7CB71A33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351-C52C-449F-86B1-24772ECD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9078-606C-4E1E-A21F-5D69FB2F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C43F-639B-43FB-B71C-7E6E6AD3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E74-4E12-45AC-B796-87DBCC2C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C63-FE5E-47C0-8BB6-D0317B8D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16C-D75D-4E4E-9858-11DF11A4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4D29-7202-4C5D-9598-BAD9D906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EADC-99DD-46F6-B7AE-AE19D7196A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tamorph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Rock Composition or Tex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e to Heat, Pressure and Action of Flui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y Don't Rock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"De-metamorphose"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tions Can't Reverse Because Ingredients Lo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Al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H) ==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3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y Mineral == Andalusite + Quartz + Water (Los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xample of carbonate metamorphis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lomite + Quartz == Pyroxene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Lo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tions "Freeze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it Does Happen if Fluids Pre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rograde Meta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e surface we call it weath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00200"/>
            <a:ext cx="266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liation is a sheetlike structure that forms when rocks are deforme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990360"/>
            <a:ext cx="2666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latt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in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ial Mel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e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743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440" y="160020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every case, the foliation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e direction of least resist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right angles to the direction of greatest compres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tamorphic Grade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gree to Which the Rock Has Changed 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Often See Original Bed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Sometimes Even See Deformed Fossi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High Grades, Rocks Can Often Lose All Trace of Their Original Appea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MetCoal1"/>
          <p:cNvPicPr/>
          <p:nvPr/>
        </p:nvPicPr>
        <p:blipFill>
          <a:blip r:embed="rId1"/>
          <a:stretch/>
        </p:blipFill>
        <p:spPr>
          <a:xfrm>
            <a:off x="609480" y="380880"/>
            <a:ext cx="815364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MetLimest1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Do Not Live at “Normal” Cond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44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standards of Earth’s interior, we live in a frozen vacu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gs that look “abnormal” to us are normal behavior for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ds can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ds can react chemically with each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iven material can have several different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MetSandst1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MetBasalt1"/>
          <p:cNvPicPr/>
          <p:nvPr/>
        </p:nvPicPr>
        <p:blipFill>
          <a:blip r:embed="rId1"/>
          <a:stretch/>
        </p:blipFill>
        <p:spPr>
          <a:xfrm>
            <a:off x="380880" y="380880"/>
            <a:ext cx="822960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Metshal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bout Other Rock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MetCgl1"/>
          <p:cNvPicPr/>
          <p:nvPr/>
        </p:nvPicPr>
        <p:blipFill>
          <a:blip r:embed="rId1"/>
          <a:stretch/>
        </p:blipFill>
        <p:spPr>
          <a:xfrm>
            <a:off x="1066680" y="1219320"/>
            <a:ext cx="71629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morphic Fac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4920" y="1397160"/>
          <a:ext cx="8534160" cy="5224320"/>
        </p:xfrm>
        <a:graphic>
          <a:graphicData uri="http://schemas.openxmlformats.org/drawingml/2006/table">
            <a:tbl>
              <a:tblPr/>
              <a:tblGrid>
                <a:gridCol w="1752480"/>
                <a:gridCol w="1295280"/>
                <a:gridCol w="1447920"/>
                <a:gridCol w="182520"/>
                <a:gridCol w="808200"/>
                <a:gridCol w="1066680"/>
                <a:gridCol w="1066680"/>
                <a:gridCol w="914400"/>
              </a:tblGrid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\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ol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ct Metamorphis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Andalusite for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km - 3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chist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, Biotite for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, Staurolite, Kyanite for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ulit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 form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ovite breaks down to K-feldspa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 Melt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sch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km - 6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km - 9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km - 12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F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log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Mantl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morphic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field_trip_map_1"/>
          <p:cNvPicPr/>
          <p:nvPr/>
        </p:nvPicPr>
        <p:blipFill>
          <a:blip r:embed="rId1"/>
          <a:stretch/>
        </p:blipFill>
        <p:spPr>
          <a:xfrm>
            <a:off x="1295280" y="1219320"/>
            <a:ext cx="6934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ntle Roc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MantleRx1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amorphism and Plate Tecton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METZONE"/>
          <p:cNvPicPr/>
          <p:nvPr/>
        </p:nvPicPr>
        <p:blipFill>
          <a:blip r:embed="rId1"/>
          <a:stretch/>
        </p:blipFill>
        <p:spPr>
          <a:xfrm>
            <a:off x="533520" y="16002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 Changes in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e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dimentary R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morph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s about 200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side range of normal near-surface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ere Does the Heat Come fro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 and Thoriu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ther Elements + Lead + Radiation (about 9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ssium-40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lcium-40 or Argon-40 + Radiation (about 1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y some primordial heat (controversi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re Does the Pressure Come from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 Pressure = 14 P.s.i. (1 Atmosphere or 1 Bar = 100 kP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Beneath 10 Meters (33 Ft.) Of Water = 1 Atm. = 1 B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Pressure Beneath 3.5 m (10 ft.) Of R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in Deepest Part of Ocean = 1000 B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under One Mile of Rock = 500 B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0 Bars (2 Mi. or 3.5 km Of Rock) = 1 Kilobar (Kb.) = 100 M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sure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Newton (N) = gravitational attraction on 100 gr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Newton = 7 Fig Newt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Pascal (Pa) = 1 N/square me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Pascal  = pressure under thin cardboard or 0.1 mm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Thin section exerts about 1 Pa pressure on the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bar = 1 atm = 100 kP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MPa = 10 b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GPa = 10 kilob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es of Meta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Intrusions or Local Heat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Accompanied by De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tacl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aring and fault z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tra-high pressures and rapid de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Happens During Metamorph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React to Form New Miner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rtz + Dolomite == Pyroxe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Change 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alusite == Kyani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w Materials Are Added (Metasomatis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Mg(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 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yroxene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Dolomite + Quart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in Solution == Ore Bod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rystal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tacl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ock Meta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alus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y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lim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e - 6 high pressure for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mond - Graphi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ite - Arago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Tridymite - Cristobalite (increasing temperatur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esite - Stishovite (increasing press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9T19:48:41Z</dcterms:created>
  <dc:creator>Steven Dutch</dc:creator>
  <dc:description/>
  <dc:language>en-US</dc:language>
  <cp:lastModifiedBy>ksu</cp:lastModifiedBy>
  <dcterms:modified xsi:type="dcterms:W3CDTF">2011-11-01T10:05:22Z</dcterms:modified>
  <cp:revision>17</cp:revision>
  <dc:subject/>
  <dc:title>Metamorphism</dc:title>
</cp:coreProperties>
</file>