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49F-54BC-4A49-ADAC-C9E649CA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6B2-C0DD-49AD-9036-4A94278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802-1736-4D72-9B58-02B26592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7B4-3F64-4947-8E93-0682F25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096-4F2C-4BDB-A458-116B69D5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357-F959-4833-9435-9C4E1A0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5E0-AE76-49FF-82BE-06CB7E80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FA5-0D7F-4BE8-A06D-D13196F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F42-D962-4105-BE15-255A09A6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698-4519-4581-98DD-60A47E3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6F3-CD4E-431D-ADE0-901D8DE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C35-E164-4A5D-8567-965C6D3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B19-9A61-45F3-A65F-A92536D35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ksu</cp:lastModifiedBy>
  <dcterms:modified xsi:type="dcterms:W3CDTF">2011-11-01T10:05:22Z</dcterms:modified>
  <cp:revision>17</cp:revision>
  <dc:subject/>
  <dc:title>Metamorphism</dc:title>
</cp:coreProperties>
</file>