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215-8BFE-444B-BBA0-CD6D673B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199-2F9F-4D1E-895A-0FF2EAB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469-CCD6-42DE-B59B-7ADD318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022-C128-4933-A336-8192F56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E67-033C-40A7-9E2A-9E714601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9B2-DA6F-49D6-9645-4DCBEFA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24F-ACBB-4DCA-816B-67D67B5B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321-FC4D-4BE1-A816-52D1709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A7DA-E719-4DB0-9635-452D1139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78C-CE08-4A02-845F-F1637B4C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9C2-1B36-4BFD-A816-959F325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701-A1BB-45CA-822A-97ED61C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59D2-D650-469D-AE8A-58DE2CECD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Rock Composition or Te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Heat, Pressure and Action of Flu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n't Roc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"De-metamorphose"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Can't Reverse Because Ingredients Lo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Al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H)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3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y Mineral == Andalusite + Quartz + Water (Lo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ample of carbonate metamorph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lomite + Quartz == 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ons "Freeze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Does Happen if Fluid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rograde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e surface we call it weath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liation is a sheetlike structure that forms when rocks are deform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990360"/>
            <a:ext cx="266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at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in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Mel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every case, the foli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irection of least resist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right angles to the direction of greatest compres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91120" y="0"/>
            <a:ext cx="494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morphic Grade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 to Which the Rock Has Changed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Often See Original Bed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metimes Even See Deformed Foss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igh Grades, Rocks Can Often Lose All Trace of Their Original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tCoal1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etLimest1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Do Not Live at “Normal”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standards of Earth’s interior, we live in a frozen vacu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gs that look “abnormal” to us are normal behavior f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ds can react chemically with each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iven material can have several different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MetSandst1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etBasalt1"/>
          <p:cNvPicPr/>
          <p:nvPr/>
        </p:nvPicPr>
        <p:blipFill>
          <a:blip r:embed="rId1"/>
          <a:stretch/>
        </p:blipFill>
        <p:spPr>
          <a:xfrm>
            <a:off x="38088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jor Metamorphic Rock Types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371600"/>
          <a:ext cx="8305920" cy="50338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1143000"/>
                <a:gridCol w="1067040"/>
                <a:gridCol w="1066680"/>
                <a:gridCol w="1200240"/>
                <a:gridCol w="1038240"/>
                <a:gridCol w="10382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 Miner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gnite Bitumin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hrac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ph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l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t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uro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ting Beg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etshal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Other Rock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MetCgl1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Fac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397160"/>
          <a:ext cx="8534160" cy="52243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447920"/>
                <a:gridCol w="182520"/>
                <a:gridCol w="808200"/>
                <a:gridCol w="1066680"/>
                <a:gridCol w="1066680"/>
                <a:gridCol w="9144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\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ol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ct Metamorphis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Andalusite 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km - 3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chist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lorite, Biot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ens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rnet, Staurolite, Kyanite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hibol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zi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b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it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limanite form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ovite breaks down to K-feldspa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 Mel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nei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sch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m - 6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km - 9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km - 12 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og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Mantl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morphic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field_trip_map_1"/>
          <p:cNvPicPr/>
          <p:nvPr/>
        </p:nvPicPr>
        <p:blipFill>
          <a:blip r:embed="rId1"/>
          <a:stretch/>
        </p:blipFill>
        <p:spPr>
          <a:xfrm>
            <a:off x="1295280" y="1219320"/>
            <a:ext cx="6934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ntle Roc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MantleRx1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amorphism and Plate Tecton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METZONE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Changes in R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dimentary Ro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morph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s about 200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ide range of normal near-surface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re Does the Heat 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 and Thoriu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ther Elements + Lead + Radiation (about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ssium-40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lcium-40 or Argon-40 + Radiation (about 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y some primordial heat (controvers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ere Does the Pressure Come from?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Pressure = 14 P.s.i. (1 Atmosphere or 1 Bar = 100 kP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Beneath 10 Meters (33 Ft.) Of Water = 1 Atm. = 1 B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Pressure Beneath 3.5 m (10 ft.) Of 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in Deepest Part of Ocean = 1000 B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under One Mile of Rock = 500 B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 Bars (2 Mi. or 3.5 km Of Rock) = 1 Kilobar (Kb.) = 100 M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sure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Newton (N) = gravitational attraction on 100 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Newton = 7 Fig Newt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(Pa) = 1 N/square me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Pascal  = pressure under thin cardboard or 0.1 mm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hin section exerts about 1 Pa pressure on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bar = 1 atm = 100 kP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MPa = 10 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GPa = 10 kilob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Meta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ound Intrusions or Local Heat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ccompanied by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aring and fault z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ra-high pressures and rapid de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Happens During Metamorph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React to Form New Miner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z + Dolomite == Pyrox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Change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alusite == Kyani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9807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Materials Are Added (Metasomatis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Mg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2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CaMg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+ 2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roxene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= Dolomite + Quart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nerals in Solution == Ore Bod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rystal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tacla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ck Meta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alus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lim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 - 6 high pressure 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ond - Graphi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- Arago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ridymite - Cristobalite (increasing temperatu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esite - Stishovite (increasing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9:48:41Z</dcterms:created>
  <dc:creator>Steven Dutch</dc:creator>
  <dc:description/>
  <dc:language>en-US</dc:language>
  <cp:lastModifiedBy>ksu</cp:lastModifiedBy>
  <dcterms:modified xsi:type="dcterms:W3CDTF">2011-11-01T10:05:22Z</dcterms:modified>
  <cp:revision>17</cp:revision>
  <dc:subject/>
  <dc:title>Metamorphism</dc:title>
</cp:coreProperties>
</file>