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6FD-7FBA-488E-B915-D1831A5F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600-1F0A-41FF-B8BF-B83C993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9A5-0E3D-413D-8892-C58AA930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2E7-3861-446C-B1AC-DA792861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F6B3-3FAB-462D-A692-18BB2904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6715-3DFC-4FFB-9925-E6BA50E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DC43-5033-42A1-B0F9-56888120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27C1-8F30-418E-8440-0CBD647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1C9D-6164-4D41-9ADD-F1025E4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FDB3-E6C6-458A-A612-DE9A3A32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B25-4903-4CAC-B052-CDB82EF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3C8-504B-4693-9AB2-447FA35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D16-BD81-4412-B503-6EC3C11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82F0-5098-43DD-98CA-2EAC1BE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9B44-25D6-4B18-98FE-E570697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65E-2BA6-4B00-9564-4F3BC5D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4A94-0618-473F-9E9C-071AECC0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ABC-1B7F-4682-BC31-A365EB4A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069-505D-488F-91C8-60075FF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986-9FBF-4869-8641-B369B4D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F37-F2CB-415B-AEB3-20A530B9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210-E41F-4C5E-9F5C-A4F7E32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976-20DE-478D-A05D-C5286D1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645-8E63-4AF3-B482-EABC8D8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7BA0-95CF-4104-BBA7-8C64E1D7A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86AA-ACD1-436A-8AD5-9E3045A8F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0.25-PM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4.03-PM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4.36-PM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: To study the structure and function of compound microsc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c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co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devices that produce magnified images of structures that are too small to see with the naked ey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lution Power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nimum distance of 0.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or 200 nm between the two p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49568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37160" y="476280"/>
            <a:ext cx="3067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54080" y="1081080"/>
            <a:ext cx="70344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925560"/>
            <a:ext cx="68407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544680"/>
            <a:ext cx="7128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998640"/>
            <a:ext cx="6048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419720" cy="383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57960" y="1714680"/>
            <a:ext cx="33620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icroscopes (E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ight microsco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nnot produce clear images of objects smaller th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0 n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ution power for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bou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.5 n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tudy even smaller objects, scientists use electron microsco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9360" y="378936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4000" y="1908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ctron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beams of electrons, rather than light, to produce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st electron microscopes can produce images almos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0 tim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re detailed than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microscopes produce magnified images by focusing visible light r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icroscopes produce magnified images by focusing beams of electr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40480" cy="3019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760560" cy="305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78160" y="3514680"/>
            <a:ext cx="4732560" cy="293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65040" y="334800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09720" y="628560"/>
            <a:ext cx="55245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480" y="189000"/>
            <a:ext cx="4386240" cy="292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424040" cy="287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5080" y="189000"/>
            <a:ext cx="4319640" cy="3281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8360" y="3218040"/>
            <a:ext cx="36720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197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512640"/>
            <a:ext cx="8530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5524560" cy="553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708280"/>
            <a:ext cx="1873080" cy="15958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برغـوث القط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t fl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5524560" cy="511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2708280"/>
            <a:ext cx="1727280" cy="1800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رأس يراقة الذبابة الزرق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524560" cy="3981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20000" y="2708280"/>
            <a:ext cx="1873080" cy="174744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خنفساء الطح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 Flour Bee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63360" y="32457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ad of a bedbug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09720" y="1700280"/>
            <a:ext cx="5524560" cy="345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08360" y="5516640"/>
            <a:ext cx="1873440" cy="13816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عـث الغـبـ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st m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Screen shot 2010-09-17 at 7.00.25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692280"/>
            <a:ext cx="5524200" cy="4390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08360" y="5516640"/>
            <a:ext cx="2158920" cy="45972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asp’s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Microsc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ly used microscope is the light microsc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microscopes produce clear images of objects at a magnification of about 1000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08360" y="5516640"/>
            <a:ext cx="1873440" cy="8254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d of Honey B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Screen shot 2010-09-17 at 7.04.03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76280"/>
            <a:ext cx="55242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08360" y="5516640"/>
            <a:ext cx="1873440" cy="45972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d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Screen shot 2010-09-17 at 7.04.36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052640"/>
            <a:ext cx="55242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43280" y="157320"/>
            <a:ext cx="52578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eparing Slid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a pipet o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ropp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dd a drop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another solvent to a clean microscope slide. Then, place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eci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wat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ver-sl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slide so that it touches the edge of the wat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lowly low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cover-slip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ormation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ir bubbl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41032" b="0"/>
          <a:stretch/>
        </p:blipFill>
        <p:spPr>
          <a:xfrm>
            <a:off x="4336920" y="3860640"/>
            <a:ext cx="2833920" cy="28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516720" y="5589720"/>
            <a:ext cx="64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04760" y="2338560"/>
            <a:ext cx="713448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85840"/>
            <a:ext cx="6481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08000" y="169920"/>
            <a:ext cx="4322880" cy="32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411280" y="1413000"/>
            <a:ext cx="1152720" cy="431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520200" y="546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90792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84360" y="2133720"/>
            <a:ext cx="936720" cy="79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989000"/>
            <a:ext cx="1295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1700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2708280"/>
            <a:ext cx="43200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403280" y="3716280"/>
            <a:ext cx="67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al (cheek) Cel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Nucle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- Cytoplas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Plasma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24560" cy="420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821720" cy="4889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41097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nion Cells Prepar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4300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pound 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light to pass through the specimen and use two lenses to form an i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e it possible to study dead organisms and their parts, and to observe some small organisms and cells while they are still al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Obtaining sample of onion epiderm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03280" y="1746360"/>
          <a:ext cx="6335640" cy="46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46360"/>
                    <a:ext cx="633564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1332000" y="4813200"/>
            <a:ext cx="67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on Cel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Nucle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- Cytoplas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Cell Wal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- Plasma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588000" y="1844280"/>
            <a:ext cx="505080" cy="57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1916280"/>
            <a:ext cx="1152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56000" y="3573000"/>
            <a:ext cx="1152360" cy="142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859280" y="2637000"/>
            <a:ext cx="649440" cy="72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492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1700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3405240"/>
            <a:ext cx="43200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47652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4440" y="152280"/>
            <a:ext cx="8113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81200" y="1225440"/>
            <a:ext cx="75816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15880" y="969840"/>
            <a:ext cx="6469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gnification Power (MP)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 = Power of eye piece X Power of object pi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0120" y="257292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total magnification is the eye x 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3198960"/>
          <a:ext cx="8021880" cy="3238200"/>
        </p:xfrm>
        <a:graphic>
          <a:graphicData uri="http://schemas.openxmlformats.org/drawingml/2006/table">
            <a:tbl>
              <a:tblPr/>
              <a:tblGrid>
                <a:gridCol w="1784520"/>
                <a:gridCol w="1628640"/>
                <a:gridCol w="2059200"/>
                <a:gridCol w="254952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ye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 Magn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can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ow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igh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il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Carrying a Microscop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9680" y="1301760"/>
            <a:ext cx="3801960" cy="529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38840" y="128412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5092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4760" y="74520"/>
            <a:ext cx="583560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254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" y="11916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roscope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480" y="1219320"/>
            <a:ext cx="394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ving nose 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r to move stage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0" y="114480"/>
            <a:ext cx="44290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21:08Z</dcterms:created>
  <dc:creator>khale</dc:creator>
  <dc:description/>
  <dc:language>en-US</dc:language>
  <cp:lastModifiedBy>khale</cp:lastModifiedBy>
  <dcterms:modified xsi:type="dcterms:W3CDTF">2012-02-03T21:41:56Z</dcterms:modified>
  <cp:revision>21</cp:revision>
  <dc:subject/>
  <dc:title>Microscopes</dc:title>
</cp:coreProperties>
</file>