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7.jpeg" ContentType="image/jpeg"/>
  <Override PartName="/ppt/media/image50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38.jpeg" ContentType="image/jpeg"/>
  <Override PartName="/ppt/media/image23.jpeg" ContentType="image/jpeg"/>
  <Override PartName="/ppt/media/image49.png" ContentType="image/png"/>
  <Override PartName="/ppt/media/image24.jpeg" ContentType="image/jpeg"/>
  <Override PartName="/ppt/media/image3.jpeg" ContentType="image/jpeg"/>
  <Override PartName="/ppt/media/image25.jpeg" ContentType="image/jpeg"/>
  <Override PartName="/ppt/media/image30.jpeg" ContentType="image/jpeg"/>
  <Override PartName="/ppt/media/image32.jpeg" ContentType="image/jpeg"/>
  <Override PartName="/ppt/media/image33.jpeg" ContentType="image/jpeg"/>
  <Override PartName="/ppt/media/image45.png" ContentType="image/png"/>
  <Override PartName="/ppt/media/image47.png" ContentType="image/png"/>
  <Override PartName="/ppt/media/image3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0.jpeg" ContentType="image/jpeg"/>
  <Override PartName="/ppt/media/image44.png" ContentType="image/png"/>
  <Override PartName="/ppt/media/image42.png" ContentType="image/png"/>
  <Override PartName="/ppt/media/image46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13.png" ContentType="image/png"/>
  <Override PartName="/ppt/media/image12.jpeg" ContentType="image/jpeg"/>
  <Override PartName="/ppt/media/image5.png" ContentType="image/png"/>
  <Override PartName="/ppt/media/image43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22.jpeg" ContentType="image/jpeg"/>
  <Override PartName="/ppt/media/image39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F68C-4F6B-43DD-9B01-31BE526EB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E238-5785-4F76-A1AB-4DB93413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56D8-2B96-487D-8A32-D467EDB7D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B5AD-0B97-484D-99C6-4ED34634F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93C5-86C4-415B-A2BE-4282836A6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E7A8-B6F0-4DF4-8EBC-E7157130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35D9F-A74B-4B12-8211-F07E3BCF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32D1-67A4-4CE9-A53D-2EA5629F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2DB5-F1E6-4FD0-BB91-D22BA750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991B0-AAF3-4ACF-8516-D888DC43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4BAE-E5F2-423A-B930-78BDF046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4F8E-D2C5-470F-AEE9-AF22ED8D5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51B6-318A-4D40-AEDC-0F33F51F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7FDC8-3BF2-45AA-BEDB-AC6548EC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A62D-BC52-44B4-AE4C-59BF6EFB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011D-B98C-4011-BF45-C6A11C161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F396-C7EB-4AD6-88F6-BD36925A0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51C6-8300-4BBD-BDFD-2843D21A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FE2A-7063-4FB5-AE8F-F752B95A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3F24-CF81-4564-A138-24D7D514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3349-E86A-428A-B950-1BE4A3800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5CDF-7BE6-45A3-A130-DE6E507B9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303C-7691-4674-A285-AD16FB803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50BD-AB22-4351-A436-4FE63138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56B9-CC65-4B16-9E1B-18EA024279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B65E4-DED7-4618-AF6E-CBB424EF87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oddstuffmagazine.com/wp-content/uploads/2010/09/Screen-shot-2010-09-17-at-7.00.25-PM.jpg" TargetMode="Externa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oddstuffmagazine.com/wp-content/uploads/2010/09/Screen-shot-2010-09-17-at-7.04.03-PM.jpg" TargetMode="External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oddstuffmagazine.com/wp-content/uploads/2010/09/Screen-shot-2010-09-17-at-7.04.36-PM.jpg" TargetMode="External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icroscop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: To study the structure and function of compound microscop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sco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icroscop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re devices that produce magnified images of structures that are too small to see with the naked ey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solution Power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inimum distance of 0.2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 or 200 nm between the two partic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4495680" cy="42004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537160" y="476280"/>
            <a:ext cx="30672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054080" y="1081080"/>
            <a:ext cx="703440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187280" y="925560"/>
            <a:ext cx="684072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16000" y="544680"/>
            <a:ext cx="7128000" cy="59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547640" y="998640"/>
            <a:ext cx="604872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4419720" cy="3835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457960" y="1714680"/>
            <a:ext cx="336204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icroscop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on Microscopes (EM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Light microscop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annot produce clear images of objects smaller than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200 n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olution power for </a:t>
            </a: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E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s about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0.5 n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study even smaller objects, scientists use electron microscop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19640" y="404640"/>
            <a:ext cx="2857680" cy="2971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959360" y="3789360"/>
            <a:ext cx="3429000" cy="28576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324000" y="19080"/>
            <a:ext cx="450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13600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icroscop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Electron microscop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use beams of electrons, rather than light, to produce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best electron microscopes can produce images almost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1000 tim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ore detailed than </a:t>
            </a:r>
            <a:r>
              <a:rPr b="0" lang="en-US" sz="3200" spc="-1" strike="noStrike">
                <a:solidFill>
                  <a:srgbClr val="0066ff"/>
                </a:solidFill>
                <a:latin typeface="Times New Roman"/>
              </a:rPr>
              <a:t>light microscop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a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icroscop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ght microscopes produce magnified images by focusing visible light ray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on microscopes produce magnified images by focusing beams of electr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740480" cy="30193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148360" y="189000"/>
            <a:ext cx="3760560" cy="30542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178160" y="3514680"/>
            <a:ext cx="4732560" cy="29386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365040" y="3348000"/>
            <a:ext cx="42861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809720" y="628560"/>
            <a:ext cx="552456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14480" y="189000"/>
            <a:ext cx="4386240" cy="29239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500720" y="3645000"/>
            <a:ext cx="4424040" cy="28796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4645080" y="189000"/>
            <a:ext cx="4319640" cy="32814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468360" y="3218040"/>
            <a:ext cx="3672000" cy="34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19740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4000" y="512640"/>
            <a:ext cx="8530920" cy="58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187280" y="692280"/>
            <a:ext cx="5524560" cy="5533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7020000" y="2708280"/>
            <a:ext cx="1873080" cy="1595880"/>
          </a:xfrm>
          <a:prstGeom prst="rect">
            <a:avLst/>
          </a:prstGeom>
          <a:solidFill>
            <a:srgbClr val="0033cc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برغـوث القط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at fl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971640" y="836640"/>
            <a:ext cx="5524560" cy="5114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877080" y="2708280"/>
            <a:ext cx="1727280" cy="1800360"/>
          </a:xfrm>
          <a:prstGeom prst="rect">
            <a:avLst/>
          </a:prstGeom>
          <a:solidFill>
            <a:srgbClr val="0033cc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</a:rPr>
              <a:t>رأس يراقة الذبابة الزرقا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5524560" cy="39812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7020000" y="2708280"/>
            <a:ext cx="1873080" cy="1747440"/>
          </a:xfrm>
          <a:prstGeom prst="rect">
            <a:avLst/>
          </a:prstGeom>
          <a:solidFill>
            <a:srgbClr val="0033cc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خنفساء الطحي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Red Flour Bee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63360" y="324576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ead of a bedbug</a:t>
            </a:r>
            <a:r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809720" y="1700280"/>
            <a:ext cx="5524560" cy="34574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708360" y="5516640"/>
            <a:ext cx="1873440" cy="1381680"/>
          </a:xfrm>
          <a:prstGeom prst="rect">
            <a:avLst/>
          </a:prstGeom>
          <a:solidFill>
            <a:srgbClr val="0033cc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عـث الغـبـا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Dust m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Screen shot 2010-09-17 at 7.00.25 P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692280"/>
            <a:ext cx="5524200" cy="43909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708360" y="5516640"/>
            <a:ext cx="2158920" cy="459720"/>
          </a:xfrm>
          <a:prstGeom prst="rect">
            <a:avLst/>
          </a:prstGeom>
          <a:solidFill>
            <a:srgbClr val="0033cc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Wasp’s H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icroscop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 Microsco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ost commonly used microscope is the light microscop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ght microscopes produce clear images of objects at a magnification of about 1000 ti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708360" y="5516640"/>
            <a:ext cx="1873440" cy="825480"/>
          </a:xfrm>
          <a:prstGeom prst="rect">
            <a:avLst/>
          </a:prstGeom>
          <a:solidFill>
            <a:srgbClr val="0033cc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ead of Honey Be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Screen shot 2010-09-17 at 7.04.03 P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476280"/>
            <a:ext cx="552420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708360" y="5516640"/>
            <a:ext cx="1873440" cy="459720"/>
          </a:xfrm>
          <a:prstGeom prst="rect">
            <a:avLst/>
          </a:prstGeom>
          <a:solidFill>
            <a:srgbClr val="0033cc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Bedb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Screen shot 2010-09-17 at 7.04.36 P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1052640"/>
            <a:ext cx="552420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943280" y="157320"/>
            <a:ext cx="5257800" cy="65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Preparing Slides</a:t>
            </a: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ing a pipet or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dropp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add a drop of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wat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r another solvent to a clean microscope slide. Then, place the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specime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 the wate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ce the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edg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f a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cover-sli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n the slide so that it touches the edge of the wate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Slowly lowe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cover-slip to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prev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he formation of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air bubbles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rcRect l="0" t="0" r="41032" b="0"/>
          <a:stretch/>
        </p:blipFill>
        <p:spPr>
          <a:xfrm>
            <a:off x="4336920" y="3860640"/>
            <a:ext cx="2833920" cy="28195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516720" y="5589720"/>
            <a:ext cx="64764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004760" y="2338560"/>
            <a:ext cx="7134480" cy="21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403280" y="285840"/>
            <a:ext cx="648180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4716360" y="18900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"/>
          <p:cNvPicPr/>
          <p:nvPr/>
        </p:nvPicPr>
        <p:blipFill>
          <a:blip r:embed="rId2"/>
          <a:stretch/>
        </p:blipFill>
        <p:spPr>
          <a:xfrm>
            <a:off x="108000" y="169920"/>
            <a:ext cx="4322880" cy="3240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411280" y="1413000"/>
            <a:ext cx="1152720" cy="43164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520200" y="5467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36720" y="907920"/>
            <a:ext cx="431640" cy="52056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484360" y="2133720"/>
            <a:ext cx="936720" cy="79200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08000" y="1989000"/>
            <a:ext cx="129564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332000" y="1700280"/>
            <a:ext cx="431640" cy="52056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08000" y="2708280"/>
            <a:ext cx="432000" cy="52056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1403280" y="3716280"/>
            <a:ext cx="6769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pithelial (cheek) Cell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 Nucle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- Cytoplasm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- Plasma membr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5524560" cy="42037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5003640" y="3213000"/>
            <a:ext cx="38577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821720" cy="48895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788000" y="4365720"/>
            <a:ext cx="410976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Onion Cells Prepara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143000" y="1413000"/>
            <a:ext cx="6858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icroscop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ompound light microscop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allow light to pass through the specimen and use two lenses to form an im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Light microscop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ake it possible to study dead organisms and their parts, and to observe some small organisms and cells while they are still al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Obtaining sample of onion epidermi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403280" y="1746360"/>
          <a:ext cx="6335640" cy="466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746360"/>
                    <a:ext cx="6335640" cy="46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1547640" y="1890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1"/>
          <p:cNvSpPr/>
          <p:nvPr/>
        </p:nvSpPr>
        <p:spPr>
          <a:xfrm>
            <a:off x="1332000" y="4813200"/>
            <a:ext cx="6769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ion Cell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 Nucle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- Cytoplasm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- Cell Wall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 - Plasma membr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588000" y="1844280"/>
            <a:ext cx="505080" cy="57636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92360" y="1916280"/>
            <a:ext cx="1152720" cy="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556000" y="3573000"/>
            <a:ext cx="1152360" cy="14292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4859280" y="2637000"/>
            <a:ext cx="649440" cy="72072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156360" y="2492280"/>
            <a:ext cx="431640" cy="52056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43280" y="1700280"/>
            <a:ext cx="431640" cy="52056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08000" y="3405240"/>
            <a:ext cx="432000" cy="52056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476520"/>
            <a:ext cx="431640" cy="52056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514440" y="152280"/>
            <a:ext cx="811368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81200" y="1225440"/>
            <a:ext cx="7581600" cy="44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415880" y="969840"/>
            <a:ext cx="646920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agnification Power (MP)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P = Power of eye piece X Power of object pie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10120" y="2572920"/>
            <a:ext cx="588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The total magnification is the eye x obje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39640" y="3198960"/>
          <a:ext cx="8021880" cy="3238200"/>
        </p:xfrm>
        <a:graphic>
          <a:graphicData uri="http://schemas.openxmlformats.org/drawingml/2006/table">
            <a:tbl>
              <a:tblPr/>
              <a:tblGrid>
                <a:gridCol w="1784520"/>
                <a:gridCol w="1628640"/>
                <a:gridCol w="2059200"/>
                <a:gridCol w="2549520"/>
              </a:tblGrid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bject le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ye le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otal Magnific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cann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4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0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40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ow Pow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0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0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00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High Pow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40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10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400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il Le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0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0" y="420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ec94"/>
                </a:solidFill>
                <a:latin typeface="Times New Roman"/>
              </a:rPr>
              <a:t>Carrying a Microscope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09680" y="1301760"/>
            <a:ext cx="3801960" cy="52959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938840" y="1284120"/>
            <a:ext cx="3809880" cy="5334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050920" y="609300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86560" y="6093000"/>
            <a:ext cx="6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544760" y="74520"/>
            <a:ext cx="5835600" cy="673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476360" y="260280"/>
            <a:ext cx="62546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5760" y="119160"/>
            <a:ext cx="371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icroscope Pa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7480" y="1219320"/>
            <a:ext cx="394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u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dy tu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ge cl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olving nose pie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phrag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ver to move stage cl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urse adjus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e adjust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ght 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572000" y="114480"/>
            <a:ext cx="442908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2T14:21:08Z</dcterms:created>
  <dc:creator>khale</dc:creator>
  <dc:description/>
  <dc:language>en-US</dc:language>
  <cp:lastModifiedBy>khale</cp:lastModifiedBy>
  <dcterms:modified xsi:type="dcterms:W3CDTF">2012-02-03T21:41:56Z</dcterms:modified>
  <cp:revision>21</cp:revision>
  <dc:subject/>
  <dc:title>Microscopes</dc:title>
</cp:coreProperties>
</file>