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DF08-1429-4584-A2EB-F23BD7EE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2B9F-B39F-4C19-BAFD-2B4938D6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0FB-9635-47E3-8994-EB278437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C82-046C-4C63-A81B-C9D747BC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9F0-AC1B-44C5-8A99-0E72C39C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861F-165A-4F5E-B8F6-BD9EC2AC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2481-C37C-41BF-AC71-C0FB0F72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4937-A2D8-44D5-9318-0DEA51D8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568D-1AD2-4299-8B22-C281EAEE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4BF-AF5B-4F77-8412-8FBA8082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2AE-5CDF-4041-8C90-69B9366B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52A-288A-48C8-B4CD-270CA2D0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DE15-AA05-4A42-BB45-C2B1F6FAE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3" descr=""/>
          <p:cNvPicPr/>
          <p:nvPr/>
        </p:nvPicPr>
        <p:blipFill>
          <a:blip r:embed="rId1"/>
          <a:stretch/>
        </p:blipFill>
        <p:spPr>
          <a:xfrm>
            <a:off x="-55440" y="450720"/>
            <a:ext cx="92232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2:41:50Z</dcterms:created>
  <dc:creator>Lamees</dc:creator>
  <dc:description/>
  <dc:language>en-US</dc:language>
  <cp:lastModifiedBy>lamia</cp:lastModifiedBy>
  <dcterms:modified xsi:type="dcterms:W3CDTF">2012-03-14T07:11:31Z</dcterms:modified>
  <cp:revision>3</cp:revision>
  <dc:subject/>
  <dc:title>Slide 1</dc:title>
</cp:coreProperties>
</file>