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912A-BA2E-459C-B7BB-F7E083FB5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03AF-4C72-4125-84A6-C2C29E18A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23DE-919C-4375-933A-88DCB585A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9E31-4853-4A73-951F-5EE148D54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A73E-BC83-4A63-8CC6-5FAA6C54C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C201-E07F-42FA-BD32-A57179E82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F0AC-E6B7-44E0-BC28-DC5B35363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2393-3FBD-4C4E-A048-63B90F888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0AEF-5555-4D3A-844C-28901CD86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078F-D0B7-402C-BFA0-CC671481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0BCC-1A7E-4F6E-8705-CF57BD62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7245-B3D9-4672-BB84-BC43822C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799B7-7BA7-43C1-8E5B-6F95BCF921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iagram 3" descr=""/>
          <p:cNvPicPr/>
          <p:nvPr/>
        </p:nvPicPr>
        <p:blipFill>
          <a:blip r:embed="rId1"/>
          <a:stretch/>
        </p:blipFill>
        <p:spPr>
          <a:xfrm>
            <a:off x="-55440" y="450720"/>
            <a:ext cx="922320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3T12:41:50Z</dcterms:created>
  <dc:creator>Lamees</dc:creator>
  <dc:description/>
  <dc:language>en-US</dc:language>
  <cp:lastModifiedBy>lamia</cp:lastModifiedBy>
  <dcterms:modified xsi:type="dcterms:W3CDTF">2012-03-14T07:11:31Z</dcterms:modified>
  <cp:revision>3</cp:revision>
  <dc:subject/>
  <dc:title>Slide 1</dc:title>
</cp:coreProperties>
</file>