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CB9A-0E34-4940-B011-B782BD879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D37D-8617-45EC-A814-0DB4180EF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310E-531D-4FE7-AA81-DEFA285A5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E66D-79AA-40C3-A2F0-FFF8C80C0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51BE-6117-4303-AE88-4BDF3C7E2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71E5-62B9-4D46-9AF3-EAFF95D7C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8E27-1FE1-4746-B78C-AB84D371C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877E-575D-4950-B1ED-5B3A50ECF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73BB-8A57-490D-944B-BD5D1AB64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3206-1793-4C5D-B35F-BA54D8091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980A-4888-4DAE-B000-9BC41EC2A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F7DE-50D2-412D-9F4A-09866551A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2AA3-2174-4794-91F4-44D847C01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BC75-4254-4175-B7C1-F802A4511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98A4B-6CE1-460D-8768-391F42CD5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25F39-6734-421B-AA7E-8AE78ACD7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0BB67-1A50-4B43-BD4B-C497BCF0A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91757-AEF8-4834-B922-924A7A4ED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35C8-B8BD-4A21-9DE6-40BF8F654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C518B-41B6-44C7-A2B3-AA2FA6CA4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3B8CD-5DE4-42BD-BA7C-CBD2E3AF7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54DCB-4E04-4C01-A562-2DCDED31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E15B5-0E6D-4801-AF9D-B65A1457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CD7F4-A986-4A6B-A453-8FEDEA97D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316E4-E1FC-4EF6-921D-2EC431BE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0B88-9E9C-4004-8519-95C1E7470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FB1A-12AE-4486-8AAA-B22EB5D03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Preparation and Mapping</a:t>
            </a:r>
            <a:br>
              <a:rPr sz="3200"/>
            </a:br>
            <a:br>
              <a:rPr sz="3200"/>
            </a:br>
            <a:endParaRPr b="0" lang="en-US" sz="3200" spc="-1" strike="noStrike">
              <a:solidFill>
                <a:srgbClr val="000000"/>
              </a:solidFill>
              <a:latin typeface="Times New Roman"/>
            </a:endParaRPr>
          </a:p>
        </p:txBody>
      </p:sp>
      <p:sp>
        <p:nvSpPr>
          <p:cNvPr id="49" name="PlaceHolder 2"/>
          <p:cNvSpPr>
            <a:spLocks noGrp="1"/>
          </p:cNvSpPr>
          <p:nvPr>
            <p:ph/>
          </p:nvPr>
        </p:nvSpPr>
        <p:spPr>
          <a:xfrm>
            <a:off x="533520" y="914400"/>
            <a:ext cx="7772400" cy="4114800"/>
          </a:xfrm>
          <a:prstGeom prst="rect">
            <a:avLst/>
          </a:prstGeom>
          <a:noFill/>
          <a:ln w="0">
            <a:noFill/>
          </a:ln>
        </p:spPr>
        <p:txBody>
          <a:bodyPr anchor="t">
            <a:normAutofit fontScale="77000"/>
          </a:bodyPr>
          <a:p>
            <a:pPr marL="263880" indent="-263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s</a:t>
            </a:r>
            <a:endParaRPr b="0" lang="en-US" sz="32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 and drying of bulk sample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Preparation.  Cutting, impregnation, cast-making, fus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ing.  Stubs, embedded samples, thin sections, grain mount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shing.  For quantitative analysi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t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ing and stor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09480" y="1066680"/>
            <a:ext cx="7772400" cy="4114800"/>
          </a:xfrm>
          <a:prstGeom prst="rect">
            <a:avLst/>
          </a:prstGeom>
          <a:noFill/>
          <a:ln w="0">
            <a:noFill/>
          </a:ln>
        </p:spPr>
        <p:txBody>
          <a:bodyPr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ishing steps needed for a sample depends on the types of material present.  Metallic phases typically polish very easily, whereas minerals with strong cleavage can be problematic.  A typical polishing procedure would be as follows:</a:t>
            </a:r>
            <a:endParaRPr b="0" lang="en-US" sz="20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Grinding the sample to a flat surface, using 100, 260, and 600 mesh grit diamond wheels, or equivalents.</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 sample in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ing the sample using 30 micron diamond grit (600 mesh) for 3 minutes. </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6 micron diamond grit for 3 minute</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1 micron diamond grit for 3 minutes</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0.5 micron diamond grit for 1 minute</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h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Cleaning</a:t>
            </a:r>
            <a:endParaRPr b="0" lang="en-US" sz="4400" spc="-1" strike="noStrike">
              <a:solidFill>
                <a:srgbClr val="000000"/>
              </a:solidFill>
              <a:latin typeface="Times New Roman"/>
            </a:endParaRPr>
          </a:p>
        </p:txBody>
      </p:sp>
      <p:sp>
        <p:nvSpPr>
          <p:cNvPr id="76" name="PlaceHolder 2"/>
          <p:cNvSpPr>
            <a:spLocks noGrp="1"/>
          </p:cNvSpPr>
          <p:nvPr>
            <p:ph/>
          </p:nvPr>
        </p:nvSpPr>
        <p:spPr>
          <a:xfrm>
            <a:off x="457200" y="990720"/>
            <a:ext cx="7772400" cy="4114800"/>
          </a:xfrm>
          <a:prstGeom prst="rect">
            <a:avLst/>
          </a:prstGeom>
          <a:noFill/>
          <a:ln w="0">
            <a:noFill/>
          </a:ln>
        </p:spPr>
        <p:txBody>
          <a:bodyPr anchor="t">
            <a:normAutofit fontScale="79000"/>
          </a:bodyPr>
          <a:p>
            <a:pPr marL="270720" indent="-270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contaminating material, particularly skin oil, on the sample surface will end up contaminating the column.  Also, contaminating material under the conductive coating of a sample can cause the conductive coating that will be placed on the sample to bubble and crack, making the sample impossible to analyze</a:t>
            </a:r>
            <a:endParaRPr b="0" lang="en-US" sz="1800" spc="-1" strike="noStrike">
              <a:solidFill>
                <a:srgbClr val="000000"/>
              </a:solidFill>
              <a:latin typeface="Times New Roman"/>
            </a:endParaRPr>
          </a:p>
          <a:p>
            <a:pPr marL="27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EP THE SAMPLE CLEAN AND OIL FREE!!!</a:t>
            </a:r>
            <a:endParaRPr b="0" lang="en-US" sz="1800" spc="-1" strike="noStrike">
              <a:solidFill>
                <a:srgbClr val="000000"/>
              </a:solidFill>
              <a:latin typeface="Times New Roman"/>
            </a:endParaRPr>
          </a:p>
          <a:p>
            <a:pPr marL="27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1.  After final polish, clean the sample ultrasonically with deionized water</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2.  Wipe the sample surface with petroleum ether.</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3.  Following the petroleum ether cleaning, handle the sample as carefully as possible.  Glove handling is ideal, but often inconvenient.  An alternative is to handle the sample with a kimwipe, or other lint-free papr or cloth.</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4.  Blow the sample off with air prior to coating.</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152280" y="1143000"/>
            <a:ext cx="87631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ing analysis areas on a sample using the optical microscope or electron imaging can be difficult because of the small field of view.  The maximum optical field of view for our instrument is 1750 microns (1.75 mm), and the maximum electron image field is around 2500 microns (2 mm).  So, having a good sample map, particularly for quantitative analysis, is very important.  Sample mapping is much less important for SEM 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types of map may be useful, depending on you s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Macro-map.</a:t>
            </a:r>
            <a:r>
              <a:rPr b="0" lang="en-US" sz="1800" spc="-1" strike="noStrike">
                <a:solidFill>
                  <a:srgbClr val="000000"/>
                </a:solidFill>
                <a:latin typeface="Times New Roman"/>
              </a:rPr>
              <a:t>  Map of entire section.  Depending on sample type, this may be hand-sketched, made with a slide copier, or with an enlarging xerox mach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Micro-map.</a:t>
            </a:r>
            <a:r>
              <a:rPr b="0" lang="en-US" sz="1800" spc="-1" strike="noStrike">
                <a:solidFill>
                  <a:srgbClr val="000000"/>
                </a:solidFill>
                <a:latin typeface="Times New Roman"/>
              </a:rPr>
              <a:t>  Map of areas of analytical interest.  This needs to be produced with a camera-equipped microscope, and can be used to locate and document exact analytical spots.  A micromap can also be produced using the micropro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also mark areas of interest on your sample, but this must be done on a clean sample surface prior to applying the conductive coat.</a:t>
            </a:r>
            <a:endParaRPr b="0" lang="en-US" sz="1800" spc="-1" strike="noStrike">
              <a:solidFill>
                <a:srgbClr val="000000"/>
              </a:solidFill>
              <a:latin typeface="Times New Roman"/>
            </a:endParaRPr>
          </a:p>
        </p:txBody>
      </p:sp>
      <p:sp>
        <p:nvSpPr>
          <p:cNvPr id="78" name="Text Box 5"/>
          <p:cNvSpPr/>
          <p:nvPr/>
        </p:nvSpPr>
        <p:spPr>
          <a:xfrm>
            <a:off x="3200760" y="228600"/>
            <a:ext cx="176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pp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oating</a:t>
            </a:r>
            <a:endParaRPr b="0" lang="en-US" sz="4400" spc="-1" strike="noStrike">
              <a:solidFill>
                <a:srgbClr val="000000"/>
              </a:solidFill>
              <a:latin typeface="Times New Roman"/>
            </a:endParaRPr>
          </a:p>
        </p:txBody>
      </p:sp>
      <p:sp>
        <p:nvSpPr>
          <p:cNvPr id="80" name="Rectangle 4"/>
          <p:cNvSpPr/>
          <p:nvPr/>
        </p:nvSpPr>
        <p:spPr>
          <a:xfrm>
            <a:off x="228600" y="1676520"/>
            <a:ext cx="8763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geological samples are nonconductors of electricity.  Therefore, if an uncoated sample is placed in the path of the electron beam, the sample will charge, causing deviation of the electron beam, as well as catastrophic decharging.   The sample must be coated with conductive material, such as carbon, gold, or gold-palladium allo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B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quantitative analysis and X-ray mapping, carbon is the coat of choice.  Because of its low Z, it has a minimal effect on the X-ray spectrum, either in terms of producing X-ray lines or absorbing X-rays.  A carbon coat is applied using a vacuum evaporator at pressures of less than 10</a:t>
            </a:r>
            <a:r>
              <a:rPr b="0" lang="en-US" sz="1800" spc="-1" strike="noStrike" baseline="30000">
                <a:solidFill>
                  <a:srgbClr val="000000"/>
                </a:solidFill>
                <a:latin typeface="Times New Roman"/>
              </a:rPr>
              <a:t>-4</a:t>
            </a:r>
            <a:r>
              <a:rPr b="0" lang="en-US" sz="1800" spc="-1" strike="noStrike">
                <a:solidFill>
                  <a:srgbClr val="000000"/>
                </a:solidFill>
                <a:latin typeface="Times New Roman"/>
              </a:rPr>
              <a:t> torr.  The ideal coating thickness is 20 n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L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d can be a better choice for SEM coating because of its higher secondary electron yiel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paring Bulk Samples</a:t>
            </a:r>
            <a:endParaRPr b="0" lang="en-US" sz="3600" spc="-1" strike="noStrike">
              <a:solidFill>
                <a:srgbClr val="000000"/>
              </a:solidFill>
              <a:latin typeface="Times New Roman"/>
            </a:endParaRPr>
          </a:p>
        </p:txBody>
      </p:sp>
      <p:sp>
        <p:nvSpPr>
          <p:cNvPr id="51" name="PlaceHolder 2"/>
          <p:cNvSpPr>
            <a:spLocks noGrp="1"/>
          </p:cNvSpPr>
          <p:nvPr>
            <p:ph/>
          </p:nvPr>
        </p:nvSpPr>
        <p:spPr>
          <a:xfrm>
            <a:off x="4572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Pr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organic material with oxidizing agent such as K-permanganate or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se sediments or soils to remove soluble salts and fines if des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ate can be removed with HC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hydrocarbons by soaking in trichloretha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5335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y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t samples must be oven- or freeze-dried before introduction into the instrument.  Be aware that temperatures of over 5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C can remove structural water from clay mineral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samples that have been cut using a saw should be thoroughly dried prior to moun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Preparation</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samples must be cut to thin-section size, or cut or broken to a appropriate size for an SEM stub.  Typically, diamond-blade circular saw is used.  Friable samples may need to first be impregnated.</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regnat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iable or porous samples should be vacuum impregnated prior to sample prep.   Loose material on the sample surface can cause contamination of the electron column, and unimpregnated porous samples can cause poor vacuum by prolonged outgassing.</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t-mak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 visualization of pore structure can be facilitated by vacuum impregnating a sample, followed by dissolution of the sample material using hydrofluoric acid.  Topographic details of small fossils can also be facilitated by producing latex cast</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s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lk analyses of fused rock samples can be made using EMPA techniques.  Samples and standards should be fused using the same procedure.</a:t>
            </a:r>
            <a:endParaRPr b="0" lang="en-US" sz="1800" spc="-1" strike="noStrike">
              <a:solidFill>
                <a:srgbClr val="000000"/>
              </a:solidFill>
              <a:latin typeface="Times New Roman"/>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un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 Stubs:</a:t>
            </a:r>
            <a:endParaRPr b="0" lang="en-US" sz="3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 samples can be mounted onto Al or C stubs.  C can be used for low X-ray background in the case of particulate analysis.  Mounting can be done using epoxy, quick-setting glue, double-stick tape (mostly for particulates) or wax.  Small grains can be mounted onto double-stick tape or partially dried carbon or silver pai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7" name="Group 7"/>
          <p:cNvGrpSpPr/>
          <p:nvPr/>
        </p:nvGrpSpPr>
        <p:grpSpPr>
          <a:xfrm>
            <a:off x="3657600" y="4952880"/>
            <a:ext cx="1752480" cy="1447920"/>
            <a:chOff x="3657600" y="4952880"/>
            <a:chExt cx="1752480" cy="1447920"/>
          </a:xfrm>
        </p:grpSpPr>
        <p:sp>
          <p:nvSpPr>
            <p:cNvPr id="58" name="AutoShape 6"/>
            <p:cNvSpPr/>
            <p:nvPr/>
          </p:nvSpPr>
          <p:spPr>
            <a:xfrm>
              <a:off x="4343040" y="5257800"/>
              <a:ext cx="380880" cy="1143000"/>
            </a:xfrm>
            <a:prstGeom prst="flowChartMagneticDisk">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AutoShape 5"/>
            <p:cNvSpPr/>
            <p:nvPr/>
          </p:nvSpPr>
          <p:spPr>
            <a:xfrm>
              <a:off x="3657600" y="4952880"/>
              <a:ext cx="1752480" cy="685800"/>
            </a:xfrm>
            <a:prstGeom prst="flowChartMagneticDisk">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Freeform 8"/>
          <p:cNvSpPr/>
          <p:nvPr/>
        </p:nvSpPr>
        <p:spPr>
          <a:xfrm>
            <a:off x="3892680" y="4444920"/>
            <a:ext cx="1260360" cy="625680"/>
          </a:xfrm>
          <a:custGeom>
            <a:avLst/>
            <a:gdLst>
              <a:gd name="textAreaLeft" fmla="*/ 0 w 1260360"/>
              <a:gd name="textAreaRight" fmla="*/ 1260720 w 1260360"/>
              <a:gd name="textAreaTop" fmla="*/ 0 h 625680"/>
              <a:gd name="textAreaBottom" fmla="*/ 625680 h 625680"/>
            </a:gdLst>
            <a:ahLst/>
            <a:rect l="textAreaLeft" t="textAreaTop" r="textAreaRight" b="textAreaBottom"/>
            <a:pathLst>
              <a:path w="794" h="394">
                <a:moveTo>
                  <a:pt x="102" y="371"/>
                </a:moveTo>
                <a:cubicBezTo>
                  <a:pt x="89" y="343"/>
                  <a:pt x="68" y="324"/>
                  <a:pt x="45" y="303"/>
                </a:cubicBezTo>
                <a:cubicBezTo>
                  <a:pt x="0" y="209"/>
                  <a:pt x="55" y="183"/>
                  <a:pt x="125" y="166"/>
                </a:cubicBezTo>
                <a:cubicBezTo>
                  <a:pt x="143" y="156"/>
                  <a:pt x="166" y="155"/>
                  <a:pt x="183" y="143"/>
                </a:cubicBezTo>
                <a:cubicBezTo>
                  <a:pt x="197" y="133"/>
                  <a:pt x="199" y="108"/>
                  <a:pt x="217" y="97"/>
                </a:cubicBezTo>
                <a:cubicBezTo>
                  <a:pt x="247" y="78"/>
                  <a:pt x="286" y="71"/>
                  <a:pt x="320" y="63"/>
                </a:cubicBezTo>
                <a:cubicBezTo>
                  <a:pt x="443" y="0"/>
                  <a:pt x="348" y="39"/>
                  <a:pt x="628" y="51"/>
                </a:cubicBezTo>
                <a:cubicBezTo>
                  <a:pt x="632" y="82"/>
                  <a:pt x="630" y="114"/>
                  <a:pt x="640" y="143"/>
                </a:cubicBezTo>
                <a:cubicBezTo>
                  <a:pt x="643" y="151"/>
                  <a:pt x="655" y="151"/>
                  <a:pt x="663" y="154"/>
                </a:cubicBezTo>
                <a:cubicBezTo>
                  <a:pt x="698" y="166"/>
                  <a:pt x="732" y="171"/>
                  <a:pt x="765" y="188"/>
                </a:cubicBezTo>
                <a:cubicBezTo>
                  <a:pt x="794" y="243"/>
                  <a:pt x="783" y="212"/>
                  <a:pt x="765" y="326"/>
                </a:cubicBezTo>
                <a:cubicBezTo>
                  <a:pt x="762" y="346"/>
                  <a:pt x="762" y="376"/>
                  <a:pt x="743" y="383"/>
                </a:cubicBezTo>
                <a:cubicBezTo>
                  <a:pt x="718" y="392"/>
                  <a:pt x="690" y="390"/>
                  <a:pt x="663" y="394"/>
                </a:cubicBezTo>
                <a:cubicBezTo>
                  <a:pt x="499" y="390"/>
                  <a:pt x="335" y="390"/>
                  <a:pt x="171" y="383"/>
                </a:cubicBezTo>
                <a:cubicBezTo>
                  <a:pt x="151" y="382"/>
                  <a:pt x="130" y="345"/>
                  <a:pt x="102" y="371"/>
                </a:cubicBez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Line 10"/>
          <p:cNvSpPr/>
          <p:nvPr/>
        </p:nvSpPr>
        <p:spPr>
          <a:xfrm flipH="1">
            <a:off x="3962160" y="4952880"/>
            <a:ext cx="75960" cy="152640"/>
          </a:xfrm>
          <a:prstGeom prst="line">
            <a:avLst/>
          </a:prstGeom>
          <a:ln w="139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11"/>
          <p:cNvSpPr/>
          <p:nvPr/>
        </p:nvSpPr>
        <p:spPr>
          <a:xfrm>
            <a:off x="5029200" y="4876920"/>
            <a:ext cx="152280" cy="228600"/>
          </a:xfrm>
          <a:prstGeom prst="line">
            <a:avLst/>
          </a:prstGeom>
          <a:ln w="139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itative Analysis Preparation</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ing, Thin Section, Grain Mou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the most common techniques for preparation of geological sampl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 name="Picture 4" descr="thick_section"/>
          <p:cNvPicPr/>
          <p:nvPr/>
        </p:nvPicPr>
        <p:blipFill>
          <a:blip r:embed="rId1"/>
          <a:stretch/>
        </p:blipFill>
        <p:spPr>
          <a:xfrm>
            <a:off x="2514600" y="2666880"/>
            <a:ext cx="3948120" cy="389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grain_mount"/>
          <p:cNvPicPr/>
          <p:nvPr/>
        </p:nvPicPr>
        <p:blipFill>
          <a:blip r:embed="rId1"/>
          <a:stretch/>
        </p:blipFill>
        <p:spPr>
          <a:xfrm>
            <a:off x="2133720" y="228600"/>
            <a:ext cx="4736880" cy="647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427920" y="30492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holders</a:t>
            </a:r>
            <a:endParaRPr b="0" lang="en-US" sz="2400" spc="-1" strike="noStrike">
              <a:solidFill>
                <a:srgbClr val="000000"/>
              </a:solidFill>
              <a:latin typeface="Times New Roman"/>
            </a:endParaRPr>
          </a:p>
        </p:txBody>
      </p:sp>
      <p:pic>
        <p:nvPicPr>
          <p:cNvPr id="68" name="Picture 3" descr="ho2+2"/>
          <p:cNvPicPr/>
          <p:nvPr/>
        </p:nvPicPr>
        <p:blipFill>
          <a:blip r:embed="rId1"/>
          <a:srcRect l="24888" t="32399" r="23686" b="0"/>
          <a:stretch/>
        </p:blipFill>
        <p:spPr>
          <a:xfrm>
            <a:off x="380880" y="914400"/>
            <a:ext cx="3641760" cy="5638680"/>
          </a:xfrm>
          <a:prstGeom prst="rect">
            <a:avLst/>
          </a:prstGeom>
          <a:ln w="0">
            <a:noFill/>
          </a:ln>
        </p:spPr>
      </p:pic>
      <p:pic>
        <p:nvPicPr>
          <p:cNvPr id="69" name="Picture 4" descr="h06"/>
          <p:cNvPicPr/>
          <p:nvPr/>
        </p:nvPicPr>
        <p:blipFill>
          <a:blip r:embed="rId2"/>
          <a:srcRect l="24124" t="31699" r="24124" b="0"/>
          <a:stretch/>
        </p:blipFill>
        <p:spPr>
          <a:xfrm>
            <a:off x="4800600" y="914400"/>
            <a:ext cx="3683160" cy="572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ing a sample to a flat, unscratched surface is CRITICAL for good quantitative analysis.  An uneven, or scratched sample surface can lead to uneven production of x-rays from the sample surface, errors in absorbtion correction, and spurious resul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hing</a:t>
            </a:r>
            <a:endParaRPr b="0" lang="en-US" sz="4400" spc="-1" strike="noStrike">
              <a:solidFill>
                <a:srgbClr val="000000"/>
              </a:solidFill>
              <a:latin typeface="Times New Roman"/>
            </a:endParaRPr>
          </a:p>
        </p:txBody>
      </p:sp>
      <p:pic>
        <p:nvPicPr>
          <p:cNvPr id="72" name="Picture 5" descr="polish"/>
          <p:cNvPicPr/>
          <p:nvPr/>
        </p:nvPicPr>
        <p:blipFill>
          <a:blip r:embed="rId1"/>
          <a:stretch/>
        </p:blipFill>
        <p:spPr>
          <a:xfrm>
            <a:off x="685800" y="3809880"/>
            <a:ext cx="7696080" cy="233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21:48:59Z</dcterms:created>
  <dc:creator>nelia</dc:creator>
  <dc:description/>
  <dc:language>en-US</dc:language>
  <cp:lastModifiedBy>ksu</cp:lastModifiedBy>
  <dcterms:modified xsi:type="dcterms:W3CDTF">2011-10-31T23:44:10Z</dcterms:modified>
  <cp:revision>16</cp:revision>
  <dc:subject/>
  <dc:title>Sample Preparation and Mapping</dc:title>
</cp:coreProperties>
</file>