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4DE3-27E9-4293-A7DF-700CFDAEF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E25B-0522-414F-A492-6633974430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CF8-4F81-4D43-A5BB-D50AF8A2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1DE-B1B7-4234-909F-F818FDDA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B44-B4C6-4930-9D13-4E3CD806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E32-6E0D-4B3C-8A6A-DC5AD53D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F06-11F1-4F27-A45D-22B3DF3D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CDF-6963-4D94-BB82-0BB0F14D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405-3C8E-4883-801B-7738BD6A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D53-7726-4EAB-AC8E-B0E59DB0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4DC-DDB6-4E84-9AC4-20267EA1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265-CDAF-4B94-B5FC-AA60CEC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EF9-27E4-4F26-9A84-B71EC9F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BFB-DDD3-4335-834B-0101E882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8DDE-860B-4826-838A-B0DA03ED1A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Minerals</a:t>
            </a:r>
            <a:br>
              <a:rPr sz="4800"/>
            </a:br>
            <a:br>
              <a:rPr sz="48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under the micro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4653000"/>
            <a:ext cx="7274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Oliv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looks like a stained-glass window; bright interference colours and thick black fractures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4" descr="newest micros 0131"/>
          <p:cNvPicPr/>
          <p:nvPr/>
        </p:nvPicPr>
        <p:blipFill>
          <a:blip r:embed="rId1"/>
          <a:stretch/>
        </p:blipFill>
        <p:spPr>
          <a:xfrm>
            <a:off x="0" y="0"/>
            <a:ext cx="4356000" cy="452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newest micros 014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530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2195640" y="1557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6948360" y="170028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843280" y="321300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596360" y="328464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458100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ffff00"/>
                </a:solidFill>
                <a:latin typeface="Arial"/>
              </a:rPr>
              <a:t>Garnet</a:t>
            </a:r>
            <a:br>
              <a:rPr sz="39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ounded crystal,</a:t>
            </a: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transparent under PPL but goes extinct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2" name="Picture 15" descr="newest micros 0171"/>
          <p:cNvPicPr/>
          <p:nvPr/>
        </p:nvPicPr>
        <p:blipFill>
          <a:blip r:embed="rId1"/>
          <a:stretch/>
        </p:blipFill>
        <p:spPr>
          <a:xfrm>
            <a:off x="0" y="0"/>
            <a:ext cx="4500720" cy="4390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newest micros 018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365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6084720" y="2781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547640" y="263700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00"/>
                </a:solidFill>
                <a:latin typeface="Arial"/>
              </a:rPr>
              <a:t>Calcite</a:t>
            </a:r>
            <a:br>
              <a:rPr sz="43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y show both high and low relief, transparent under PPL with 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perfect cleavages at 12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 Under XPL it shows pearly shad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9" name="Picture 9" descr="slids 043"/>
          <p:cNvPicPr/>
          <p:nvPr/>
        </p:nvPicPr>
        <p:blipFill>
          <a:blip r:embed="rId1"/>
          <a:stretch/>
        </p:blipFill>
        <p:spPr>
          <a:xfrm>
            <a:off x="0" y="0"/>
            <a:ext cx="4572000" cy="450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lids 04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00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1476360" y="2708280"/>
            <a:ext cx="8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227640" y="2637000"/>
            <a:ext cx="865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7559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MINERALS you need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quar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icroc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lagio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uscov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bio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amphib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yrox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oliv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calc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000" y="4723920"/>
            <a:ext cx="561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artz</a:t>
            </a:r>
            <a:br>
              <a:rPr sz="4400"/>
            </a:br>
            <a:r>
              <a:rPr b="0" i="1" lang="en-GB" sz="3100" spc="-1" strike="noStrike">
                <a:solidFill>
                  <a:srgbClr val="ffff00"/>
                </a:solidFill>
                <a:latin typeface="Arial"/>
              </a:rPr>
              <a:t>grains in sandstone</a:t>
            </a:r>
            <a:endParaRPr b="0" lang="en-US" sz="31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1" name="Picture 6" descr="slids 08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37236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500720" y="220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4" descr="slids 086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197964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0" y="234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5280" y="4797000"/>
            <a:ext cx="5543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lagioclase</a:t>
            </a:r>
            <a:br>
              <a:rPr sz="4000"/>
            </a:br>
            <a:r>
              <a:rPr b="0" i="1" lang="en-GB" sz="2700" spc="-1" strike="noStrike">
                <a:solidFill>
                  <a:srgbClr val="ffff00"/>
                </a:solidFill>
                <a:latin typeface="Arial"/>
              </a:rPr>
              <a:t>with repeated twinning</a:t>
            </a:r>
            <a:endParaRPr b="0" lang="en-US" sz="2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9" descr="slids 07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7667640" y="3429000"/>
            <a:ext cx="129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4" descr="slids 070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1835280" y="1052640"/>
            <a:ext cx="129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4868640"/>
            <a:ext cx="5832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icrocl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grain in centre showing its distinctive cross-hatched twinning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7" descr="new micros3 027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65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new micros3 028"/>
          <p:cNvPicPr/>
          <p:nvPr/>
        </p:nvPicPr>
        <p:blipFill>
          <a:blip r:embed="rId2"/>
          <a:stretch/>
        </p:blipFill>
        <p:spPr>
          <a:xfrm>
            <a:off x="0" y="0"/>
            <a:ext cx="4572000" cy="4653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9"/>
          <p:cNvSpPr/>
          <p:nvPr/>
        </p:nvSpPr>
        <p:spPr>
          <a:xfrm>
            <a:off x="1042920" y="162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435640" y="155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4869000"/>
            <a:ext cx="6048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uscovite </a:t>
            </a:r>
            <a:br>
              <a:rPr sz="4400"/>
            </a:b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clear under PPL but with perfect cleavage and bright interference colours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524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7928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6" descr="new micros2 051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new micros2 05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8"/>
          <p:cNvSpPr/>
          <p:nvPr/>
        </p:nvSpPr>
        <p:spPr>
          <a:xfrm>
            <a:off x="7524720" y="2852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2195640" y="3284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556000" y="24919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 flipH="1" flipV="1">
            <a:off x="6948000" y="256536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35280" y="4508640"/>
            <a:ext cx="55087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Biotit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one perfect cleavage; strong natural colour masks polarisation colours making look greenish under XP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0" y="3213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rotated to show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8" descr="newest micros 0061"/>
          <p:cNvPicPr/>
          <p:nvPr/>
        </p:nvPicPr>
        <p:blipFill>
          <a:blip r:embed="rId1"/>
          <a:stretch/>
        </p:blipFill>
        <p:spPr>
          <a:xfrm>
            <a:off x="0" y="3611520"/>
            <a:ext cx="3564000" cy="3246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newest micros 0071"/>
          <p:cNvPicPr/>
          <p:nvPr/>
        </p:nvPicPr>
        <p:blipFill>
          <a:blip r:embed="rId2"/>
          <a:stretch/>
        </p:blipFill>
        <p:spPr>
          <a:xfrm>
            <a:off x="0" y="0"/>
            <a:ext cx="3564000" cy="3249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newest micros 0091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4567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2"/>
          <p:cNvSpPr/>
          <p:nvPr/>
        </p:nvSpPr>
        <p:spPr>
          <a:xfrm>
            <a:off x="5940360" y="213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1187280" y="12682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187280" y="4941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1763640" y="33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7164360" y="62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640" y="4941720"/>
            <a:ext cx="5473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Amphibol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2 cleavages at 6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or 12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distinguishing it from biotite or pyroxen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70400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0" y="3357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showing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0" descr="newest micros 0101"/>
          <p:cNvPicPr/>
          <p:nvPr/>
        </p:nvPicPr>
        <p:blipFill>
          <a:blip r:embed="rId1"/>
          <a:stretch/>
        </p:blipFill>
        <p:spPr>
          <a:xfrm>
            <a:off x="0" y="0"/>
            <a:ext cx="3492360" cy="338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newest micros 0111"/>
          <p:cNvPicPr/>
          <p:nvPr/>
        </p:nvPicPr>
        <p:blipFill>
          <a:blip r:embed="rId2"/>
          <a:stretch/>
        </p:blipFill>
        <p:spPr>
          <a:xfrm>
            <a:off x="4162320" y="0"/>
            <a:ext cx="4981680" cy="501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newest micros 0121"/>
          <p:cNvPicPr/>
          <p:nvPr/>
        </p:nvPicPr>
        <p:blipFill>
          <a:blip r:embed="rId3"/>
          <a:stretch/>
        </p:blipFill>
        <p:spPr>
          <a:xfrm>
            <a:off x="0" y="3765600"/>
            <a:ext cx="3492360" cy="309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3"/>
          <p:cNvSpPr/>
          <p:nvPr/>
        </p:nvSpPr>
        <p:spPr>
          <a:xfrm>
            <a:off x="1619280" y="134136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6588000" y="206064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4724280"/>
            <a:ext cx="7345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yroxene</a:t>
            </a:r>
            <a:br>
              <a:rPr sz="40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well-formed crystal seen here with 2 cleavages at 90</a:t>
            </a:r>
            <a:r>
              <a:rPr b="0" lang="en-GB" sz="23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: brightly coloured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6" descr="new micros3(a) 02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8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slids 045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8"/>
          <p:cNvSpPr/>
          <p:nvPr/>
        </p:nvSpPr>
        <p:spPr>
          <a:xfrm>
            <a:off x="1619280" y="134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588000" y="1557360"/>
            <a:ext cx="107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 enlar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20:22:50Z</dcterms:created>
  <dc:creator>Learning and Teaching Scotland</dc:creator>
  <dc:description/>
  <dc:language>en-US</dc:language>
  <cp:lastModifiedBy>ksu</cp:lastModifiedBy>
  <dcterms:modified xsi:type="dcterms:W3CDTF">2011-10-27T12:53:41Z</dcterms:modified>
  <cp:revision>187</cp:revision>
  <dc:subject/>
  <dc:title>Geology: Minerals Under Microscope for Higher</dc:title>
</cp:coreProperties>
</file>