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41A3-FCB6-4D87-9B1D-7AA7B96A7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0450-8108-492F-AB84-7CA4EA0A6D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CFD-87EE-4EC9-9694-085E4FFC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FD7-44B8-4FEA-9EC0-692A1041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193-0356-42B2-BE49-D1249206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921-F405-40BB-BBD5-0214CDFF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9FD8-2D6C-44E8-B76C-0BA60E25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676-7415-4E09-8075-E4A81950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75BA-64BC-4EB9-87B5-61E13552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8173-C0D5-4DAD-99BC-E98B11A3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668A-E328-4A16-B358-ADB5E25F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C02-F7B0-467E-BAC6-CD093185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C686-3EAD-4906-A421-4D2FEFE1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0ACC-3A3A-49BF-BDB0-D219FEC2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4E91-64F0-4D95-9E4A-0BFF0D8C94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Minerals</a:t>
            </a:r>
            <a:br>
              <a:rPr sz="4800"/>
            </a:br>
            <a:br>
              <a:rPr sz="4800"/>
            </a:b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under the microscop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4653000"/>
            <a:ext cx="72741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Olivine</a:t>
            </a:r>
            <a:br>
              <a:rPr sz="4000"/>
            </a:br>
            <a:r>
              <a:rPr b="0" i="1" lang="en-GB" sz="2300" spc="-1" strike="noStrike">
                <a:solidFill>
                  <a:srgbClr val="ffff00"/>
                </a:solidFill>
                <a:latin typeface="Arial"/>
              </a:rPr>
              <a:t>looks like a stained-glass window; bright interference colours and thick black fractures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4" descr="newest micros 0131"/>
          <p:cNvPicPr/>
          <p:nvPr/>
        </p:nvPicPr>
        <p:blipFill>
          <a:blip r:embed="rId1"/>
          <a:stretch/>
        </p:blipFill>
        <p:spPr>
          <a:xfrm>
            <a:off x="0" y="0"/>
            <a:ext cx="4356000" cy="4521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newest micros 0141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4530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6"/>
          <p:cNvSpPr/>
          <p:nvPr/>
        </p:nvSpPr>
        <p:spPr>
          <a:xfrm>
            <a:off x="2195640" y="1557360"/>
            <a:ext cx="792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6948360" y="1700280"/>
            <a:ext cx="79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843280" y="3213000"/>
            <a:ext cx="11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7596360" y="3284640"/>
            <a:ext cx="11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4581000"/>
            <a:ext cx="7056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ffff00"/>
                </a:solidFill>
                <a:latin typeface="Arial"/>
              </a:rPr>
              <a:t>Garnet</a:t>
            </a:r>
            <a:br>
              <a:rPr sz="3900"/>
            </a:b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rounded crystal,</a:t>
            </a:r>
            <a:r>
              <a:rPr b="0" lang="en-GB" sz="3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transparent under PPL but goes extinct under XPL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2" name="Picture 15" descr="newest micros 0171"/>
          <p:cNvPicPr/>
          <p:nvPr/>
        </p:nvPicPr>
        <p:blipFill>
          <a:blip r:embed="rId1"/>
          <a:stretch/>
        </p:blipFill>
        <p:spPr>
          <a:xfrm>
            <a:off x="0" y="0"/>
            <a:ext cx="4500720" cy="4390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newest micros 0181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365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6084720" y="2781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1547640" y="2637000"/>
            <a:ext cx="79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465300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ffff00"/>
                </a:solidFill>
                <a:latin typeface="Arial"/>
              </a:rPr>
              <a:t>Calcite</a:t>
            </a:r>
            <a:br>
              <a:rPr sz="43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ay show both high and low relief, transparent under PPL with 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2 perfect cleavages at 12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. Under XPL it shows pearly shad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9" name="Picture 9" descr="slids 043"/>
          <p:cNvPicPr/>
          <p:nvPr/>
        </p:nvPicPr>
        <p:blipFill>
          <a:blip r:embed="rId1"/>
          <a:stretch/>
        </p:blipFill>
        <p:spPr>
          <a:xfrm>
            <a:off x="0" y="0"/>
            <a:ext cx="4572000" cy="450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slids 044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00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1476360" y="2708280"/>
            <a:ext cx="863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227640" y="2637000"/>
            <a:ext cx="865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99640" y="404640"/>
            <a:ext cx="7559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MINERALS you need to k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quar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microc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plagioc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muscov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biot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amphib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pyrox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oliv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ga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calc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92000" y="4723920"/>
            <a:ext cx="5616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Quartz</a:t>
            </a:r>
            <a:br>
              <a:rPr sz="4400"/>
            </a:br>
            <a:r>
              <a:rPr b="0" i="1" lang="en-GB" sz="3100" spc="-1" strike="noStrike">
                <a:solidFill>
                  <a:srgbClr val="ffff00"/>
                </a:solidFill>
                <a:latin typeface="Arial"/>
              </a:rPr>
              <a:t>grains in sandstone</a:t>
            </a:r>
            <a:endParaRPr b="0" lang="en-US" sz="31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1" name="Picture 6" descr="slids 08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372360" y="1700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4500720" y="22050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4" descr="slids 086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5"/>
          <p:cNvSpPr/>
          <p:nvPr/>
        </p:nvSpPr>
        <p:spPr>
          <a:xfrm>
            <a:off x="1979640" y="1700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0" y="2349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35280" y="4797000"/>
            <a:ext cx="55432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lagioclase</a:t>
            </a:r>
            <a:br>
              <a:rPr sz="4000"/>
            </a:br>
            <a:r>
              <a:rPr b="0" i="1" lang="en-GB" sz="2700" spc="-1" strike="noStrike">
                <a:solidFill>
                  <a:srgbClr val="ffff00"/>
                </a:solidFill>
                <a:latin typeface="Arial"/>
              </a:rPr>
              <a:t>with repeated twinning</a:t>
            </a:r>
            <a:endParaRPr b="0" lang="en-US" sz="27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0" name="Picture 9" descr="slids 071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7667640" y="3429000"/>
            <a:ext cx="129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4" descr="slids 070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5"/>
          <p:cNvSpPr/>
          <p:nvPr/>
        </p:nvSpPr>
        <p:spPr>
          <a:xfrm>
            <a:off x="1835280" y="1052640"/>
            <a:ext cx="129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4868640"/>
            <a:ext cx="5832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Microcline</a:t>
            </a:r>
            <a:br>
              <a:rPr sz="4000"/>
            </a:br>
            <a:r>
              <a:rPr b="0" i="1" lang="en-GB" sz="2300" spc="-1" strike="noStrike">
                <a:solidFill>
                  <a:srgbClr val="ffff00"/>
                </a:solidFill>
                <a:latin typeface="Arial"/>
              </a:rPr>
              <a:t>grain in centre showing its distinctive cross-hatched twinning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7" descr="new micros3 027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65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new micros3 028"/>
          <p:cNvPicPr/>
          <p:nvPr/>
        </p:nvPicPr>
        <p:blipFill>
          <a:blip r:embed="rId2"/>
          <a:stretch/>
        </p:blipFill>
        <p:spPr>
          <a:xfrm>
            <a:off x="0" y="0"/>
            <a:ext cx="4572000" cy="4653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9"/>
          <p:cNvSpPr/>
          <p:nvPr/>
        </p:nvSpPr>
        <p:spPr>
          <a:xfrm>
            <a:off x="1042920" y="1628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croc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5435640" y="1557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icroc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4869000"/>
            <a:ext cx="6048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Muscovite </a:t>
            </a:r>
            <a:br>
              <a:rPr sz="4400"/>
            </a:br>
            <a:r>
              <a:rPr b="0" lang="en-GB" sz="2100" spc="-1" strike="noStrike">
                <a:solidFill>
                  <a:srgbClr val="ffff00"/>
                </a:solidFill>
                <a:latin typeface="Arial"/>
              </a:rPr>
              <a:t>clear under PPL but with perfect cleavage and bright interference colours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52472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7928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6" descr="new micros2 051"/>
          <p:cNvPicPr/>
          <p:nvPr/>
        </p:nvPicPr>
        <p:blipFill>
          <a:blip r:embed="rId1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new micros2 05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8"/>
          <p:cNvSpPr/>
          <p:nvPr/>
        </p:nvSpPr>
        <p:spPr>
          <a:xfrm>
            <a:off x="7524720" y="2852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scov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2195640" y="3284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scov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V="1">
            <a:off x="2556000" y="249192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22"/>
          <p:cNvSpPr/>
          <p:nvPr/>
        </p:nvSpPr>
        <p:spPr>
          <a:xfrm flipH="1" flipV="1">
            <a:off x="6948000" y="2565360"/>
            <a:ext cx="576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35280" y="4508640"/>
            <a:ext cx="55087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Biotite</a:t>
            </a:r>
            <a:br>
              <a:rPr sz="4000"/>
            </a:b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pleochroic with one perfect cleavage; strong natural colour masks polarisation colours making look greenish under XP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0" y="321300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 :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lower view rotated to show pleochrois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18" descr="newest micros 0061"/>
          <p:cNvPicPr/>
          <p:nvPr/>
        </p:nvPicPr>
        <p:blipFill>
          <a:blip r:embed="rId1"/>
          <a:stretch/>
        </p:blipFill>
        <p:spPr>
          <a:xfrm>
            <a:off x="0" y="3611520"/>
            <a:ext cx="3564000" cy="3246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newest micros 0071"/>
          <p:cNvPicPr/>
          <p:nvPr/>
        </p:nvPicPr>
        <p:blipFill>
          <a:blip r:embed="rId2"/>
          <a:stretch/>
        </p:blipFill>
        <p:spPr>
          <a:xfrm>
            <a:off x="0" y="0"/>
            <a:ext cx="3564000" cy="3249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newest micros 0091"/>
          <p:cNvPicPr/>
          <p:nvPr/>
        </p:nvPicPr>
        <p:blipFill>
          <a:blip r:embed="rId3"/>
          <a:stretch/>
        </p:blipFill>
        <p:spPr>
          <a:xfrm>
            <a:off x="4284720" y="0"/>
            <a:ext cx="4859280" cy="4567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2"/>
          <p:cNvSpPr/>
          <p:nvPr/>
        </p:nvSpPr>
        <p:spPr>
          <a:xfrm>
            <a:off x="5940360" y="21337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1187280" y="126828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1187280" y="494172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1763640" y="333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7164360" y="62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19640" y="4941720"/>
            <a:ext cx="5473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00"/>
                </a:solidFill>
                <a:latin typeface="Arial"/>
              </a:rPr>
              <a:t>Amphibole</a:t>
            </a:r>
            <a:br>
              <a:rPr sz="4000"/>
            </a:b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pleochroic with 2 cleavages at 60</a:t>
            </a:r>
            <a:r>
              <a:rPr b="0" i="1" lang="en-GB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 or 120</a:t>
            </a:r>
            <a:r>
              <a:rPr b="0" i="1" lang="en-GB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 distinguishing it from biotite or pyroxen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7704000" y="50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0" y="335772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 :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lower view showing pleochrois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0" descr="newest micros 0101"/>
          <p:cNvPicPr/>
          <p:nvPr/>
        </p:nvPicPr>
        <p:blipFill>
          <a:blip r:embed="rId1"/>
          <a:stretch/>
        </p:blipFill>
        <p:spPr>
          <a:xfrm>
            <a:off x="0" y="0"/>
            <a:ext cx="3492360" cy="3389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newest micros 0111"/>
          <p:cNvPicPr/>
          <p:nvPr/>
        </p:nvPicPr>
        <p:blipFill>
          <a:blip r:embed="rId2"/>
          <a:stretch/>
        </p:blipFill>
        <p:spPr>
          <a:xfrm>
            <a:off x="4162320" y="0"/>
            <a:ext cx="4981680" cy="501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2" descr="newest micros 0121"/>
          <p:cNvPicPr/>
          <p:nvPr/>
        </p:nvPicPr>
        <p:blipFill>
          <a:blip r:embed="rId3"/>
          <a:stretch/>
        </p:blipFill>
        <p:spPr>
          <a:xfrm>
            <a:off x="0" y="3765600"/>
            <a:ext cx="3492360" cy="3092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3"/>
          <p:cNvSpPr/>
          <p:nvPr/>
        </p:nvSpPr>
        <p:spPr>
          <a:xfrm>
            <a:off x="1619280" y="1341360"/>
            <a:ext cx="10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mphibo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4"/>
          <p:cNvSpPr/>
          <p:nvPr/>
        </p:nvSpPr>
        <p:spPr>
          <a:xfrm>
            <a:off x="6588000" y="2060640"/>
            <a:ext cx="10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mphibo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4724280"/>
            <a:ext cx="73454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yroxene</a:t>
            </a:r>
            <a:br>
              <a:rPr sz="4000"/>
            </a:b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well-formed crystal seen here with 2 cleavages at 90</a:t>
            </a:r>
            <a:r>
              <a:rPr b="0" lang="en-GB" sz="23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: brightly coloured under XPL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6" descr="new micros3(a) 029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81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slids 045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8"/>
          <p:cNvSpPr/>
          <p:nvPr/>
        </p:nvSpPr>
        <p:spPr>
          <a:xfrm>
            <a:off x="1619280" y="1341360"/>
            <a:ext cx="100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yroxe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6588000" y="1557360"/>
            <a:ext cx="1079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yroxene enlarg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6T20:22:50Z</dcterms:created>
  <dc:creator>Learning and Teaching Scotland</dc:creator>
  <dc:description/>
  <dc:language>en-US</dc:language>
  <cp:lastModifiedBy>ksu</cp:lastModifiedBy>
  <dcterms:modified xsi:type="dcterms:W3CDTF">2011-10-27T12:53:41Z</dcterms:modified>
  <cp:revision>187</cp:revision>
  <dc:subject/>
  <dc:title>Geology: Minerals Under Microscope for Higher</dc:title>
</cp:coreProperties>
</file>