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7F8-54B6-42A7-AA3D-8E04C15B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324-6E96-454B-A721-E0A47C7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8A8-8EFA-4C4E-AC66-303805A2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798-5888-490E-A5F5-AAA59C8E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F87-CCB8-4A10-80C5-4864F397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D4B-A758-4CE0-AEFB-A3BE5A2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0E3-8873-421E-84FC-1924DFB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CE8-17BF-489F-B0D2-99E0AC6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EA2-B221-4B4D-920F-A3FA42E0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3BED-7069-40B6-AEC6-3F80352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19D-69EB-4EB0-BD9F-09F9DCD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0685-DEB8-4ACB-8722-E8695A7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A68F-B744-4F59-BADE-9B7094E49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Minerals</a:t>
            </a:r>
            <a:br>
              <a:rPr sz="4800"/>
            </a:br>
            <a:br>
              <a:rPr sz="48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under the microscop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653000"/>
            <a:ext cx="7274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Oliv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looks like a stained-glass window; bright interference colours and thick black fractures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4" descr="newest micros 0131"/>
          <p:cNvPicPr/>
          <p:nvPr/>
        </p:nvPicPr>
        <p:blipFill>
          <a:blip r:embed="rId1"/>
          <a:stretch/>
        </p:blipFill>
        <p:spPr>
          <a:xfrm>
            <a:off x="0" y="0"/>
            <a:ext cx="4356000" cy="4521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newest micros 014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530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2195640" y="1557360"/>
            <a:ext cx="79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6948360" y="170028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843280" y="321300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7596360" y="3284640"/>
            <a:ext cx="11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4581000"/>
            <a:ext cx="705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ffff00"/>
                </a:solidFill>
                <a:latin typeface="Arial"/>
              </a:rPr>
              <a:t>Garnet</a:t>
            </a:r>
            <a:br>
              <a:rPr sz="39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ounded crystal,</a:t>
            </a: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transparent under PPL but goes extinct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5" name="Picture 15" descr="newest micros 0171"/>
          <p:cNvPicPr/>
          <p:nvPr/>
        </p:nvPicPr>
        <p:blipFill>
          <a:blip r:embed="rId1"/>
          <a:stretch/>
        </p:blipFill>
        <p:spPr>
          <a:xfrm>
            <a:off x="0" y="0"/>
            <a:ext cx="4500720" cy="43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newest micros 0181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36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7"/>
          <p:cNvSpPr/>
          <p:nvPr/>
        </p:nvSpPr>
        <p:spPr>
          <a:xfrm>
            <a:off x="6084720" y="278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47640" y="2637000"/>
            <a:ext cx="79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00"/>
                </a:solidFill>
                <a:latin typeface="Arial"/>
              </a:rPr>
              <a:t>Calcite</a:t>
            </a:r>
            <a:br>
              <a:rPr sz="43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y show both high and low relief, transparent under PPL with 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 perfect cleavages at 12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 Under XPL it shows pearly shad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2" name="Picture 9" descr="slids 043"/>
          <p:cNvPicPr/>
          <p:nvPr/>
        </p:nvPicPr>
        <p:blipFill>
          <a:blip r:embed="rId1"/>
          <a:stretch/>
        </p:blipFill>
        <p:spPr>
          <a:xfrm>
            <a:off x="0" y="0"/>
            <a:ext cx="4572000" cy="450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slids 04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00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476360" y="2708280"/>
            <a:ext cx="86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227640" y="2637000"/>
            <a:ext cx="865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7559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MINERALS you need to kn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icroc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lagio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muscov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biot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amphib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pyrox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oliv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Arial"/>
              </a:rPr>
              <a:t>calc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4723920"/>
            <a:ext cx="5616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Quartz</a:t>
            </a:r>
            <a:br>
              <a:rPr sz="4400"/>
            </a:br>
            <a:r>
              <a:rPr b="0" i="1" lang="en-GB" sz="3100" spc="-1" strike="noStrike">
                <a:solidFill>
                  <a:srgbClr val="ffff00"/>
                </a:solidFill>
                <a:latin typeface="Arial"/>
              </a:rPr>
              <a:t>grains in sandstone</a:t>
            </a:r>
            <a:endParaRPr b="0" lang="en-US" sz="31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Picture 6" descr="slids 08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37236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500720" y="220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4" descr="slids 086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1979640" y="1700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5280" y="4797000"/>
            <a:ext cx="55432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lagioclase</a:t>
            </a:r>
            <a:br>
              <a:rPr sz="4000"/>
            </a:br>
            <a:r>
              <a:rPr b="0" i="1" lang="en-GB" sz="2700" spc="-1" strike="noStrike">
                <a:solidFill>
                  <a:srgbClr val="ffff00"/>
                </a:solidFill>
                <a:latin typeface="Arial"/>
              </a:rPr>
              <a:t>with repeated twinning</a:t>
            </a:r>
            <a:endParaRPr b="0" lang="en-US" sz="2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9" descr="slids 07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67640" y="3429000"/>
            <a:ext cx="1297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4" descr="slids 070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1835280" y="1052640"/>
            <a:ext cx="129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000" y="4868640"/>
            <a:ext cx="5832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icrocline</a:t>
            </a:r>
            <a:br>
              <a:rPr sz="4000"/>
            </a:br>
            <a:r>
              <a:rPr b="0" i="1" lang="en-GB" sz="2300" spc="-1" strike="noStrike">
                <a:solidFill>
                  <a:srgbClr val="ffff00"/>
                </a:solidFill>
                <a:latin typeface="Arial"/>
              </a:rPr>
              <a:t>grain in centre showing its distinctive cross-hatched twinning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7" descr="new micros3 027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65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new micros3 028"/>
          <p:cNvPicPr/>
          <p:nvPr/>
        </p:nvPicPr>
        <p:blipFill>
          <a:blip r:embed="rId2"/>
          <a:stretch/>
        </p:blipFill>
        <p:spPr>
          <a:xfrm>
            <a:off x="0" y="0"/>
            <a:ext cx="4572000" cy="465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1042920" y="1628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5435640" y="1557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icroc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4869000"/>
            <a:ext cx="60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uscovite </a:t>
            </a:r>
            <a:br>
              <a:rPr sz="4400"/>
            </a:b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lear under PPL but with perfect cleavage and bright interference colours</a:t>
            </a:r>
            <a:endParaRPr b="0" lang="en-US" sz="2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24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7928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6" descr="new micros2 051"/>
          <p:cNvPicPr/>
          <p:nvPr/>
        </p:nvPicPr>
        <p:blipFill>
          <a:blip r:embed="rId1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new micros2 05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7524720" y="2852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195640" y="32846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2556000" y="24919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 flipH="1" flipV="1">
            <a:off x="6948000" y="256536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35280" y="4508640"/>
            <a:ext cx="5508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Biotit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one perfect cleavage; strong natural colour masks polarisation colours making look greenish under XP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21300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rotated to show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8" descr="newest micros 0061"/>
          <p:cNvPicPr/>
          <p:nvPr/>
        </p:nvPicPr>
        <p:blipFill>
          <a:blip r:embed="rId1"/>
          <a:stretch/>
        </p:blipFill>
        <p:spPr>
          <a:xfrm>
            <a:off x="0" y="3611520"/>
            <a:ext cx="3564000" cy="3246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newest micros 0071"/>
          <p:cNvPicPr/>
          <p:nvPr/>
        </p:nvPicPr>
        <p:blipFill>
          <a:blip r:embed="rId2"/>
          <a:stretch/>
        </p:blipFill>
        <p:spPr>
          <a:xfrm>
            <a:off x="0" y="0"/>
            <a:ext cx="3564000" cy="3249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newest micros 0091"/>
          <p:cNvPicPr/>
          <p:nvPr/>
        </p:nvPicPr>
        <p:blipFill>
          <a:blip r:embed="rId3"/>
          <a:stretch/>
        </p:blipFill>
        <p:spPr>
          <a:xfrm>
            <a:off x="4284720" y="0"/>
            <a:ext cx="4859280" cy="4567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5940360" y="213372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1187280" y="12682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1187280" y="49417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iot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1763640" y="33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164360" y="62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19640" y="4941720"/>
            <a:ext cx="547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ffff00"/>
                </a:solidFill>
                <a:latin typeface="Arial"/>
              </a:rPr>
              <a:t>Amphibole</a:t>
            </a:r>
            <a:br>
              <a:rPr sz="4000"/>
            </a:b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pleochroic with 2 cleavages at 6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or 120</a:t>
            </a:r>
            <a:r>
              <a:rPr b="0" i="1" lang="en-GB" sz="20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 distinguishing it from biotite or pyroxen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70400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0" y="33577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 :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lower view showing pleochrois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0" descr="newest micros 0101"/>
          <p:cNvPicPr/>
          <p:nvPr/>
        </p:nvPicPr>
        <p:blipFill>
          <a:blip r:embed="rId1"/>
          <a:stretch/>
        </p:blipFill>
        <p:spPr>
          <a:xfrm>
            <a:off x="0" y="0"/>
            <a:ext cx="3492360" cy="338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newest micros 0111"/>
          <p:cNvPicPr/>
          <p:nvPr/>
        </p:nvPicPr>
        <p:blipFill>
          <a:blip r:embed="rId2"/>
          <a:stretch/>
        </p:blipFill>
        <p:spPr>
          <a:xfrm>
            <a:off x="4162320" y="0"/>
            <a:ext cx="4981680" cy="5013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newest micros 0121"/>
          <p:cNvPicPr/>
          <p:nvPr/>
        </p:nvPicPr>
        <p:blipFill>
          <a:blip r:embed="rId3"/>
          <a:stretch/>
        </p:blipFill>
        <p:spPr>
          <a:xfrm>
            <a:off x="0" y="3765600"/>
            <a:ext cx="3492360" cy="3092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1619280" y="134136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588000" y="2060640"/>
            <a:ext cx="10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yroxene</a:t>
            </a:r>
            <a:br>
              <a:rPr sz="4000"/>
            </a:b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formed crystal seen here with 2 cleavages at 90</a:t>
            </a:r>
            <a:r>
              <a:rPr b="0" lang="en-GB" sz="23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: brightly coloured under XPL</a:t>
            </a:r>
            <a:endParaRPr b="0" lang="en-US" sz="2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752472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X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79280" y="465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6" descr="new micros3(a) 02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slids 045"/>
          <p:cNvPicPr/>
          <p:nvPr/>
        </p:nvPicPr>
        <p:blipFill>
          <a:blip r:embed="rId2"/>
          <a:stretch/>
        </p:blipFill>
        <p:spPr>
          <a:xfrm>
            <a:off x="0" y="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1619280" y="1341360"/>
            <a:ext cx="100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6588000" y="1557360"/>
            <a:ext cx="107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yroxene enlar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0:22:50Z</dcterms:created>
  <dc:creator>Learning and Teaching Scotland</dc:creator>
  <dc:description/>
  <dc:language>en-US</dc:language>
  <cp:lastModifiedBy>ksu</cp:lastModifiedBy>
  <dcterms:modified xsi:type="dcterms:W3CDTF">2011-10-27T12:52:52Z</dcterms:modified>
  <cp:revision>187</cp:revision>
  <dc:subject/>
  <dc:title>Geology: Minerals Under Microscope for Higher</dc:title>
</cp:coreProperties>
</file>