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70D-8B41-4143-BE5F-C49208B4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0D0F-036C-4B2D-AD9C-697A14584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FA7-629D-40A8-9EB3-2C5EDBC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713-6D26-4015-A482-50D47EF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A95-A326-4B63-BD00-63B9B8C6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FB4-5CC0-4ECA-A48C-71645773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EED-BFB5-43DF-B353-6BB0083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74D-7917-4CB4-AF52-634E9B84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C5D-85DA-4468-AD98-6F9125A5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64A-3077-40CF-B9CE-054CBC1F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96D-5C52-4F10-BDA5-CB81255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95F-E0C3-4123-A614-223EF58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BA0-38E2-4A22-9C78-AE0BE10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63E-DD8A-41E2-A88E-123D23C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C8C-BD15-4FC5-BE2C-FD608C7FB2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9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3:41Z</dcterms:modified>
  <cp:revision>187</cp:revision>
  <dc:subject/>
  <dc:title>Geology: Minerals Under Microscope for Higher</dc:title>
</cp:coreProperties>
</file>