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F7A-E22B-4C56-BA91-26D08561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025-F6FA-40EC-86CB-2939812C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986-5EB6-4638-8BB6-7748A90F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39E-9969-43FF-BD8B-A7F510EB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91E-19DB-46B7-97F6-7BD5092D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9DC-13CB-4FD8-AA82-2A5B8D13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831-A4A3-4AEA-A4B5-CAD2A6F1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55F-6FA4-430C-B269-9C9BCEF4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384-CA34-476C-AD0E-C61F9F1C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DF4-6D7B-4E20-9FEF-74D4EC51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922-5C0C-40C5-AC5A-3E7F963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923-4E74-4AE6-B0D2-9785875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F79F-3D45-4274-8369-567AB33B5F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Minerals</a:t>
            </a:r>
            <a:br>
              <a:rPr sz="4800"/>
            </a:br>
            <a:br>
              <a:rPr sz="48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under the micro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653000"/>
            <a:ext cx="72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liv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looks like a stained-glass window; bright interference colours and thick black fractures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4" descr="newest micros 0131"/>
          <p:cNvPicPr/>
          <p:nvPr/>
        </p:nvPicPr>
        <p:blipFill>
          <a:blip r:embed="rId1"/>
          <a:stretch/>
        </p:blipFill>
        <p:spPr>
          <a:xfrm>
            <a:off x="0" y="0"/>
            <a:ext cx="4356000" cy="452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newest micros 014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530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2195640" y="1557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6948360" y="170028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843280" y="32130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7596360" y="328464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458100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ff00"/>
                </a:solidFill>
                <a:latin typeface="Arial"/>
              </a:rPr>
              <a:t>Garnet</a:t>
            </a:r>
            <a:br>
              <a:rPr sz="39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ounded crystal,</a:t>
            </a: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transparent under PPL but goes extinct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5" name="Picture 15" descr="newest micros 0171"/>
          <p:cNvPicPr/>
          <p:nvPr/>
        </p:nvPicPr>
        <p:blipFill>
          <a:blip r:embed="rId1"/>
          <a:stretch/>
        </p:blipFill>
        <p:spPr>
          <a:xfrm>
            <a:off x="0" y="0"/>
            <a:ext cx="4500720" cy="439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newest micros 018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65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6084720" y="2781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47640" y="263700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00"/>
                </a:solidFill>
                <a:latin typeface="Arial"/>
              </a:rPr>
              <a:t>Calcite</a:t>
            </a:r>
            <a:br>
              <a:rPr sz="43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y show both high and low relief, transparent under PPL with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perfect cleavages at 12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 Under XPL it shows pearly shad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2" name="Picture 9" descr="slids 043"/>
          <p:cNvPicPr/>
          <p:nvPr/>
        </p:nvPicPr>
        <p:blipFill>
          <a:blip r:embed="rId1"/>
          <a:stretch/>
        </p:blipFill>
        <p:spPr>
          <a:xfrm>
            <a:off x="0" y="0"/>
            <a:ext cx="4572000" cy="450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slids 04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00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1476360" y="2708280"/>
            <a:ext cx="8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227640" y="2637000"/>
            <a:ext cx="865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559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MINERALS you ne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icro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lagio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uscov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bio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amphib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yrox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oli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alc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4723920"/>
            <a:ext cx="561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artz</a:t>
            </a:r>
            <a:br>
              <a:rPr sz="4400"/>
            </a:br>
            <a:r>
              <a:rPr b="0" i="1" lang="en-GB" sz="3100" spc="-1" strike="noStrike">
                <a:solidFill>
                  <a:srgbClr val="ffff00"/>
                </a:solidFill>
                <a:latin typeface="Arial"/>
              </a:rPr>
              <a:t>grains in sandstone</a:t>
            </a:r>
            <a:endParaRPr b="0" lang="en-US" sz="3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Picture 6" descr="slids 08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37236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4500720" y="220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4" descr="slids 086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197964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0" y="23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280" y="4797000"/>
            <a:ext cx="5543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lagioclase</a:t>
            </a:r>
            <a:br>
              <a:rPr sz="4000"/>
            </a:br>
            <a:r>
              <a:rPr b="0" i="1" lang="en-GB" sz="2700" spc="-1" strike="noStrike">
                <a:solidFill>
                  <a:srgbClr val="ffff00"/>
                </a:solidFill>
                <a:latin typeface="Arial"/>
              </a:rPr>
              <a:t>with repeated twinning</a:t>
            </a:r>
            <a:endParaRPr b="0" lang="en-US" sz="2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9" descr="slids 07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667640" y="3429000"/>
            <a:ext cx="12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4" descr="slids 070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1835280" y="1052640"/>
            <a:ext cx="129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000" y="4868640"/>
            <a:ext cx="5832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icrocl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grain in centre showing its distinctive cross-hatched twinning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7" descr="new micros3 02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65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new micros3 028"/>
          <p:cNvPicPr/>
          <p:nvPr/>
        </p:nvPicPr>
        <p:blipFill>
          <a:blip r:embed="rId2"/>
          <a:stretch/>
        </p:blipFill>
        <p:spPr>
          <a:xfrm>
            <a:off x="0" y="0"/>
            <a:ext cx="4572000" cy="4653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9"/>
          <p:cNvSpPr/>
          <p:nvPr/>
        </p:nvSpPr>
        <p:spPr>
          <a:xfrm>
            <a:off x="104292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5435640" y="155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486900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uscovite </a:t>
            </a:r>
            <a:br>
              <a:rPr sz="4400"/>
            </a:b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lear under PPL but with perfect cleavage and bright interference colour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24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7928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6" descr="new micros2 051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new micros2 05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7524720" y="2852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2195640" y="3284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2556000" y="24919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 flipH="1" flipV="1">
            <a:off x="6948000" y="256536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35280" y="4508640"/>
            <a:ext cx="5508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iotit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one perfect cleavage; strong natural colour masks polarisation colours making look greenish under XP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0" y="3213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rotated to show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8" descr="newest micros 0061"/>
          <p:cNvPicPr/>
          <p:nvPr/>
        </p:nvPicPr>
        <p:blipFill>
          <a:blip r:embed="rId1"/>
          <a:stretch/>
        </p:blipFill>
        <p:spPr>
          <a:xfrm>
            <a:off x="0" y="3611520"/>
            <a:ext cx="3564000" cy="324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newest micros 0071"/>
          <p:cNvPicPr/>
          <p:nvPr/>
        </p:nvPicPr>
        <p:blipFill>
          <a:blip r:embed="rId2"/>
          <a:stretch/>
        </p:blipFill>
        <p:spPr>
          <a:xfrm>
            <a:off x="0" y="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newest micros 0091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4567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5940360" y="213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1187280" y="12682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118728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1763640" y="33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164360" y="62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19640" y="4941720"/>
            <a:ext cx="547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Amphibol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2 cleavages at 6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or 12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distinguishing it from biotite or pyroxe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70400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0" y="33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showing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0" descr="newest micros 0101"/>
          <p:cNvPicPr/>
          <p:nvPr/>
        </p:nvPicPr>
        <p:blipFill>
          <a:blip r:embed="rId1"/>
          <a:stretch/>
        </p:blipFill>
        <p:spPr>
          <a:xfrm>
            <a:off x="0" y="0"/>
            <a:ext cx="3492360" cy="338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newest micros 0111"/>
          <p:cNvPicPr/>
          <p:nvPr/>
        </p:nvPicPr>
        <p:blipFill>
          <a:blip r:embed="rId2"/>
          <a:stretch/>
        </p:blipFill>
        <p:spPr>
          <a:xfrm>
            <a:off x="4162320" y="0"/>
            <a:ext cx="4981680" cy="501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newest micros 0121"/>
          <p:cNvPicPr/>
          <p:nvPr/>
        </p:nvPicPr>
        <p:blipFill>
          <a:blip r:embed="rId3"/>
          <a:stretch/>
        </p:blipFill>
        <p:spPr>
          <a:xfrm>
            <a:off x="0" y="3765600"/>
            <a:ext cx="3492360" cy="30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1619280" y="134136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588000" y="206064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yroxene</a:t>
            </a:r>
            <a:br>
              <a:rPr sz="40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formed crystal seen here with 2 cleavages at 90</a:t>
            </a:r>
            <a:r>
              <a:rPr b="0" lang="en-GB" sz="23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: brightly coloured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6" descr="new micros3(a) 02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slids 045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>
            <a:off x="1619280" y="134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6588000" y="155736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 enlar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0:22:50Z</dcterms:created>
  <dc:creator>Learning and Teaching Scotland</dc:creator>
  <dc:description/>
  <dc:language>en-US</dc:language>
  <cp:lastModifiedBy>ksu</cp:lastModifiedBy>
  <dcterms:modified xsi:type="dcterms:W3CDTF">2011-10-27T12:52:52Z</dcterms:modified>
  <cp:revision>187</cp:revision>
  <dc:subject/>
  <dc:title>Geology: Minerals Under Microscope for Higher</dc:title>
</cp:coreProperties>
</file>