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1AF-DEC8-4458-959C-8831246F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AB-9C7C-4A9D-913E-113CFB9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E67-AB35-42AF-B73A-BA43780F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EF7-C089-4CA1-A071-BA4A1E0B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95B-5569-4179-A101-F9F9C1C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E63-8C10-4F1D-980B-E69C7E9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D2B-B965-4D43-B69E-FC8B2A4C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017-2137-4507-BB6F-17DBC4B9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727-7E1B-4BB7-A354-6F4E7BFC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EC2-C129-469B-9822-FBC27BF4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8B1-8324-4F6C-9EE8-0CE78BE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8D5-B4C3-4D3F-B208-7EDDDE40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A6A5-53A6-45EE-BF99-89FFC4363E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2:52Z</dcterms:modified>
  <cp:revision>187</cp:revision>
  <dc:subject/>
  <dc:title>Geology: Minerals Under Microscope for Higher</dc:title>
</cp:coreProperties>
</file>